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45F-9CCE-47B9-9583-F1E02D3B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6BF-6068-46A8-B594-256BED4C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DAB-16A1-45CD-9550-FB34D10D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E04-BE84-4136-848E-72468BCC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B535-560E-4C97-A587-2F40A7F6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D0B8-239B-4A4B-8472-7355F96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FA11-687A-4C28-B193-5C660603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F2E4-84CB-4D5C-B1A8-103018B4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F205-F3AC-4999-9B13-58835FC6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2A49-FB6E-46F2-9054-A5B49206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BF3B-C1A3-4FEE-91AB-E0C0FE67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CB5-590C-4D0A-B594-2564016C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4A1A-D01E-49F9-B5E9-98839844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A677-0340-4063-B094-7D360BBF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FCC8-369A-4665-88C1-035DFE2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8846-4151-46A8-ADAA-CCAD99AB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8CF6-EB2B-4FB6-8263-34C168F3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B17-531A-4438-8BB1-2917AA72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255-B7A3-4EDE-B46B-3DD1C23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0C8-7DFA-41E4-9B91-357160EA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E88-C624-4E75-8241-86700D58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A6E-CD10-4C5D-82F8-DB8EE636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393-F697-4894-B068-AE7E730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601-CAC7-47CE-9B3A-553285D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042C-0C33-4E96-A7D0-BE81D55308A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C9C4-3B46-408C-BD73-A212F7EDE20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396720"/>
            <a:ext cx="8516880" cy="3005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и :воспитатели средней «А» группы: Комиссарова Л.Ю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ёмина Т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пыты с молоком, вод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изготовление коров из картона для свободных игр де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изготовление из конструктора «Дом для коровы Бурен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изготовление и обыгрывание дидактических игр «Собери корову», «Сосчитай сколько», «Дорисуй картинку» и т. 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3. Как молоко приходит на стол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) Экскурсия в магазин на молочный отдел с родителя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4. Что ещё делают из молока? (беседа с детьми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5. Что в молоке полезного?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Беседа с медицинским работником детского сада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6. Для чего нужно молоко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) Задание детям: - поговорить с мамой и бабушкой для приготовления, каких блюд они используют молок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) Беседа с детьми на эту тему в групп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7. Оформление плаката «Пейте, дети, молоко будете здоровы! 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8. Рассказывание стихов о молоке, корове, загадок, потешек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ассматривание картины «Корова с телёнком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Цель: начать формировать у детей представление о долгом пути, который проходит молоко, прежде чем попадёт на сто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 Уточнять и расширять у детей знания о корове – домашнем животном, которое даёт молоко: характерные признаки её внешнего вида; чем питается; где живёт; как о ней заботится человек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. Продолжать учить понимать смысл понятия «домашнее животное»3. Вызвать интерес к затронутому вопросу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Пользователь\Рабочий стол\DSC_0340.JPG"/>
          <p:cNvPicPr/>
          <p:nvPr/>
        </p:nvPicPr>
        <p:blipFill>
          <a:blip r:embed="rId1"/>
          <a:stretch/>
        </p:blipFill>
        <p:spPr>
          <a:xfrm>
            <a:off x="1027080" y="1600200"/>
            <a:ext cx="70898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Пользователь\Рабочий стол\группа 021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«Молоко имеет вкус»(дети пробуют на вкус молоко, воду, ча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«Молоко белое, непрозрачное, а вода прозрачна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«В молоке растворяется сахар»(молоко сладко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«Что делают из молока?»(кефир, ряженка, йогурт, творог, масло, сметану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информации о молоке, как о необходимом и полезном продукте питания, анализ и обобщение полученных фак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ктуальность проект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Отказ некоторых детей пить молочные продукты во время полдника («Я его не люблю», «Молоко невкусное»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Недостаток знаний о молоке и молочных продуктах (получение и производство; необходимость и полезность молока, как ценного продукта питания челове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Работать над формированием у детей следующих знаний и понятий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корова – домашнее животное, которое даёт человеку молоко; человек же в свою очередь ухаживает за коровой, заботится о ней, кормит её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прежде чем попасть на стол, молоко проделывает долгий путь, и к этому причастны многие люди (те, кто ухаживают за коровами, доят их; кто отвозит молоко на молочные заводы; те, кто работают на молочных заводах; продавцы магазинов, которые продают молочные продукты и др.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молоко необходимо человеку для здоровья и роста, т. к. в нём содержатся полезные веществ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без молока трудно приготовить многие блюда (каши, молочный суп, блины, пироги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Развивать  любознательность, бережное уважительное отношение к продуктам труда многих люд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Развивать логическое мышление, связную речь и познавательно-поисковую деяте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бор те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Пейте, дети, молоко будете здоровы! 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полдника некоторые дети отказывались пить молоко и молочные продукты. На вопрос «Почему они не пьют молоко» - отвечали, что «оно не вкусное», «я его не люблю», «в нём всегда пенк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л задан  вопрос: - А сможем ли мы обойтись без моло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 ответили, что смогут. Воспитатель предложила обсудить это вместе всей группой. Во время обсуждения детям было задано 3 вопрос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Что мы знаем о молок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Что бы мы хотели узн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мы это сможем узн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рова дает молок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локо у коровы в живот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рова любит трав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 коровы рога е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локо белое, в холодильнике стоит в пакет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ама молоко в магазине покупает и домой приноси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абушка из молока кашу вари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локо можно в кофе наливать, так вкуснее, какао, ча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де живут коровы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то за ними ухаживает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ем кормят коров зимой, когда везде снег и нет трав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доят коров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уда отвозят молоко, надоенное у коров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делают с молоком на молокозаводе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ие еще молочные продукты продают в магазинах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в молоке полезного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ля приготовления каких блюд нужно молоко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Как мы это узна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итать в книгах о коров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мотреть картины и иллюстрации о коров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ходить на экскурсию в магазин с родителя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беседовать с медицинским работником о том, чем же молоко полез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ть дома, расспросить бабушку и маму для приготовления каких блюд им необходимо моло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Предварительная беседа с детьми о моло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Что ты знаешь о молок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Что мы хотим узнать о молок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) Как мы будем это 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Откуда берётся молок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Сбор сведений о коров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подбор иллюстраций о корове с привлечением к этой работе родителей; чтение художественной литературы о корове и молоке; заучивание стихов и потешек, разучивание песен о корове и молоке; рассматривание картины «Корова с телёнком» их серии «Домашние животные»; реалистические рассказы из опыта воспитателя на тему «Как у нас была корова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7:25:08Z</dcterms:created>
  <dc:creator>User</dc:creator>
  <dc:description/>
  <dc:language>en-US</dc:language>
  <cp:lastModifiedBy>User</cp:lastModifiedBy>
  <dcterms:modified xsi:type="dcterms:W3CDTF">2016-12-06T17:38:54Z</dcterms:modified>
  <cp:revision>14</cp:revision>
  <dc:subject/>
  <dc:title>Проект для детей средней группы «Пейте дети молоко, будете здоровы»</dc:title>
</cp:coreProperties>
</file>