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47A-6BDA-43D2-826F-9DB14804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87F-B533-4127-B0DD-49895E1A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955-0535-46A3-95B7-D1413F9C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0B2-FC6D-4C4E-8B16-4809C06C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E648-E70F-4ADD-B88A-81B5AB3F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ACC1-9320-4DEB-AEBE-82B2F105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3542-8046-4A42-88D9-5B3ABFD2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6729-7F1A-4720-B5AB-0F8D290E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5C56-53ED-4E68-AF62-FA2AD23F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5D45-3188-4E51-953A-D89F4918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D215-C9C8-45AF-BC58-016F4951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851-40F2-4239-B26C-4816094C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C25D-0C99-4CD3-8BFA-38496C45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F437-41ED-45A4-BA3C-DC322433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0BCA-E8BC-4242-8030-EDC5AF31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BDD0-A121-4753-A345-5DBFE5C1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1C23-01EA-496C-8CFB-C1D4F685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3A3-9723-403F-8276-83EACBC5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365-4E96-4167-861C-9CD42A3F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EB8-A0DD-4C3B-805C-F1F136A8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81F-2523-4520-A376-A15F8032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11D-1E7D-40C9-BC73-2D016D52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F38-F9AB-4FC5-B096-451E0C1F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7E6-28A0-4BBA-BA96-578CF8CC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8B45-FA06-42CA-B8DC-6FF94D78183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800D-C315-4962-8101-4FFDEE27BE7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396720"/>
            <a:ext cx="8516880" cy="3005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ли :воспитатели средней «А» группы: Комиссарова Л.Ю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ёмина Т.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опыты с молоком, вод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изготовление коров из картона для свободных игр дет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изготовление из конструктора «Дом для коровы Буренк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изготовление и обыгрывание дидактических игр «Собери корову», «Сосчитай сколько», «Дорисуй картинку» и т. 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3. Как молоко приходит на стол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) Экскурсия в магазин на молочный отдел с родителя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4. Что ещё делают из молока? (беседа с детьми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5. Что в молоке полезного?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Беседа с медицинским работником детского сада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6. Для чего нужно молоко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) Задание детям: - поговорить с мамой и бабушкой для приготовления, каких блюд они используют молоко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) Беседа с детьми на эту тему в групп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7. Оформление плаката «Пейте, дети, молоко будете здоровы! »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8. Рассказывание стихов о молоке, корове, загадок, потешек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Рассматривание картины «Корова с телёнком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Цель: начать формировать у детей представление о долгом пути, который проходит молоко, прежде чем попадёт на стол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 Уточнять и расширять у детей знания о корове – домашнем животном, которое даёт молоко: характерные признаки её внешнего вида; чем питается; где живёт; как о ней заботится человек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2. Продолжать учить понимать смысл понятия «домашнее животное»3. Вызвать интерес к затронутому вопросу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Пользователь\Рабочий стол\DSC_0340.JPG"/>
          <p:cNvPicPr/>
          <p:nvPr/>
        </p:nvPicPr>
        <p:blipFill>
          <a:blip r:embed="rId1"/>
          <a:stretch/>
        </p:blipFill>
        <p:spPr>
          <a:xfrm>
            <a:off x="1027080" y="1600200"/>
            <a:ext cx="70898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Пользователь\Рабочий стол\группа 021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«Молоко имеет вкус»(дети пробуют на вкус молоко, воду, ча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«Молоко белое, непрозрачное, а вода прозрачна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«В молоке растворяется сахар»(молоко сладко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«Что делают из молока?»(кефир, ряженка, йогурт, творог, масло, сметану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 информации о молоке, как о необходимом и полезном продукте питания, анализ и обобщение полученных фак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ктуальность проект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Отказ некоторых детей пить молочные продукты во время полдника («Я его не люблю», «Молоко невкусное» и т. д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Недостаток знаний о молоке и молочных продуктах (получение и производство; необходимость и полезность молока, как ценного продукта питания человек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. Работать над формированием у детей следующих знаний и понятий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корова – домашнее животное, которое даёт человеку молоко; человек же в свою очередь ухаживает за коровой, заботится о ней, кормит её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прежде чем попасть на стол, молоко проделывает долгий путь, и к этому причастны многие люди (те, кто ухаживают за коровами, доят их; кто отвозит молоко на молочные заводы; те, кто работают на молочных заводах; продавцы магазинов, которые продают молочные продукты и др.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молоко необходимо человеку для здоровья и роста, т. к. в нём содержатся полезные веществ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без молока трудно приготовить многие блюда (каши, молочный суп, блины, пироги и т. д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Развивать  любознательность, бережное уважительное отношение к продуктам труда многих люд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Развивать логическое мышление, связную речь и познавательно-поисковую деятель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бор тем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Пейте, дети, молоко будете здоровы! 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полдника некоторые дети отказывались пить молоко и молочные продукты. На вопрос «Почему они не пьют молоко» - отвечали, что «оно не вкусное», «я его не люблю», «в нём всегда пенк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л задан  вопрос: - А сможем ли мы обойтись без молок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и ответили, что смогут. Воспитатель предложила обсудить это вместе всей группой. Во время обсуждения детям было задано 3 вопрос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Что мы знаем о молок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Что бы мы хотели узна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ак мы это сможем узна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рова дает молок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олоко у коровы в живот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рова любит трав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 коровы рога есть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олоко белое, в холодильнике стоит в пакет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ама молоко в магазине покупает и домой приноси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абушка из молока кашу варит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олоко можно в кофе наливать, так вкуснее, какао, ча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де живут коровы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то за ними ухаживает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ем кормят коров зимой, когда везде снег и нет трав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 доят коров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уда отвозят молоко, надоенное у коров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 делают с молоком на молокозаводе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ие еще молочные продукты продают в магазинах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 в молоке полезного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ля приготовления каких блюд нужно молоко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Как мы это узна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читать в книгах о коров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смотреть картины и иллюстрации о коров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ходить на экскурсию в магазин с родителям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беседовать с медицинским работником о том, чем же молоко полез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аблюдать дома, расспросить бабушку и маму для приготовления каких блюд им необходимо молок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Предварительная беседа с детьми о молок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) Что ты знаешь о молок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) Что мы хотим узнать о молок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) Как мы будем это дела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Откуда берётся молоко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) Сбор сведений о коров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подбор иллюстраций о корове с привлечением к этой работе родителей; чтение художественной литературы о корове и молоке; заучивание стихов и потешек, разучивание песен о корове и молоке; рассматривание картины «Корова с телёнком» их серии «Домашние животные»; реалистические рассказы из опыта воспитателя на тему «Как у нас была корова»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6T07:25:08Z</dcterms:created>
  <dc:creator>User</dc:creator>
  <dc:description/>
  <dc:language>en-US</dc:language>
  <cp:lastModifiedBy>User</cp:lastModifiedBy>
  <dcterms:modified xsi:type="dcterms:W3CDTF">2016-12-06T17:38:54Z</dcterms:modified>
  <cp:revision>14</cp:revision>
  <dc:subject/>
  <dc:title>Проект для детей средней группы «Пейте дети молоко, будете здоровы»</dc:title>
</cp:coreProperties>
</file>