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C5C4-66BB-403A-BD5F-E0040D6C51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FE97-C5E6-4E75-BE8A-16B8720450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3267-49EA-436B-BEF4-93F9D39D1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0D31-6153-4885-884C-BACFCE5B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EFB4-C6B4-4AA1-8BCD-6628A530E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6962-3DE5-4D75-9D5E-E558A0CE6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ED5C-505B-44D2-B212-1BCA44AF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1304-FB70-4632-BBA2-FD98576A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037D-B550-4030-B29F-5E615A7A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FFE6-CFFE-44A4-ADD8-53740028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796D-7758-410A-A854-0A6DBE2E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2F5C-1C1F-4B9A-9D2C-14930E01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194D-F17C-4B5F-88CF-AED00322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D692-6D80-473A-BDE3-A837BFA9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7" descr="Рисунок5.png"/>
          <p:cNvPicPr/>
          <p:nvPr/>
        </p:nvPicPr>
        <p:blipFill>
          <a:blip r:embed="rId3"/>
          <a:stretch/>
        </p:blipFill>
        <p:spPr>
          <a:xfrm>
            <a:off x="6929280" y="3851280"/>
            <a:ext cx="2019600" cy="3006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4211-59E8-42F7-BD7C-B078D6A403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17236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00000"/>
                </a:solidFill>
                <a:latin typeface="Arial Black"/>
                <a:ea typeface="Arial Unicode MS"/>
              </a:rPr>
              <a:t>Развитие </a:t>
            </a:r>
            <a:br>
              <a:rPr sz="4000"/>
            </a:br>
            <a:r>
              <a:rPr b="0" i="1" lang="ru-RU" sz="4000" spc="-1" strike="noStrike">
                <a:solidFill>
                  <a:srgbClr val="c00000"/>
                </a:solidFill>
                <a:latin typeface="Arial Black"/>
                <a:ea typeface="Arial Unicode MS"/>
              </a:rPr>
              <a:t>воспитательной системы  через </a:t>
            </a:r>
            <a:br>
              <a:rPr sz="4000"/>
            </a:br>
            <a:r>
              <a:rPr b="0" i="1" lang="ru-RU" sz="4000" spc="-1" strike="noStrike">
                <a:solidFill>
                  <a:srgbClr val="c00000"/>
                </a:solidFill>
                <a:latin typeface="Arial Black"/>
                <a:ea typeface="Arial Unicode MS"/>
              </a:rPr>
              <a:t>внеурочную деятель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5840" y="4642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ГБОУ лицей г. Сызра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Белова Е.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ноябрь 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екультурное направл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34880" y="1081080"/>
            <a:ext cx="7786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олшебный мир театр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1"/>
          <p:cNvSpPr/>
          <p:nvPr/>
        </p:nvSpPr>
        <p:spPr>
          <a:xfrm>
            <a:off x="487440" y="1773360"/>
            <a:ext cx="8332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ПРОГРАМ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Symbol" charset="2"/>
              <a:buChar char=""/>
              <a:tabLst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ребёнка через приобщение к театральному искусств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Symbol" charset="2"/>
              <a:buChar char=""/>
              <a:tabLst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творческого пространства, в котором  органично могли бы сосуществовать дети разных возрас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творческого начала детей  младшего школьного  возраста средствами театрализованных игр и игр – представл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http://nachschool1.ucoz.ru/april0816/den_poz_chel-2-.jpg"/>
          <p:cNvPicPr/>
          <p:nvPr/>
        </p:nvPicPr>
        <p:blipFill>
          <a:blip r:embed="rId1"/>
          <a:stretch/>
        </p:blipFill>
        <p:spPr>
          <a:xfrm>
            <a:off x="250920" y="4064040"/>
            <a:ext cx="3809880" cy="2743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http://nachschool1.ucoz.ru/april0816/den_poz_chel-3-.jpg"/>
          <p:cNvPicPr/>
          <p:nvPr/>
        </p:nvPicPr>
        <p:blipFill>
          <a:blip r:embed="rId2"/>
          <a:stretch/>
        </p:blipFill>
        <p:spPr>
          <a:xfrm>
            <a:off x="5219640" y="4064040"/>
            <a:ext cx="3810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ключ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24000" y="143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урочная деятельность в начальной школе позволяет решить еще целый ряд очень важных задач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благоприятную адаптацию ребенка в школ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изировать учебную нагрузку обучающихс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ить условия для развития ребен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сть возрастные и индивидуальные особенности обучающих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50920" y="404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я работа во внеурочной деятельности должна быть построена на следующих принципах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систем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задач через связь внеурочной деятельности с учебным процесс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гуманиза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ение к личности ребёнка. Создание благоприятных условий для развития способностей де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успеш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зрослому, и ребенку необходимо быть значимым и успешным. Степень успешности определяет самочувствие человека, его отношение к окружающим его людям, окружающему миру. Очень важно, чтобы оценка успешности ученика была искренней и неформальной, она должна отмечать реальный успех и реальное достиже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обратной связ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е занятие должно заканчиваться рефлексией. Совмест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чащимися необходимо обсудить, что получилось и чт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лучилось, изучить их мнение, определить их настрое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ерспективу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5092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 внимание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еурочная деяте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6208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ия развития личности ребён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2060640"/>
          <a:ext cx="6638760" cy="3525840"/>
        </p:xfrm>
        <a:graphic>
          <a:graphicData uri="http://schemas.openxmlformats.org/drawingml/2006/table">
            <a:tbl>
              <a:tblPr/>
              <a:tblGrid>
                <a:gridCol w="2408040"/>
                <a:gridCol w="4230720"/>
              </a:tblGrid>
              <a:tr h="431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пр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я  зан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714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портивно-оздоровитель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намическая пауза, «Подвижные игры», «Шахматы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77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еинтеллектуаль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Занимательная грамматика», «Занимательная математика», «Умники и умницы», «Информатика», «Английский язык - окно в мир», «В мире книг», «Наглядная геометр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3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циаль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f6228"/>
                          </a:solidFill>
                          <a:latin typeface="Times New Roman"/>
                          <a:ea typeface="Times New Roman"/>
                        </a:rPr>
                        <a:t>«Арт-студ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2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екультур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«Волшебный мир театр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5640" y="2746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ортивно-оздоровительное направл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95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ческая пауз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движные игры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ахмат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8" descr="C:\Users\учитель\Desktop\ФОТО\1 класс 2011-2012\День здоровья 17.09.11\SL387042.JPG"/>
          <p:cNvPicPr/>
          <p:nvPr/>
        </p:nvPicPr>
        <p:blipFill>
          <a:blip r:embed="rId1"/>
          <a:stretch/>
        </p:blipFill>
        <p:spPr>
          <a:xfrm>
            <a:off x="2195640" y="4083120"/>
            <a:ext cx="3541680" cy="2655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C:\Users\учитель\Desktop\ФОТО\1 класс 2011-2012\День здоровья 17.09.11\SL387027.JPG"/>
          <p:cNvPicPr/>
          <p:nvPr/>
        </p:nvPicPr>
        <p:blipFill>
          <a:blip r:embed="rId2"/>
          <a:stretch/>
        </p:blipFill>
        <p:spPr>
          <a:xfrm rot="21112800">
            <a:off x="453960" y="3205080"/>
            <a:ext cx="2341800" cy="1757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http://iz-um-rud.ru/images/shahmamty.jpg"/>
          <p:cNvPicPr/>
          <p:nvPr/>
        </p:nvPicPr>
        <p:blipFill>
          <a:blip r:embed="rId3"/>
          <a:stretch/>
        </p:blipFill>
        <p:spPr>
          <a:xfrm rot="20790000">
            <a:off x="4932360" y="1781280"/>
            <a:ext cx="346536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еинтеллектуальное направл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нимательная грамматик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нимательная математик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нформатик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мники и умниц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нглийский язык – окно в ми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глядная геометр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Занимательная грамматик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грам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пособствовать более прочному и сознательному усвоению изученного на уроке, содействовать развитию речи детей, совершенствовать у них навыки лингвистического анализа, повышать уровень языкового развития школьников, воспитывать познавательный интерес к родному языку, решать проблемы интеллектуального развития младших школьни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Занимательная математи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nachschool1.ucoz.ru/001/dec/nov/nedmatem6.jpg"/>
          <p:cNvPicPr/>
          <p:nvPr/>
        </p:nvPicPr>
        <p:blipFill>
          <a:blip r:embed="rId1"/>
          <a:stretch/>
        </p:blipFill>
        <p:spPr>
          <a:xfrm>
            <a:off x="6372360" y="4653000"/>
            <a:ext cx="2652480" cy="198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nachschool1.ucoz.ru/001/dec/nov/nedmatemat.jpg"/>
          <p:cNvPicPr/>
          <p:nvPr/>
        </p:nvPicPr>
        <p:blipFill>
          <a:blip r:embed="rId2"/>
          <a:stretch/>
        </p:blipFill>
        <p:spPr>
          <a:xfrm>
            <a:off x="7380360" y="1913040"/>
            <a:ext cx="1512720" cy="26874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3"/>
          <p:cNvSpPr/>
          <p:nvPr/>
        </p:nvSpPr>
        <p:spPr>
          <a:xfrm>
            <a:off x="192240" y="1417680"/>
            <a:ext cx="6202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ль: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репление  знаний, полученных во время организован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логического мышления и творческих спосо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математических способностей и склон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личностных качеств и навыков самоконтроля и самооцен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учение самостоятельному решению поставленных задач, выбору  приемов и средств, проверке правильности ре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владение мыслительными операциями (анализ и синтез, сравнение, обобщение, классификац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ужок «Умники и умницы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данного курса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ознавательных способностей учащихся на основе системы развивающих занят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ются зада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звитие вним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звитие памя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вершенствование воображ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звитие логического мыш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нглийский язык –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окно в мир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для интеллектуального развития ребенка и формирования его коммуникативных и социальных навыков через игровую и проектную деятельность посредством английского язык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витие эмоциональной сферы, воспитание нравственных качеств, развитие артистических способностей, творческого воображения и фантаз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знакомство с элементами традиционной детской англоязычной культур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циальное направл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1600200"/>
            <a:ext cx="7427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рт-студ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http://natalytkachenko.ru/wp-content/uploads/2011/02/sp_2-300x216.jpg"/>
          <p:cNvPicPr/>
          <p:nvPr/>
        </p:nvPicPr>
        <p:blipFill>
          <a:blip r:embed="rId1"/>
          <a:stretch/>
        </p:blipFill>
        <p:spPr>
          <a:xfrm rot="19761000">
            <a:off x="4702320" y="2717280"/>
            <a:ext cx="2857320" cy="2057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http://magic-video-studio.ru/images1/576435008387e.png"/>
          <p:cNvPicPr/>
          <p:nvPr/>
        </p:nvPicPr>
        <p:blipFill>
          <a:blip r:embed="rId2"/>
          <a:stretch/>
        </p:blipFill>
        <p:spPr>
          <a:xfrm>
            <a:off x="457200" y="2844720"/>
            <a:ext cx="317988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2:38:19Z</dcterms:created>
  <dc:creator>ммм</dc:creator>
  <dc:description/>
  <dc:language>en-US</dc:language>
  <cp:lastModifiedBy>Елена</cp:lastModifiedBy>
  <dcterms:modified xsi:type="dcterms:W3CDTF">2016-12-04T17:44:58Z</dcterms:modified>
  <cp:revision>64</cp:revision>
  <dc:subject/>
  <dc:title>Духовно-нравственное развитие младших школьников</dc:title>
</cp:coreProperties>
</file>