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9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29.jpeg" ContentType="image/jpeg"/>
  <Override PartName="/ppt/media/image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289-2728-4020-97A5-66319EAF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A27-55F9-4C0F-B040-A79281CC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EEA-F281-4217-8A2C-E2B4B320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8BD-AB8D-4E7C-BED7-336AF706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8DC-26B0-4E15-A91E-61F8B680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D20-E7B9-4AAD-B228-54F3AF26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F16-FCF4-4490-9383-B469831F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645-F74A-45DA-890C-0D329D67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E83-D4F3-48F2-89A0-DAB217C5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2C1-566B-4023-8FDD-A5879DF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835-FACC-4950-9969-235E5FB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B3A-36C8-48B1-A2A5-123B6CCB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AB59-AB16-4BBD-9F72-DF713CD27A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18&amp;lr=74&amp;rpt=simage&amp;uinfo=ww-1349-wh-674-fw-1124-fh-468-pd-1&amp;img_url=http%3A%2F%2Fnvt-web.ru%2Fattachments%2FImage%2FDen-Yakutii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22&amp;lr=74&amp;rpt=simage&amp;uinfo=ww-1349-wh-674-fw-1124-fh-468-pd-1&amp;img_url=http%3A%2F%2Fsakhalife.ru%2Fsites%2Fdefault%2Ffiles%2Fstory%2F2013%2F09%2F8757_big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3&amp;uinfo=ww-1349-wh-674-fw-1124-fh-468-pd-1&amp;p=3&amp;text=&#1076;&#1077;&#1085;&#1100;%20&#1088;&#1077;&#1089;&#1087;&#1091;&#1073;&#1083;&#1080;&#1082;&#1080;%20&#1089;&#1072;&#1093;&#1072;%20&#1103;&#1082;&#1091;&#1090;&#1080;&#1103;&amp;noreask=1&amp;pos=90&amp;rpt=simage&amp;lr=74&amp;img_url=http%3A%2F%2Fnews.ya1.ru%2Fpictures%2F887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1349-wh-674-fw-1124-fh-468-pd-1&amp;p=2&amp;text=&#1076;&#1077;&#1085;&#1100;%20&#1088;&#1077;&#1089;&#1087;&#1091;&#1073;&#1083;&#1080;&#1082;&#1080;%20&#1089;&#1072;&#1093;&#1072;%20&#1103;&#1082;&#1091;&#1090;&#1080;&#1103;&amp;noreask=1&amp;pos=73&amp;rpt=simage&amp;lr=74&amp;img_url=http%3A%2F%2Fi.voffka.com%2Fpic%2F04img_set%2Fasqaqf_0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91;&#1083;&#1072;&#1082;&#1086;&#1074;&#1089;&#1082;&#1080;&#1081;&amp;fp=0&amp;img_url=http%3A%2F%2Fcs5383.userapi.com%2Fu28260515%2F-14%2Fm_ec916e29.jpg&amp;pos=13&amp;uinfo=ww-1349-wh-644-fw-1124-fh-448-pd-1&amp;rpt=sima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2;&#1083;&#1072;&#1084;&#1087;&#1072;&amp;fp=0&amp;img_url=http%3A%2F%2Ffotki.ykt.ru%2Falbums%2Fuserpics%2F43659%2F42_alampa.jpg&amp;pos=13&amp;uinfo=ww-1349-wh-644-fw-1124-fh-448-pd-1&amp;rpt=s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text=&#1089;&#1091;&#1086;&#1088;&#1091;&#1085;%20&#1086;&#1084;&#1086;&#1083;&#1083;&#1086;&#1086;&#1085;&amp;fp=0&amp;img_url=http%3A%2F%2Fwww.nlib.sakha.ru%2FResoures%2FData%2FBibl_Assist%2FCalendar%2F2006%2Fimg%2F9_14.gif&amp;pos=7&amp;uinfo=ww-1349-wh-644-fw-1124-fh-448-pd-1&amp;rpt=simage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yandex.ru/yandsearch?source=psearch&amp;fp=3&amp;uinfo=ww-1349-wh-674-fw-1124-fh-468-pd-1&amp;p=3&amp;text=&#1087;&#1077;&#1088;&#1074;&#1099;&#1081;%20&#1087;&#1088;&#1077;&#1079;&#1080;&#1076;&#1077;&#1085;&#1090;%20&#1088;&#1077;&#1089;&#1087;&#1091;&#1073;&#1083;&#1080;&#1082;&#1080;%20&#1089;&#1072;&#1093;&#1072;%20&#1103;&#1082;&#1091;&#1090;&#1080;&#1103;&amp;pos=119&amp;lr=74&amp;rpt=simage&amp;img_url=http%3A%2F%2Fsakha.gov.ru%2Fsites%2Fdefault%2Ffiles%2Fstory%2Fimg%2F2011_10%2F12%2FSedanilov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yandex.ru/yandsearch?text=&#1089;&#1086;&#1092;&#1088;&#1086;&#1085;%20&#1076;&#1072;&#1085;&#1080;&#1083;&#1086;&#1074;&amp;fp=0&amp;img_url=http%3A%2F%2Fwww.hrono.ru%2Fbiograf%2Fbio_d%2Fdanilov_sofron.jpg&amp;pos=0&amp;uinfo=ww-1349-wh-644-fw-1124-fh-448-pd-1&amp;rpt=simage" TargetMode="External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40;&#1084;&#1084;&#1072;-&#1040;&#1095;&#1095;&#1099;&#1075;&#1099;&#1081;&#1072;&amp;fp=0&amp;img_url=http%3A%2F%2Fcs5383.userapi.com%2Fu28260515%2F-14%2Fm_fe2c679c.jpg&amp;pos=0&amp;uinfo=ww-1349-wh-644-fw-1124-fh-448-pd-1&amp;rpt=simage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11&amp;lr=74&amp;rpt=simage&amp;uinfo=ww-1349-wh-674-fw-1124-fh-468-pd-1&amp;img_url=http%3A%2F%2Fnews.ykt.ru%2Fthumb.php%3Fsrc%3Dhttp%3A%2F%2Fnews.ykt.ru%2Fupload%2Fimage%2F2013%2F01%2F8161%2Fmain_thumb.jpg%26w%3D170%26h%3D97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lend.ru/day/4-27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1349-wh-674-fw-1124-fh-468-pd-1&amp;p=2&amp;text=&#1076;&#1077;&#1085;&#1100;%20&#1088;&#1077;&#1089;&#1087;&#1091;&#1073;&#1083;&#1080;&#1082;&#1080;%20&#1089;&#1072;&#1093;&#1072;%20&#1103;&#1082;&#1091;&#1090;&#1080;&#1103;&amp;noreask=1&amp;pos=80&amp;rpt=simage&amp;lr=74&amp;img_url=http%3A%2F%2Fwww.meteovesti.ru%2Fpictures%2F63470527197.jpe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1349-wh-674-fw-1124-fh-468-pd-1&amp;p=2&amp;text=&#1076;&#1077;&#1085;&#1100;%20&#1088;&#1077;&#1089;&#1087;&#1091;&#1073;&#1083;&#1080;&#1082;&#1080;%20&#1089;&#1072;&#1093;&#1072;%20&#1103;&#1082;&#1091;&#1090;&#1080;&#1103;&amp;noreask=1&amp;pos=79&amp;rpt=simage&amp;lr=74&amp;img_url=http%3A%2F%2Fwww.fakttv.ru%2Fimages%2Fnews%2Fall%2F7257add01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9&amp;lr=74&amp;rpt=simage&amp;uinfo=ww-1349-wh-674-fw-1124-fh-468-pd-1&amp;img_url=http%3A%2F%2F14.rkn.gov.ru%2Fdocs%2F14%2FRegi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3&amp;uinfo=ww-1349-wh-674-fw-1124-fh-468-pd-1&amp;p=3&amp;text=&#1076;&#1077;&#1085;&#1100;%20&#1088;&#1077;&#1089;&#1087;&#1091;&#1073;&#1083;&#1080;&#1082;&#1080;%20&#1089;&#1072;&#1093;&#1072;%20&#1103;&#1082;&#1091;&#1090;&#1080;&#1103;&amp;noreask=1&amp;pos=108&amp;rpt=simage&amp;lr=74&amp;img_url=http%3A%2F%2Fimg.beta.rian.ru%2Fimages%2F19076%2F97%2F19076970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1&amp;lr=74&amp;rpt=simage&amp;uinfo=ww-1349-wh-674-fw-1124-fh-468-pd-1&amp;img_url=http%3A%2F%2Fnews.ykt.ru%2Fupload%2Fimage%2F2013%2F05%2F11185%2Fmain_thum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76;&#1077;&#1085;&#1100;%20&#1088;&#1077;&#1089;&#1087;&#1091;&#1073;&#1083;&#1080;&#1082;&#1080;%20&#1089;&#1072;&#1093;&#1072;%20&#1103;&#1082;&#1091;&#1090;&#1080;&#1103;&amp;noreask=1&amp;pos=2&amp;lr=74&amp;rpt=simage&amp;uinfo=ww-1349-wh-674-fw-1124-fh-468-pd-1&amp;img_url=http%3A%2F%2Fcreative.allmedia.ru%2Farc%2Fbig%2Fphoto_842_%7B713A0A76-7926-416B-92C0-5CADB78FBE9D%7D.gif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77;&#1088;&#1074;&#1099;&#1081;%20&#1087;&#1088;&#1077;&#1079;&#1080;&#1076;&#1077;&#1085;&#1090;%20&#1088;&#1077;&#1089;&#1087;&#1091;&#1073;&#1083;&#1080;&#1082;&#1080;%20&#1089;&#1072;&#1093;&#1072;%20&#1103;&#1082;&#1091;&#1090;&#1080;&#1103;&amp;fp=0&amp;pos=9&amp;rpt=simage&amp;lr=74&amp;uinfo=ww-1349-wh-674-fw-1124-fh-468-pd-1&amp;img_url=http%3A%2F%2Ffotki.ykt.ru%2Falbums%2Fuserpics%2F40796%2Fnormal_42_1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4&amp;uinfo=ww-1349-wh-674-fw-1124-fh-468-pd-1&amp;p=4&amp;text=&#1087;&#1088;&#1077;&#1079;&#1080;&#1076;&#1077;&#1085;&#1090;&#1099;%20&#1088;&#1077;&#1089;&#1087;&#1091;&#1073;&#1083;&#1080;&#1082;&#1080;%20&#1089;&#1072;&#1093;&#1072;%20&#1103;&#1082;&#1091;&#1090;&#1080;&#1103;&amp;noreask=1&amp;pos=125&amp;rpt=simage&amp;lr=74&amp;img_url=http%3A%2F%2Fprimamedia.ru%2Ff%2Fperson%2F200x200%2F359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gou-spo-mit.ru/images/den-yakutii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akha.gov.ru/special/sites/default/files/story/img/2011_01/2/%D0%9F%D1%80%D0%B5%D0%B7%D0%B8%D0%B4%D0%B5%D0%BD%D1%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Егор Афанасьевич БОРИ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929120" y="0"/>
            <a:ext cx="3500640" cy="528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28760" y="0"/>
            <a:ext cx="3214440" cy="5072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онхо – героический эпос народа С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девр устного нематериальн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ayarhaan-algys-yryata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2141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mg10.proshkolu.ru/content/media/pic/std/4000000/3915000/3914706-bd0adde07254742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87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0" y="585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родный парк «Ленские столб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oxe.ru/uploads/posts/2010-12/1293779996_w2w121212erf_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25560"/>
            <a:ext cx="9096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3983040" cy="264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2040" y="357120"/>
            <a:ext cx="3667320" cy="274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072040" y="364320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 flipH="1">
            <a:off x="0" y="6000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рд Гиннеса по хому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ayarhaan-iskryaschiesya-ritmy.mp3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1105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42880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оположник якутской литературы – А. Е. Кулаковск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5-tub-ru.yandex.net/i?id=65876865-1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0"/>
            <a:ext cx="6376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571840"/>
            <a:ext cx="3429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емподист Софронов - Аламп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im7-tub-ru.yandex.net/i?id=140005415-1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0"/>
            <a:ext cx="2158920" cy="242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im6-tub-ru.yandex.net/i?id=192524040-3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0"/>
            <a:ext cx="2171520" cy="2714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4757760" y="271476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. К. Сивцев – Суорун Омолл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sakha.gov.ru/sites/default/files/story/img/2011_10/12/Sedanilo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4240" y="3214800"/>
            <a:ext cx="2459160" cy="2643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655200" y="58579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н Дан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im3-tub-ru.yandex.net/i?id=139885481-3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00840" y="3214800"/>
            <a:ext cx="2214360" cy="2657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6156720" y="59292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фрон Дан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304920" y="428616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.Е. Мординов – Амма Аччыгый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im7-tub-ru.yandex.net/i?id=132551171-7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214280"/>
            <a:ext cx="2286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gallery.ykt.ru/galleries/kepsee/2012/06/1083935_0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екорд Гинесса – самый большой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суох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214280" y="612720"/>
            <a:ext cx="742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7 апрел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особая дата в истории Якутии. В этот день произошли сразу два знаковых события в общественной и политической жизни региона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22 году была образована Якутская Автономная Советская Социалистическая Республ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ЯАССР). А ровно 70 лет спустя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992 году, вступила в силу новая конституция республики, которая определила статус Якутии как субъекта Российской Федер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й национальный праздник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нь образования Республики Саха (Якутия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якутяне впервые отметили в 1999 году; он также имеет и второе название - День конституции республик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russobras.com.br/subdiv/images/yakut_11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fakttv.ru/images/news/all/7257add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nlib.sakha.ru/knigakan/literaturnaya-karta/kurilov/photo/191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2" descr=""/>
          <p:cNvPicPr/>
          <p:nvPr/>
        </p:nvPicPr>
        <p:blipFill>
          <a:blip r:embed="rId2"/>
          <a:stretch/>
        </p:blipFill>
        <p:spPr>
          <a:xfrm>
            <a:off x="628560" y="5205240"/>
            <a:ext cx="73756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ilin.sakhaopenworld.org/2002-3/foto/javr-kur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643040" y="50720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урилов Гаврил Николаевич - юкагирский поэ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sakhalife.ru/sites/default/files/story/2013/01/14Reg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519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n-europe.eu/sites/default/files/imagecache/480X340/images/111179887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akha.gov.ru/sites/default/files/story/img/2013_07/2/normal_saha_sirin_byilaa5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vkcyakutiya.narod.ru/vkc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0"/>
            <a:ext cx="6572160" cy="6496200"/>
          </a:xfrm>
          <a:prstGeom prst="rect">
            <a:avLst/>
          </a:prstGeom>
          <a:ln w="0">
            <a:noFill/>
          </a:ln>
        </p:spPr>
      </p:pic>
      <p:pic>
        <p:nvPicPr>
          <p:cNvPr id="47" name="85737a2fbd4a64cddbcab034bf99ae9f.mp3" descr=""/>
          <p:cNvPicPr/>
          <p:nvPr/>
        </p:nvPicPr>
        <p:blipFill>
          <a:blip r:embed="rId3"/>
          <a:stretch/>
        </p:blipFill>
        <p:spPr>
          <a:xfrm>
            <a:off x="82152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79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снователи государственности Якут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267336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6520" y="45720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. Н. Ба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500280" y="857160"/>
            <a:ext cx="2357640" cy="3214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3507480" y="42148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 К. Амм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6429240" y="1143000"/>
            <a:ext cx="2428920" cy="3282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6439680" y="45720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. А. Ойу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akha.gov.ru/special/sites/default/files/story/img/2012_11/92/1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ихаил Ефимович НИКОЛ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primamedia.ru/f/person/200x200/359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ячеслав Анатольевич ШТЫ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2:04:07Z</dcterms:created>
  <dc:creator>Пользователь</dc:creator>
  <dc:description/>
  <dc:language>en-US</dc:language>
  <cp:lastModifiedBy>Пользователь</cp:lastModifiedBy>
  <dcterms:modified xsi:type="dcterms:W3CDTF">2015-09-28T09:54:21Z</dcterms:modified>
  <cp:revision>30</cp:revision>
  <dc:subject/>
  <dc:title>Слайд 1</dc:title>
</cp:coreProperties>
</file>