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19.png" ContentType="image/png"/>
  <Override PartName="/ppt/media/image4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31.png" ContentType="image/png"/>
  <Override PartName="/ppt/media/image12.jpeg" ContentType="image/jpeg"/>
  <Override PartName="/ppt/media/image13.png" ContentType="image/png"/>
  <Override PartName="/ppt/media/image29.jpeg" ContentType="image/jpeg"/>
  <Override PartName="/ppt/media/image8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11.jpeg" ContentType="image/jpeg"/>
  <Override PartName="/ppt/media/image1.gif" ContentType="image/gif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2F33-6212-4855-A69A-62AE9E37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C2D9-2669-41C1-B9F4-7815CDD5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8F52-FA15-4707-BC35-E40CA66B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A548-6936-4E7B-86C8-4F749B75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E82C-3D88-4646-94F9-5C3EDCA2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1A96-D909-4650-9BA3-27EDA778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DA10-20FD-4926-9A5D-4AE2AE88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17FB-A574-4D4A-8283-1D9A5DAD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F2E0-F29A-4848-A807-2BCA848E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C17C-EC61-4D0B-94A3-FFED38E6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04E1-56BC-4457-91C7-3033E222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03C7-B619-48D3-B0B4-D51E4DCD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28FD-8094-4F6B-B1BB-EF21652CAF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text=&#1076;&#1077;&#1085;&#1100;%20&#1088;&#1077;&#1089;&#1087;&#1091;&#1073;&#1083;&#1080;&#1082;&#1080;%20&#1089;&#1072;&#1093;&#1072;%20&#1103;&#1082;&#1091;&#1090;&#1080;&#1103;&amp;noreask=1&amp;pos=18&amp;lr=74&amp;rpt=simage&amp;uinfo=ww-1349-wh-674-fw-1124-fh-468-pd-1&amp;img_url=http%3A%2F%2Fnvt-web.ru%2Fattachments%2FImage%2FDen-Yakutii.gif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text=&#1076;&#1077;&#1085;&#1100;%20&#1088;&#1077;&#1089;&#1087;&#1091;&#1073;&#1083;&#1080;&#1082;&#1080;%20&#1089;&#1072;&#1093;&#1072;%20&#1103;&#1082;&#1091;&#1090;&#1080;&#1103;&amp;noreask=1&amp;pos=22&amp;lr=74&amp;rpt=simage&amp;uinfo=ww-1349-wh-674-fw-1124-fh-468-pd-1&amp;img_url=http%3A%2F%2Fsakhalife.ru%2Fsites%2Fdefault%2Ffiles%2Fstory%2F2013%2F09%2F8757_big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3&amp;uinfo=ww-1349-wh-674-fw-1124-fh-468-pd-1&amp;p=3&amp;text=&#1076;&#1077;&#1085;&#1100;%20&#1088;&#1077;&#1089;&#1087;&#1091;&#1073;&#1083;&#1080;&#1082;&#1080;%20&#1089;&#1072;&#1093;&#1072;%20&#1103;&#1082;&#1091;&#1090;&#1080;&#1103;&amp;noreask=1&amp;pos=90&amp;rpt=simage&amp;lr=74&amp;img_url=http%3A%2F%2Fnews.ya1.ru%2Fpictures%2F8874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2&amp;uinfo=ww-1349-wh-674-fw-1124-fh-468-pd-1&amp;p=2&amp;text=&#1076;&#1077;&#1085;&#1100;%20&#1088;&#1077;&#1089;&#1087;&#1091;&#1073;&#1083;&#1080;&#1082;&#1080;%20&#1089;&#1072;&#1093;&#1072;%20&#1103;&#1082;&#1091;&#1090;&#1080;&#1103;&amp;noreask=1&amp;pos=73&amp;rpt=simage&amp;lr=74&amp;img_url=http%3A%2F%2Fi.voffka.com%2Fpic%2F04img_set%2Fasqaqf_09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91;&#1083;&#1072;&#1082;&#1086;&#1074;&#1089;&#1082;&#1080;&#1081;&amp;fp=0&amp;img_url=http%3A%2F%2Fcs5383.userapi.com%2Fu28260515%2F-14%2Fm_ec916e29.jpg&amp;pos=13&amp;uinfo=ww-1349-wh-644-fw-1124-fh-448-pd-1&amp;rpt=simage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72;&#1083;&#1072;&#1084;&#1087;&#1072;&amp;fp=0&amp;img_url=http%3A%2F%2Ffotki.ykt.ru%2Falbums%2Fuserpics%2F43659%2F42_alampa.jpg&amp;pos=13&amp;uinfo=ww-1349-wh-644-fw-1124-fh-448-pd-1&amp;rpt=simage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yandex.ru/yandsearch?text=&#1089;&#1091;&#1086;&#1088;&#1091;&#1085;%20&#1086;&#1084;&#1086;&#1083;&#1083;&#1086;&#1086;&#1085;&amp;fp=0&amp;img_url=http%3A%2F%2Fwww.nlib.sakha.ru%2FResoures%2FData%2FBibl_Assist%2FCalendar%2F2006%2Fimg%2F9_14.gif&amp;pos=7&amp;uinfo=ww-1349-wh-644-fw-1124-fh-448-pd-1&amp;rpt=simage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images.yandex.ru/yandsearch?source=psearch&amp;fp=3&amp;uinfo=ww-1349-wh-674-fw-1124-fh-468-pd-1&amp;p=3&amp;text=&#1087;&#1077;&#1088;&#1074;&#1099;&#1081;%20&#1087;&#1088;&#1077;&#1079;&#1080;&#1076;&#1077;&#1085;&#1090;%20&#1088;&#1077;&#1089;&#1087;&#1091;&#1073;&#1083;&#1080;&#1082;&#1080;%20&#1089;&#1072;&#1093;&#1072;%20&#1103;&#1082;&#1091;&#1090;&#1080;&#1103;&amp;pos=119&amp;lr=74&amp;rpt=simage&amp;img_url=http%3A%2F%2Fsakha.gov.ru%2Fsites%2Fdefault%2Ffiles%2Fstory%2Fimg%2F2011_10%2F12%2FSedanilov.jpg" TargetMode="External"/><Relationship Id="rId6" Type="http://schemas.openxmlformats.org/officeDocument/2006/relationships/image" Target="../media/image24.jpeg"/><Relationship Id="rId7" Type="http://schemas.openxmlformats.org/officeDocument/2006/relationships/hyperlink" Target="http://images.yandex.ru/yandsearch?text=&#1089;&#1086;&#1092;&#1088;&#1086;&#1085;%20&#1076;&#1072;&#1085;&#1080;&#1083;&#1086;&#1074;&amp;fp=0&amp;img_url=http%3A%2F%2Fwww.hrono.ru%2Fbiograf%2Fbio_d%2Fdanilov_sofron.jpg&amp;pos=0&amp;uinfo=ww-1349-wh-644-fw-1124-fh-448-pd-1&amp;rpt=simage" TargetMode="External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40;&#1084;&#1084;&#1072;-&#1040;&#1095;&#1095;&#1099;&#1075;&#1099;&#1081;&#1072;&amp;fp=0&amp;img_url=http%3A%2F%2Fcs5383.userapi.com%2Fu28260515%2F-14%2Fm_fe2c679c.jpg&amp;pos=0&amp;uinfo=ww-1349-wh-644-fw-1124-fh-448-pd-1&amp;rpt=simage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text=&#1076;&#1077;&#1085;&#1100;%20&#1088;&#1077;&#1089;&#1087;&#1091;&#1073;&#1083;&#1080;&#1082;&#1080;%20&#1089;&#1072;&#1093;&#1072;%20&#1103;&#1082;&#1091;&#1090;&#1080;&#1103;&amp;noreask=1&amp;pos=11&amp;lr=74&amp;rpt=simage&amp;uinfo=ww-1349-wh-674-fw-1124-fh-468-pd-1&amp;img_url=http%3A%2F%2Fnews.ykt.ru%2Fthumb.php%3Fsrc%3Dhttp%3A%2F%2Fnews.ykt.ru%2Fupload%2Fimage%2F2013%2F01%2F8161%2Fmain_thumb.jpg%26w%3D170%26h%3D97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alend.ru/day/4-27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2&amp;uinfo=ww-1349-wh-674-fw-1124-fh-468-pd-1&amp;p=2&amp;text=&#1076;&#1077;&#1085;&#1100;%20&#1088;&#1077;&#1089;&#1087;&#1091;&#1073;&#1083;&#1080;&#1082;&#1080;%20&#1089;&#1072;&#1093;&#1072;%20&#1103;&#1082;&#1091;&#1090;&#1080;&#1103;&amp;noreask=1&amp;pos=80&amp;rpt=simage&amp;lr=74&amp;img_url=http%3A%2F%2Fwww.meteovesti.ru%2Fpictures%2F63470527197.jpe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2&amp;uinfo=ww-1349-wh-674-fw-1124-fh-468-pd-1&amp;p=2&amp;text=&#1076;&#1077;&#1085;&#1100;%20&#1088;&#1077;&#1089;&#1087;&#1091;&#1073;&#1083;&#1080;&#1082;&#1080;%20&#1089;&#1072;&#1093;&#1072;%20&#1103;&#1082;&#1091;&#1090;&#1080;&#1103;&amp;noreask=1&amp;pos=79&amp;rpt=simage&amp;lr=74&amp;img_url=http%3A%2F%2Fwww.fakttv.ru%2Fimages%2Fnews%2Fall%2F7257add01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text=&#1076;&#1077;&#1085;&#1100;%20&#1088;&#1077;&#1089;&#1087;&#1091;&#1073;&#1083;&#1080;&#1082;&#1080;%20&#1089;&#1072;&#1093;&#1072;%20&#1103;&#1082;&#1091;&#1090;&#1080;&#1103;&amp;noreask=1&amp;pos=9&amp;lr=74&amp;rpt=simage&amp;uinfo=ww-1349-wh-674-fw-1124-fh-468-pd-1&amp;img_url=http%3A%2F%2F14.rkn.gov.ru%2Fdocs%2F14%2FRegio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3&amp;uinfo=ww-1349-wh-674-fw-1124-fh-468-pd-1&amp;p=3&amp;text=&#1076;&#1077;&#1085;&#1100;%20&#1088;&#1077;&#1089;&#1087;&#1091;&#1073;&#1083;&#1080;&#1082;&#1080;%20&#1089;&#1072;&#1093;&#1072;%20&#1103;&#1082;&#1091;&#1090;&#1080;&#1103;&amp;noreask=1&amp;pos=108&amp;rpt=simage&amp;lr=74&amp;img_url=http%3A%2F%2Fimg.beta.rian.ru%2Fimages%2F19076%2F97%2F190769705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text=&#1076;&#1077;&#1085;&#1100;%20&#1088;&#1077;&#1089;&#1087;&#1091;&#1073;&#1083;&#1080;&#1082;&#1080;%20&#1089;&#1072;&#1093;&#1072;%20&#1103;&#1082;&#1091;&#1090;&#1080;&#1103;&amp;noreask=1&amp;pos=1&amp;lr=74&amp;rpt=simage&amp;uinfo=ww-1349-wh-674-fw-1124-fh-468-pd-1&amp;img_url=http%3A%2F%2Fnews.ykt.ru%2Fupload%2Fimage%2F2013%2F05%2F11185%2Fmain_thumb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text=&#1076;&#1077;&#1085;&#1100;%20&#1088;&#1077;&#1089;&#1087;&#1091;&#1073;&#1083;&#1080;&#1082;&#1080;%20&#1089;&#1072;&#1093;&#1072;%20&#1103;&#1082;&#1091;&#1090;&#1080;&#1103;&amp;noreask=1&amp;pos=2&amp;lr=74&amp;rpt=simage&amp;uinfo=ww-1349-wh-674-fw-1124-fh-468-pd-1&amp;img_url=http%3A%2F%2Fcreative.allmedia.ru%2Farc%2Fbig%2Fphoto_842_%7B713A0A76-7926-416B-92C0-5CADB78FBE9D%7D.gif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87;&#1077;&#1088;&#1074;&#1099;&#1081;%20&#1087;&#1088;&#1077;&#1079;&#1080;&#1076;&#1077;&#1085;&#1090;%20&#1088;&#1077;&#1089;&#1087;&#1091;&#1073;&#1083;&#1080;&#1082;&#1080;%20&#1089;&#1072;&#1093;&#1072;%20&#1103;&#1082;&#1091;&#1090;&#1080;&#1103;&amp;fp=0&amp;pos=9&amp;rpt=simage&amp;lr=74&amp;uinfo=ww-1349-wh-674-fw-1124-fh-468-pd-1&amp;img_url=http%3A%2F%2Ffotki.ykt.ru%2Falbums%2Fuserpics%2F40796%2Fnormal_42_16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4&amp;uinfo=ww-1349-wh-674-fw-1124-fh-468-pd-1&amp;p=4&amp;text=&#1087;&#1088;&#1077;&#1079;&#1080;&#1076;&#1077;&#1085;&#1090;&#1099;%20&#1088;&#1077;&#1089;&#1087;&#1091;&#1073;&#1083;&#1080;&#1082;&#1080;%20&#1089;&#1072;&#1093;&#1072;%20&#1103;&#1082;&#1091;&#1090;&#1080;&#1103;&amp;noreask=1&amp;pos=125&amp;rpt=simage&amp;lr=74&amp;img_url=http%3A%2F%2Fprimamedia.ru%2Ff%2Fperson%2F200x200%2F359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gou-spo-mit.ru/images/den-yakutii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4752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sakha.gov.ru/special/sites/default/files/story/img/2011_01/2/%D0%9F%D1%80%D0%B5%D0%B7%D0%B8%D0%B4%D0%B5%D0%BD%D1%8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1023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0" y="6000840"/>
            <a:ext cx="914400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Егор Афанасьевич БОРИ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929120" y="0"/>
            <a:ext cx="3500640" cy="5286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428760" y="0"/>
            <a:ext cx="3214440" cy="50720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6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лонхо – героический эпос народа Са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едевр устного нематериального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ayarhaan-algys-yryata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2141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img10.proshkolu.ru/content/media/pic/std/4000000/3915000/3914706-bd0adde07254742c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875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0" y="585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иродный парк «Ленские столб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poxe.ru/uploads/posts/2010-12/1293779996_w2w121212erf_1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0" y="25560"/>
            <a:ext cx="909648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785880" y="2500200"/>
            <a:ext cx="3983040" cy="2643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5072040" y="357120"/>
            <a:ext cx="3667320" cy="2749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5072040" y="3643200"/>
            <a:ext cx="38577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 flipH="1">
            <a:off x="0" y="6000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рд Гиннеса по хому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ayarhaan-iskryaschiesya-ritmy.mp3" descr=""/>
          <p:cNvPicPr/>
          <p:nvPr/>
        </p:nvPicPr>
        <p:blipFill>
          <a:blip r:embed="rId2"/>
          <a:stretch/>
        </p:blipFill>
        <p:spPr>
          <a:xfrm>
            <a:off x="842976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311057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42880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оположник якутской литературы – А. Е. Кулаковски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m5-tub-ru.yandex.net/i?id=65876865-1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0"/>
            <a:ext cx="63766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2571840"/>
            <a:ext cx="3429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немподист Софронов - Алампа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im7-tub-ru.yandex.net/i?id=140005415-11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0"/>
            <a:ext cx="2158920" cy="2428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ttp://im6-tub-ru.yandex.net/i?id=192524040-36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57920" y="0"/>
            <a:ext cx="2171520" cy="2714760"/>
          </a:xfrm>
          <a:prstGeom prst="rect">
            <a:avLst/>
          </a:prstGeom>
          <a:ln w="0">
            <a:noFill/>
          </a:ln>
        </p:spPr>
      </p:pic>
      <p:sp>
        <p:nvSpPr>
          <p:cNvPr id="79" name="TextBox 6"/>
          <p:cNvSpPr/>
          <p:nvPr/>
        </p:nvSpPr>
        <p:spPr>
          <a:xfrm>
            <a:off x="4757760" y="2714760"/>
            <a:ext cx="43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. К. Сивцев – Суорун Омолло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sakha.gov.ru/sites/default/files/story/img/2011_10/12/Sedanilov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4240" y="3214800"/>
            <a:ext cx="2459160" cy="2643120"/>
          </a:xfrm>
          <a:prstGeom prst="rect">
            <a:avLst/>
          </a:prstGeom>
          <a:ln w="0">
            <a:noFill/>
          </a:ln>
        </p:spPr>
      </p:pic>
      <p:sp>
        <p:nvSpPr>
          <p:cNvPr id="81" name="TextBox 8"/>
          <p:cNvSpPr/>
          <p:nvPr/>
        </p:nvSpPr>
        <p:spPr>
          <a:xfrm>
            <a:off x="655200" y="5857920"/>
            <a:ext cx="25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мен Дани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http://im3-tub-ru.yandex.net/i?id=139885481-35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00840" y="3214800"/>
            <a:ext cx="2214360" cy="2657520"/>
          </a:xfrm>
          <a:prstGeom prst="rect">
            <a:avLst/>
          </a:prstGeom>
          <a:ln w="0">
            <a:noFill/>
          </a:ln>
        </p:spPr>
      </p:pic>
      <p:sp>
        <p:nvSpPr>
          <p:cNvPr id="83" name="TextBox 10"/>
          <p:cNvSpPr/>
          <p:nvPr/>
        </p:nvSpPr>
        <p:spPr>
          <a:xfrm>
            <a:off x="6156720" y="5929200"/>
            <a:ext cx="28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фрон Дани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4"/>
          <p:cNvSpPr/>
          <p:nvPr/>
        </p:nvSpPr>
        <p:spPr>
          <a:xfrm>
            <a:off x="304920" y="4286160"/>
            <a:ext cx="44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.Е. Мординов – Амма Аччыгый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http://im7-tub-ru.yandex.net/i?id=132551171-71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1214280"/>
            <a:ext cx="228600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gallery.ykt.ru/galleries/kepsee/2012/06/1083935_0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Рекорд Гинесса – самый большой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осуох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1214280" y="612720"/>
            <a:ext cx="7429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27 апрел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особая дата в истории Якутии. В этот день произошли сразу два знаковых события в общественной и политической жизни региона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1922 году была образована Якутская Автономная Советская Социалистическая Республи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ЯАССР). А ровно 70 лет спустя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1992 году, вступила в силу новая конституция республики, которая определила статус Якутии как субъекта Российской Федерац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ой национальный праздник -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нь образования Республики Саха (Якутия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якутяне впервые отметили в 1999 году; он также имеет и второе название - День конституции республики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www.russobras.com.br/subdiv/images/yakut_11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www.fakttv.ru/images/news/all/7257add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www.nlib.sakha.ru/knigakan/literaturnaya-karta/kurilov/photo/191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37400"/>
          </a:xfrm>
          <a:prstGeom prst="rect">
            <a:avLst/>
          </a:prstGeom>
          <a:ln w="0">
            <a:noFill/>
          </a:ln>
        </p:spPr>
      </p:pic>
      <p:pic>
        <p:nvPicPr>
          <p:cNvPr id="91" name="TextBox 2" descr=""/>
          <p:cNvPicPr/>
          <p:nvPr/>
        </p:nvPicPr>
        <p:blipFill>
          <a:blip r:embed="rId2"/>
          <a:stretch/>
        </p:blipFill>
        <p:spPr>
          <a:xfrm>
            <a:off x="628560" y="5205240"/>
            <a:ext cx="73756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ilin.sakhaopenworld.org/2002-3/foto/javr-kur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6260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1643040" y="5072040"/>
            <a:ext cx="642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урилов Гаврил Николаевич - юкагирский поэ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ttp://sakhalife.ru/sites/default/files/story/2013/01/14Regi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5192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n-europe.eu/sites/default/files/imagecache/480X340/images/111179887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sakha.gov.ru/sites/default/files/story/img/2013_07/2/normal_saha_sirin_byilaa5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vkcyakutiya.narod.ru/vkc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8840" y="0"/>
            <a:ext cx="6572160" cy="6496200"/>
          </a:xfrm>
          <a:prstGeom prst="rect">
            <a:avLst/>
          </a:prstGeom>
          <a:ln w="0">
            <a:noFill/>
          </a:ln>
        </p:spPr>
      </p:pic>
      <p:pic>
        <p:nvPicPr>
          <p:cNvPr id="47" name="85737a2fbd4a64cddbcab034bf99ae9f.mp3" descr=""/>
          <p:cNvPicPr/>
          <p:nvPr/>
        </p:nvPicPr>
        <p:blipFill>
          <a:blip r:embed="rId3"/>
          <a:stretch/>
        </p:blipFill>
        <p:spPr>
          <a:xfrm>
            <a:off x="821520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8796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Основатели государственности Якут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2673360" cy="3286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06520" y="457200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. Н. Бара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3500280" y="857160"/>
            <a:ext cx="2357640" cy="3214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3507480" y="421488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. К. Аммо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6429240" y="1143000"/>
            <a:ext cx="2428920" cy="3282840"/>
          </a:xfrm>
          <a:prstGeom prst="rect">
            <a:avLst/>
          </a:prstGeom>
          <a:ln w="0">
            <a:noFill/>
          </a:ln>
        </p:spPr>
      </p:pic>
      <p:sp>
        <p:nvSpPr>
          <p:cNvPr id="54" name="TextBox 8"/>
          <p:cNvSpPr/>
          <p:nvPr/>
        </p:nvSpPr>
        <p:spPr>
          <a:xfrm>
            <a:off x="6439680" y="45720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. А. Ойу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sakha.gov.ru/special/sites/default/files/story/img/2012_11/92/1_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Михаил Ефимович НИКОЛА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http://primamedia.ru/f/person/200x200/359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ячеслав Анатольевич ШТЫ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2:04:07Z</dcterms:created>
  <dc:creator>Пользователь</dc:creator>
  <dc:description/>
  <dc:language>en-US</dc:language>
  <cp:lastModifiedBy>Пользователь</cp:lastModifiedBy>
  <dcterms:modified xsi:type="dcterms:W3CDTF">2015-09-28T09:54:21Z</dcterms:modified>
  <cp:revision>30</cp:revision>
  <dc:subject/>
  <dc:title>Слайд 1</dc:title>
</cp:coreProperties>
</file>