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1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E3A-A15E-4429-85ED-B7ED7D59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11F-1BFC-4607-A61A-CC3A7A6C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F236-7300-49A4-B17E-61B1B6C6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E402-16A2-4B9C-A078-6C7797C0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5043-92E2-45E6-9BC6-86687E14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0E74-51CD-4714-86F0-69E862F9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9662-F7DC-41C0-8CE2-70C996C7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8C9D-57C5-4C88-9F8D-9694E09E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9A7D-728B-4F8B-B2A6-6FD3DDD4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9979-D395-437E-8DF5-82873C47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A5AD-5940-478A-9D63-746FF97B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A93-2F31-40C7-B4F1-E8FC6FE6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9FE2-75A4-4680-86D8-79FEFA95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08AB-8DEF-43A8-9B95-889EDAD5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5E63-1DE6-4CAD-A922-A2F11317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2B18-83E9-4841-9450-3C91B0B3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0837-77CC-4A47-8716-28300699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B3D-3290-4749-8D64-0E6957D1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8E69-8C0F-4954-A40B-61859A01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B2A7-909B-4397-8346-90FD1234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7D8D-314E-42D4-A5A0-7478C372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AE38-D092-4D30-93C6-3E91F710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AFF1-D079-41EF-9565-FCEA856A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12E8-93AF-4D15-B7F2-E86700EF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B60B-D61C-4B76-B001-25B031CCC64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84B3-5672-4B11-B4F1-A2F7E6954F6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ircitaty.com/tolstoy_lew.html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В счастливой семье растут счастливые дети. Почему одни семьи счастливы, а другие нет?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Picture 5" descr="29_animals_and_children"/>
          <p:cNvPicPr/>
          <p:nvPr/>
        </p:nvPicPr>
        <p:blipFill>
          <a:blip r:embed="rId1"/>
          <a:stretch/>
        </p:blipFill>
        <p:spPr>
          <a:xfrm>
            <a:off x="324000" y="1773360"/>
            <a:ext cx="48592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ебенок счастлив если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него рядом есть любящие, понимающие, принимающие, интересующиеся и внимательные родные. «Взрослость» которых даёт возможность общаться с ребенком, как с близким другом. И ребенок в такие моменты чувствует себя защищённым и может и хочет делиться со взрослым своими «детскими секретиками». У него «всё» получается, а что не получается сейчас, то ему есть у кого уч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него есть друзья, с которыми у него есть возможность общаться. И они, новые люди в жизни ребёнка, всегда принимают его и дружат с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него есть условия для «своих игр», своё собственное простран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него есть интересы свои собственные. И возможность их реализовы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9636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7c80"/>
                </a:solidFill>
                <a:latin typeface="Garamond"/>
              </a:rPr>
              <a:t>Конфуций писал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«Государство- это большая семья, а семья- это маленькое государство. И держится оно на любв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296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Что такое счастье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то такое счастье? много ль в жизни нужно?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ыть хорошим мужем, любящей женой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кого-то счастье - сделать вкусный ужин,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у а после дружно кушать всей семь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33"/>
                </a:solidFill>
                <a:latin typeface="Microsoft Himalaya"/>
              </a:rPr>
              <a:t>«Счастлив тот, кто счастлив у себя дома» </a:t>
            </a:r>
            <a:br>
              <a:rPr sz="2900"/>
            </a:br>
            <a:r>
              <a:rPr b="1" i="1" lang="ru-RU" sz="2900" spc="-1" strike="noStrike">
                <a:solidFill>
                  <a:srgbClr val="006633"/>
                </a:solidFill>
                <a:latin typeface="Microsoft Himalaya"/>
              </a:rPr>
              <a:t>                                                   </a:t>
            </a:r>
            <a:r>
              <a:rPr b="0" lang="ru-RU" sz="2100" spc="-1" strike="noStrike" u="sng">
                <a:solidFill>
                  <a:srgbClr val="996600"/>
                </a:solidFill>
                <a:uFillTx/>
                <a:latin typeface="Microsoft Himalaya"/>
                <a:hlinkClick r:id="rId1"/>
              </a:rPr>
              <a:t>Лев Николаевич Толстой</a:t>
            </a:r>
            <a:r>
              <a:rPr b="0" lang="ru-RU" sz="2900" spc="-1" strike="noStrike" u="sng">
                <a:solidFill>
                  <a:srgbClr val="006633"/>
                </a:solidFill>
                <a:uFillTx/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99"/>
                </a:solidFill>
                <a:latin typeface="Arial"/>
              </a:rPr>
              <a:t>« Семья-это группа живущих вместе родственников».                                     (из толкового словаря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Брак основывается на добровольном согласии женщины и мужчины. Каждый из супругов имеет равные права и равные обязанности в браке и семье». (Конституция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99"/>
                </a:solidFill>
                <a:latin typeface="Arial"/>
              </a:rPr>
              <a:t>«Все счастливые семьи похожи друг на друга, каждая несчастливая семья несчастлива по-своему».(Л.Н.Толстой «Анна Каренина»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4284720" y="3755880"/>
            <a:ext cx="5041800" cy="3102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5"/>
          <p:cNvPicPr/>
          <p:nvPr/>
        </p:nvPicPr>
        <p:blipFill>
          <a:blip r:embed="rId3"/>
          <a:stretch/>
        </p:blipFill>
        <p:spPr>
          <a:xfrm>
            <a:off x="971640" y="5013360"/>
            <a:ext cx="1644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Что такое семья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2808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мья – это то, что мы делим на все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м понемножку и слёзы, и смех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мья – это то, что с тобою всег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усть мчатся секунды, недели, года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ены родные и отчий свой дом 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рдце навеки останется в нём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i?id=60b1adcc91b6e7d9de594dcdff6e7006&amp;n=33&amp;h=225&amp;w=338"/>
          <p:cNvPicPr/>
          <p:nvPr/>
        </p:nvPicPr>
        <p:blipFill>
          <a:blip r:embed="rId1"/>
          <a:stretch/>
        </p:blipFill>
        <p:spPr>
          <a:xfrm>
            <a:off x="4932360" y="4076640"/>
            <a:ext cx="4211640" cy="28018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3"/>
          <p:cNvSpPr/>
          <p:nvPr/>
        </p:nvSpPr>
        <p:spPr>
          <a:xfrm>
            <a:off x="1692360" y="2421000"/>
            <a:ext cx="6049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ебенок счастли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частливым чувствует себя ребенок только тогда, когда он чувствует и понимает, что его любят, принимают таким, какой он есть. В любые моменты своей жизни: когда он плачет и капризничает и даже когда не хочет делать то, что «полезно» для него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«</a:t>
            </a:r>
            <a:r>
              <a:rPr b="0" lang="ru-RU" sz="2500" spc="-1" strike="noStrike">
                <a:solidFill>
                  <a:srgbClr val="006633"/>
                </a:solidFill>
                <a:latin typeface="Garamond"/>
              </a:rPr>
              <a:t>От того, как прошло детство, кто вёл ребёнка за руку в детские годы, что вошло в его разум и сердце из окружающего мира - от этого в решающей степени зависит, каким человеком станет сегодняшний малыш».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395280" y="3357720"/>
            <a:ext cx="3672000" cy="3313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i?id=dbfb0f24193101b3667549f64ace0cbe&amp;n=33&amp;h=225&amp;w=335"/>
          <p:cNvPicPr/>
          <p:nvPr/>
        </p:nvPicPr>
        <p:blipFill>
          <a:blip r:embed="rId2"/>
          <a:stretch/>
        </p:blipFill>
        <p:spPr>
          <a:xfrm>
            <a:off x="4606920" y="3411360"/>
            <a:ext cx="453708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 u="sng">
                <a:solidFill>
                  <a:srgbClr val="cc3300"/>
                </a:solidFill>
                <a:uFillTx/>
                <a:latin typeface="Arial"/>
              </a:rPr>
              <a:t>Нравственные уроки семьи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Привычки, сложившиеся в семье, так сильны, что, даже сознавая порой их отрицательное влияние, человек не может всю жизнь от них освободить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neblagopoluchnye_semi"/>
          <p:cNvPicPr/>
          <p:nvPr/>
        </p:nvPicPr>
        <p:blipFill>
          <a:blip r:embed="rId1"/>
          <a:stretch/>
        </p:blipFill>
        <p:spPr>
          <a:xfrm>
            <a:off x="3995640" y="3429000"/>
            <a:ext cx="370836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одители, помните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бенок учится то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видит у себя в до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тели пример т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то при жене и детях груб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у язык распутства люб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сть помн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с лихвой получ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них все то, чему их учи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356000" y="1197000"/>
            <a:ext cx="446400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66cc"/>
                </a:solidFill>
                <a:latin typeface="Garamond"/>
              </a:rPr>
              <a:t>В. А. Сухомлинский</a:t>
            </a:r>
            <a:r>
              <a:rPr b="0" lang="ru-RU" sz="2100" spc="-1" strike="noStrike">
                <a:solidFill>
                  <a:srgbClr val="ff66cc"/>
                </a:solidFill>
                <a:latin typeface="Garamond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681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« Ребёнок- зеркало семьи; как в капле воды отражается солнце, так в детях  отражается нравственная чистота матери и от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2_0M8jrcK"/>
          <p:cNvPicPr/>
          <p:nvPr/>
        </p:nvPicPr>
        <p:blipFill>
          <a:blip r:embed="rId1"/>
          <a:stretch/>
        </p:blipFill>
        <p:spPr>
          <a:xfrm>
            <a:off x="684360" y="2781360"/>
            <a:ext cx="4174920" cy="367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lori-0001614008-bigwww"/>
          <p:cNvPicPr/>
          <p:nvPr/>
        </p:nvPicPr>
        <p:blipFill>
          <a:blip r:embed="rId2"/>
          <a:stretch/>
        </p:blipFill>
        <p:spPr>
          <a:xfrm>
            <a:off x="4932360" y="3265560"/>
            <a:ext cx="381636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5:03:05Z</dcterms:created>
  <dc:creator>user</dc:creator>
  <dc:description/>
  <dc:language>en-US</dc:language>
  <cp:lastModifiedBy>Sanёk</cp:lastModifiedBy>
  <dcterms:modified xsi:type="dcterms:W3CDTF">2016-12-06T18:42:08Z</dcterms:modified>
  <cp:revision>37</cp:revision>
  <dc:subject/>
  <dc:title>Родительское собрание.</dc:title>
</cp:coreProperties>
</file>