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D60C-AA5D-42EF-A569-20D6DFE0F9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270E-DABC-46FE-9693-E81D44FC4F7D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933-00B4-4B94-B9E3-82547825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3BC-2058-49C0-8C15-62B0ED5E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557-0B63-4D29-AD14-D600506B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DE3-B1B9-4D50-BDA9-945CE421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C8BB-5AD2-4371-B5B9-7B421ECE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06DC-AD91-40C8-907F-10601FAF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8774-9462-492E-B125-DD655CEA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CB50-D2DC-474B-8C02-AE89AE29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0AEA-3A34-42C9-B4FE-DE72465A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62D2-D935-43D7-8699-E363AD64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B303-6ECB-4074-BB1D-D669E7C3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582-69FC-4836-A79A-4AE45E4F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B636-6A4A-4E8B-9CFD-E0F029AC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5032-E60D-4000-900A-A6F752FE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94FA-4F3B-4D7F-8BA0-68DE8FD9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823F-4AB7-409B-B313-5C20372E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BE97-4A8A-450A-B19D-6B32D21C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1AFCB-A2DF-45E7-A431-9DC4D78E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B0BD7-BDFC-40FB-A61E-D55BA073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80FC4-B820-4B3F-86E0-17E2F59D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46832-31F0-4D6D-8FEF-033B0C40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A4DA2-AD2B-4A69-8F06-88B1B3F7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F30B-CFEE-4E63-9ED6-7EFC532D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4E681-BE43-4D8F-A213-7E585073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61B4F-5CCB-4A06-BAE7-A52F7B84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8B9FB-83D4-4FA1-B3F4-9C8B5415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544BA-AEB7-40D4-A1D7-0BD67813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A18E-6399-43D0-B572-E878E4D8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8617D-09E7-46F0-805D-067BFD6B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15CB6-CD1B-4EDD-B846-6BEF14C1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D05ED-A7A3-427D-A00D-B5E16EC3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C59AF-35ED-4A72-AB33-B9A22960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5CF58-8B35-473B-88B6-F8A7DDF8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79C5-E43E-4C76-9312-4800505C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F1667-2D46-48F8-A3B7-2DB05F57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E6BC7-53ED-4FEB-AD4C-DEF780FD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7E28A-85DB-496A-B351-BA2CDAC0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8F117-99D5-4EBD-99BB-61517AB6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A3235-7A39-4CC1-8DA0-8A618B43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4F5F2-44FF-482B-96BE-C2C97E95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3ECE1-22C5-41D7-835B-857D34EE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79716-7725-49F0-89DE-044C83B3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6BFB3-F8C2-43AF-97A5-7F2EED71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BFD11-368D-46F0-A779-CB4810A4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195-A90F-4A83-99C2-52AA159D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5E27D-93D7-4809-9135-5DA93959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C35FD-8283-4378-BF33-21B180A7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84812-BA1D-447C-A80E-D3384544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C442E-D841-46AA-9F39-262651D3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CDFD7-EF66-43AD-A6C0-48A67EC4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D716F-9956-4DDB-9BE9-B85022EA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98CD3-4C39-4595-B271-BEA6CF74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1078F-8ECE-4AA4-866F-74F0A9B6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67576-31F8-4605-B167-A22A668A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679C6-8FBA-42A6-AB4D-6BA4F5AD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78CD-A846-4AF0-9E24-BD583A21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0FED9-C50C-489F-A85A-55154D96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90A30-DE3F-4712-A79E-3EE55867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317D6-AE1A-4C15-8ED5-E3A60E05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D708D-2D65-4F3F-A976-3D25C99A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45698-F4A9-401B-8AED-71EE219B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FAD1A-9B5E-414A-99D0-80D310ED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EB86D-7D9D-4BD4-9CD2-B7503F16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77692-863F-4EB2-9F55-E3F52DB1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87EC6-58E9-4C4E-A923-7BA6006F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0D2FA-6681-45F7-A87C-7F12CAA4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8C05-DCA6-49CD-8FB1-4B3464C7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F4B74-03B2-42AB-A01D-F62D4668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22B6A-3195-41A2-9179-33890F1D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1C276-B912-4EE3-90EB-3B149B04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545B2-C123-4651-A503-6F70DBC5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356FF-5692-45C8-B017-E53DF6C0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C5A2D-A086-443A-A06F-9F6748C5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D2F8F-0A98-42A0-A805-9D06E2BB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AC5F6-2E4C-418F-AE7E-7B38D3F1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55E60-011E-4F22-8967-6A926E7F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BA010-32F0-48B4-ADF0-0FF56E19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AD79-0179-4E08-B997-25284721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533D1-B7F5-4214-B17B-83CD2097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04CC5-5659-4C4A-AF28-9B8544CA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F677A-3088-403B-9FCB-8A144199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889DB-027B-48B8-88B4-6FC86F54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FEA09-7590-45AF-AF45-78D04FD4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72E-C6DC-4439-8B93-DBE38810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6"/>
            </a:gs>
            <a:gs pos="5000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3CED-E982-4F5D-B224-92ABF48282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6"/>
            </a:gs>
            <a:gs pos="5000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DC18-087D-473B-AF75-28916C9B3ED5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6"/>
            </a:gs>
            <a:gs pos="5000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37B4-B090-4ED5-88F6-631A19164E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6"/>
            </a:gs>
            <a:gs pos="5000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DFDC-46B4-439E-BA19-EEDB663CF3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6"/>
            </a:gs>
            <a:gs pos="5000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74D2-7E76-47E0-87D4-FA37F1D7C9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6"/>
            </a:gs>
            <a:gs pos="5000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9AF7-60CC-4557-8293-C1AA9E74A646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6"/>
            </a:gs>
            <a:gs pos="5000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6731-A46F-4171-AB9E-DABC4A5F8604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7"/>
          <p:cNvSpPr/>
          <p:nvPr/>
        </p:nvSpPr>
        <p:spPr>
          <a:xfrm>
            <a:off x="468360" y="4071960"/>
            <a:ext cx="817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 про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к  4 «А» класса, ГБОУ ШКОЛЫ № 1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н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ероя советского Союза Н.А. Бобро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чаков Дани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8"/>
          <p:cNvSpPr/>
          <p:nvPr/>
        </p:nvSpPr>
        <p:spPr>
          <a:xfrm>
            <a:off x="3214800" y="607212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2016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9"/>
          <p:cNvSpPr/>
          <p:nvPr/>
        </p:nvSpPr>
        <p:spPr>
          <a:xfrm>
            <a:off x="468360" y="17002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 Black"/>
                <a:ea typeface="Arial"/>
              </a:rPr>
              <a:t>ТАЙНА   ИМЕН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1" descr=""/>
          <p:cNvPicPr/>
          <p:nvPr/>
        </p:nvPicPr>
        <p:blipFill>
          <a:blip r:embed="rId1"/>
          <a:stretch/>
        </p:blipFill>
        <p:spPr>
          <a:xfrm>
            <a:off x="0" y="-244440"/>
            <a:ext cx="8515440" cy="424980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1"/>
          <p:cNvSpPr/>
          <p:nvPr/>
        </p:nvSpPr>
        <p:spPr>
          <a:xfrm>
            <a:off x="539640" y="2349360"/>
            <a:ext cx="813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Я  и  мои  друзья  мы  очень  разные:  кто – то  спокойный,  а  кто – то  активный,  кому – то  не  хватает  усидчивости,  а  у  кого - то  нет  проблем  с  учёбой,  но  самое  главное  мы  добрые,  отзывчивые,  нам  хорошо  вместе,  потому  что  мы  настоящие  друзь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2" descr="http://www.punjabigraphics.com/images/143/Children-Cycling-Friends-Forever-Picture.jpg"/>
          <p:cNvPicPr/>
          <p:nvPr/>
        </p:nvPicPr>
        <p:blipFill>
          <a:blip r:embed="rId2"/>
          <a:stretch/>
        </p:blipFill>
        <p:spPr>
          <a:xfrm>
            <a:off x="1763640" y="4143240"/>
            <a:ext cx="5688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2"/>
          <p:cNvSpPr/>
          <p:nvPr/>
        </p:nvSpPr>
        <p:spPr>
          <a:xfrm>
            <a:off x="539640" y="404640"/>
            <a:ext cx="82090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ывод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 древней  Руси  и  после  октябрьской  революции  был  использован  один  и  тот  же  принцип  при  выборе  им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я  тайну  имени  человека,  мы  можем  лучше  понимать  наших  друзей  и  близк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дители  должны  подходить  очень  ответственно  к  вопросу  о  выборе  имени  своему  ребенку,  поскольку  наделяют  его  определённым  характером  и  энергети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  очень  доволен  своим  именем,  мне  с  ним     комфортно,  я  благодарен  родителям  за  их  выбор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542880" y="365040"/>
            <a:ext cx="814392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0" y="536400"/>
            <a:ext cx="8894880" cy="5443560"/>
          </a:xfrm>
          <a:prstGeom prst="rect">
            <a:avLst/>
          </a:prstGeom>
          <a:ln w="0">
            <a:noFill/>
          </a:ln>
        </p:spPr>
      </p:pic>
      <p:sp>
        <p:nvSpPr>
          <p:cNvPr id="312" name="Стрелка вправо 3"/>
          <p:cNvSpPr/>
          <p:nvPr/>
        </p:nvSpPr>
        <p:spPr>
          <a:xfrm>
            <a:off x="11917440" y="476280"/>
            <a:ext cx="977760" cy="485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3" descr="C:\Users\Рита\Downloads\DSCN2523.JPG"/>
          <p:cNvPicPr/>
          <p:nvPr/>
        </p:nvPicPr>
        <p:blipFill>
          <a:blip r:embed="rId1"/>
          <a:stretch/>
        </p:blipFill>
        <p:spPr>
          <a:xfrm>
            <a:off x="611280" y="3679920"/>
            <a:ext cx="3692520" cy="2886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http://cs6.pikabu.ru/images/big_size_comm/2015-02_5/14247172152275.jpg"/>
          <p:cNvPicPr/>
          <p:nvPr/>
        </p:nvPicPr>
        <p:blipFill>
          <a:blip r:embed="rId2"/>
          <a:stretch/>
        </p:blipFill>
        <p:spPr>
          <a:xfrm>
            <a:off x="4500720" y="3679920"/>
            <a:ext cx="4119480" cy="286848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2"/>
          <p:cNvSpPr/>
          <p:nvPr/>
        </p:nvSpPr>
        <p:spPr>
          <a:xfrm>
            <a:off x="368280" y="333360"/>
            <a:ext cx="8524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днажды  я  спросил  у  мамы:  «А  почему  меня  так  назвали -  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Дании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?».  Ответ  мамы  меня  очень  удивил  и  обрадовал,  оказалось,  что  мама  очень  любит  сказы  П.П. Бажова,  и  назвала  меня  в честь  Данилы-мастера из сказа «Каменный цветок»,  кстати,  у Данилы  был реальный прототип – камнерез Данила Зверев.  Я  хочу  быть  похожим  на  этого  сказочного  героя,  ведь  он  был:  очень  ответственный,  упорный,  целеустремлённый,  поэтому  смог  добиться  того,  чего  хотел.  Мне  захотелось  больше  узнать  о  происхождении  имён  на  Руси,  исследовать  как  своё  имя,  так  и  имена  моих  друз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рямоугольник 2"/>
          <p:cNvSpPr/>
          <p:nvPr/>
        </p:nvSpPr>
        <p:spPr>
          <a:xfrm>
            <a:off x="3059280" y="216000"/>
            <a:ext cx="576072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  <a:ea typeface="Arial"/>
              </a:rPr>
              <a:t>Эпигра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«Имена, имена, имена..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нашей речи звучат не случайно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ак загадочна эта стран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ак и имя - загадка и тайна.»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.Я. Марш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4"/>
          <p:cNvSpPr/>
          <p:nvPr/>
        </p:nvSpPr>
        <p:spPr>
          <a:xfrm>
            <a:off x="1332000" y="200196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5" descr="10173705_514964195296821_4589221256555954659_n"/>
          <p:cNvPicPr/>
          <p:nvPr/>
        </p:nvPicPr>
        <p:blipFill>
          <a:blip r:embed="rId1"/>
          <a:stretch/>
        </p:blipFill>
        <p:spPr>
          <a:xfrm>
            <a:off x="5856120" y="2371680"/>
            <a:ext cx="2963880" cy="415440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9"/>
          <p:cNvSpPr/>
          <p:nvPr/>
        </p:nvSpPr>
        <p:spPr>
          <a:xfrm>
            <a:off x="324000" y="2001960"/>
            <a:ext cx="54720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 словарю В.И. Даля: «Имя - это слово, которым зовут, означают особь, личность»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Что же такое имя? Что оно означает в жизни каждого из нас? Казалось бы, всего несколько слов, привычных для слуха, а за ними скрывается целый мир и неповторимая судьба челове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469800" y="55440"/>
            <a:ext cx="8229600" cy="66384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оугольник 2"/>
          <p:cNvSpPr/>
          <p:nvPr/>
        </p:nvSpPr>
        <p:spPr>
          <a:xfrm>
            <a:off x="324000" y="620640"/>
            <a:ext cx="8640720" cy="61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Имя человека возникло очень давно, еще древние люди придумали способ выделять из толпы отдельного человека,  они  обращались  к нему по имени.  В дохристианскую эпоху, то есть почти до конца X в., в среде восточных славян (предков современных русских, украинцев и белорусов) использовались только личные имена, которые давались детям при рожден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Имена в Древней Руси давали необычн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по очереди рождения в семье (Первой, Вторуня, Седьмой, Осьм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по внешним признакам (Светлана, Чернава, Кудряш, …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по профессии родителей (Рыбак, Муковоз, Кожемяка, …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чертам характера (Добрыня, Молчун, Умник, Несмеяна, Досада, …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по явлениям природы (Метелица, Снегурочка, Знойник, …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амые необычные имена Некрас, Ненаш, Дурак, Немил. Это вовсе не значило, что человек обладал такими качествами, они должны были обмануть злого духа, чтобы ребенок не заболе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 названию животных и растений: Ворона, Лев, Баран, Лилия, Ро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C:\Documents and Settings\Мама\Рабочий стол\2011-04-05\IMAGE0257.TIF"/>
          <p:cNvPicPr/>
          <p:nvPr/>
        </p:nvPicPr>
        <p:blipFill>
          <a:blip r:embed="rId2"/>
          <a:stretch/>
        </p:blipFill>
        <p:spPr>
          <a:xfrm>
            <a:off x="1401840" y="2085840"/>
            <a:ext cx="1374840" cy="13366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C:\Documents and Settings\Мама\Рабочий стол\2011-04-05\IMAGE0258.TIF"/>
          <p:cNvPicPr/>
          <p:nvPr/>
        </p:nvPicPr>
        <p:blipFill>
          <a:blip r:embed="rId3"/>
          <a:stretch/>
        </p:blipFill>
        <p:spPr>
          <a:xfrm>
            <a:off x="3348000" y="2127240"/>
            <a:ext cx="1295280" cy="1301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C:\Documents and Settings\Мама\Рабочий стол\2011-04-05\IMAGE0256.TIF"/>
          <p:cNvPicPr/>
          <p:nvPr/>
        </p:nvPicPr>
        <p:blipFill>
          <a:blip r:embed="rId4"/>
          <a:stretch/>
        </p:blipFill>
        <p:spPr>
          <a:xfrm>
            <a:off x="5003640" y="2117880"/>
            <a:ext cx="12240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1"/>
          <p:cNvSpPr/>
          <p:nvPr/>
        </p:nvSpPr>
        <p:spPr>
          <a:xfrm>
            <a:off x="611280" y="476280"/>
            <a:ext cx="820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сле  введения христианства на Руси в 988 г. каждый восточный славянин получал от священника крестильное имя. Крестильные имена соответствовали именам святых. Христианство пришло на Русь из Византии, и поэтому имена эти в большинстве своё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реческого происхождения  (Георгий,  Евдокия, …),   а  такж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ревнееврейские имена (Илья, Тамара, …)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тарославянские имена  (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ладимир,  Вера, …)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кандинавские имена (Виктор, Кристина, …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2" descr="http://www.vostok.rs/sajt/doc/01_02.jpg"/>
          <p:cNvPicPr/>
          <p:nvPr/>
        </p:nvPicPr>
        <p:blipFill>
          <a:blip r:embed="rId1"/>
          <a:stretch/>
        </p:blipFill>
        <p:spPr>
          <a:xfrm>
            <a:off x="5148360" y="3213000"/>
            <a:ext cx="3671640" cy="3095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http://pulya.org/wp-content/uploads/2015/10/%D0%BA%D0%BD%D1%8F%D0%B7%D1%8C-%D0%B2%D0%BB%D0%B0%D0%B4%D0%B8%D0%BC%D0%B8%D1%80.jpg"/>
          <p:cNvPicPr/>
          <p:nvPr/>
        </p:nvPicPr>
        <p:blipFill>
          <a:blip r:embed="rId2"/>
          <a:stretch/>
        </p:blipFill>
        <p:spPr>
          <a:xfrm>
            <a:off x="468360" y="3213000"/>
            <a:ext cx="44845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Прямоугольник 1"/>
          <p:cNvSpPr/>
          <p:nvPr/>
        </p:nvSpPr>
        <p:spPr>
          <a:xfrm>
            <a:off x="324000" y="404640"/>
            <a:ext cx="83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В России долгое время имя человеку могла дать только церковь, лишь в 1905 г. эта прерогатива церкви была несколько ослаблена. С 1917 г. стало возможным называть ребенка любым именем без каких бы то ни было ограничений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Поэтому появились  имена:  Искра,  Гений,  Отябрина,  Майя,  Ленин,  Донара (дочь  народ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2" descr="http://i.ucrazy.ru/files/pics/2014.03/1395423438_0_99baf_5a057679_orig.jpg"/>
          <p:cNvPicPr/>
          <p:nvPr/>
        </p:nvPicPr>
        <p:blipFill>
          <a:blip r:embed="rId1"/>
          <a:stretch/>
        </p:blipFill>
        <p:spPr>
          <a:xfrm>
            <a:off x="431640" y="2060640"/>
            <a:ext cx="4356360" cy="2477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http://poxe.ru/uploads/posts/2010-11/1289367859_5793e_names_09.jpg"/>
          <p:cNvPicPr/>
          <p:nvPr/>
        </p:nvPicPr>
        <p:blipFill>
          <a:blip r:embed="rId2"/>
          <a:stretch/>
        </p:blipFill>
        <p:spPr>
          <a:xfrm>
            <a:off x="6033960" y="2209680"/>
            <a:ext cx="2859120" cy="4273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http://www.kulturologia.ru/files/u17975/70bc9923badd.jpg"/>
          <p:cNvPicPr/>
          <p:nvPr/>
        </p:nvPicPr>
        <p:blipFill>
          <a:blip r:embed="rId3"/>
          <a:stretch/>
        </p:blipFill>
        <p:spPr>
          <a:xfrm>
            <a:off x="431640" y="4597560"/>
            <a:ext cx="3419640" cy="2104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http://files.vm.ru/photo/vecherka/2014/02/doc6e7akuip0g1z6usolu9_800_480.jpg"/>
          <p:cNvPicPr/>
          <p:nvPr/>
        </p:nvPicPr>
        <p:blipFill>
          <a:blip r:embed="rId4"/>
          <a:stretch/>
        </p:blipFill>
        <p:spPr>
          <a:xfrm>
            <a:off x="4140360" y="4797360"/>
            <a:ext cx="159696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3"/>
          <p:cNvSpPr/>
          <p:nvPr/>
        </p:nvSpPr>
        <p:spPr>
          <a:xfrm>
            <a:off x="324000" y="115920"/>
            <a:ext cx="856908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А как же в современной России выбирают имя ребенку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з  бесед  со  взрослыми  я  узнал,  что,  как правило,  родители исходят из собственных убеждений и желаний, а  кто-то руководствуется модными тенденциями. Сейчас очень часто родители стали прибегать к специальной литерату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мя –   это  главный подарок, который делают родители своему ребенку сразу же после его рождения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А создать добрую славу своему имени – в руках каждого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еня очень  заинтересовала эта тема, поэтому я решил провести небольшое исследование. Насколько соответствуют мне и моим друзьям имена, данные нам при рожден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3" descr="C:\Users\Рита\Downloads\DSC_0758.JPG"/>
          <p:cNvPicPr/>
          <p:nvPr/>
        </p:nvPicPr>
        <p:blipFill>
          <a:blip r:embed="rId1"/>
          <a:stretch/>
        </p:blipFill>
        <p:spPr>
          <a:xfrm>
            <a:off x="4932360" y="4295880"/>
            <a:ext cx="3743280" cy="2241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C:\Users\Рита\Downloads\DSC_0135.JPG"/>
          <p:cNvPicPr/>
          <p:nvPr/>
        </p:nvPicPr>
        <p:blipFill>
          <a:blip r:embed="rId2"/>
          <a:stretch/>
        </p:blipFill>
        <p:spPr>
          <a:xfrm>
            <a:off x="324000" y="4522680"/>
            <a:ext cx="2376360" cy="2001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C:\Users\Рита\Downloads\Ваня.png"/>
          <p:cNvPicPr/>
          <p:nvPr/>
        </p:nvPicPr>
        <p:blipFill>
          <a:blip r:embed="rId3"/>
          <a:stretch/>
        </p:blipFill>
        <p:spPr>
          <a:xfrm>
            <a:off x="3059280" y="4245120"/>
            <a:ext cx="15490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23760" y="450720"/>
            <a:ext cx="834552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4:21:02Z</dcterms:created>
  <dc:creator>Home</dc:creator>
  <dc:description/>
  <dc:language>en-US</dc:language>
  <cp:lastModifiedBy>Степенина Маргарита Анатольевна</cp:lastModifiedBy>
  <dcterms:modified xsi:type="dcterms:W3CDTF">2016-03-29T09:18:27Z</dcterms:modified>
  <cp:revision>220</cp:revision>
  <dc:subject/>
  <dc:title>Слайд 1</dc:title>
</cp:coreProperties>
</file>