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831-2482-489F-9A36-3FF43222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E4E-BEC0-4025-8E02-809033EE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EF5-1CD8-4AFA-B9B6-281272B4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5E35-2281-43A9-B477-E72B311B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94A2-189A-439E-B87E-3670B7E4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1D4D-7A48-4552-B9A5-A10254D4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BBB2-3DB1-4609-ADDC-C564C5E9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589-D3A5-497A-A7F0-26372377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9E83-BE0D-494A-B1BB-9B549371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7AE2-049E-4AE8-B05D-F3717100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4EA-2401-486D-B6D9-DC551133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C484-925A-4EB6-BD0A-59A0103D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4365-657E-422A-B654-FDC0310C0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ентация к у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я 10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Теоремы Чевы и Менел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мате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лицей №90 Корнилова Т. 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0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75880" cy="47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1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реугольнике АВС на стороне ВС взята точ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ак, ч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на продолжении стороны АС за точку А взята точка М так, что МА=АС. Пряма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ересекает сторону АВ в точ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Найдите: отнош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25200" y="6237360"/>
            <a:ext cx="82184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0"/>
              <p:cNvSpPr txBox="1"/>
              <p:nvPr/>
            </p:nvSpPr>
            <p:spPr>
              <a:xfrm>
                <a:off x="6659640" y="3841920"/>
                <a:ext cx="18619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31687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10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1640" y="259920"/>
            <a:ext cx="4321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условию задачи МА = АС,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усть МА = АС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рям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ресекает две стороны треугольника АВС и продолжение третьей. По теореме Менел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908000" y="2133720"/>
            <a:ext cx="1705320" cy="1942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H="1">
            <a:off x="0" y="2924280"/>
            <a:ext cx="305928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 flipH="1">
            <a:off x="539640" y="4076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2610000" y="172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104920" y="2944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618000" y="3952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1888920" y="40244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736560" y="40244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3113280" y="2655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2896920" y="215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3329280" y="30891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2752920" y="39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38636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3"/>
          <p:cNvSpPr/>
          <p:nvPr/>
        </p:nvSpPr>
        <p:spPr>
          <a:xfrm>
            <a:off x="1763640" y="40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4"/>
              <p:cNvSpPr txBox="1"/>
              <p:nvPr/>
            </p:nvSpPr>
            <p:spPr>
              <a:xfrm>
                <a:off x="3059280" y="5013360"/>
                <a:ext cx="55465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Rectangle 26"/>
          <p:cNvSpPr/>
          <p:nvPr/>
        </p:nvSpPr>
        <p:spPr>
          <a:xfrm>
            <a:off x="5941440" y="587628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733400"/>
                <a:tab algn="l" pos="267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2: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медиана треугольника АВС. На сторон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зята точ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к, чт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3:1. Прямая ВК разбивает треугольник АВС на два. Найдите отношение площадей этих треуг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120600" y="1125360"/>
            <a:ext cx="44593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еоремы Чев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 Менел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11280" y="2492280"/>
            <a:ext cx="8208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ладая литературой более обширной, чем алгебра и арифметика вместе взятые, и по крайней мере столь же обширной, как анализ, геометрия в большей степени чем любой другой раздел математики, является богатейшей сокровищницей интереснейших, но полузабытых вещей, которыми спешащее поколение не имеет времени насладить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. Т. Бел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ВИ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резок, соединяющий вершину треугольника с некоторой точкой на противополож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ороне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виа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если в треугольнике АВС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точки, лежащие на сторонах ВС, СА, АВ соответственно, то отрезки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ются чевиан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термин происходит от имени итальянского математ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жованни Че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в 1687 году опубликовал следующую очень полезну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оре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5"/>
          <p:cNvGraphicFramePr/>
          <p:nvPr/>
        </p:nvGraphicFramePr>
        <p:xfrm>
          <a:off x="4788000" y="1844640"/>
          <a:ext cx="363528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844640"/>
                    <a:ext cx="363528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орема Че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три чевианы 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В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( по одной из каждой вершины ) треугольнка АВС конкурентны, 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7"/>
              <p:cNvSpPr txBox="1"/>
              <p:nvPr/>
            </p:nvSpPr>
            <p:spPr>
              <a:xfrm>
                <a:off x="5435640" y="4724280"/>
                <a:ext cx="28814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XC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Y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YA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ZB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3" name="Object 9"/>
          <p:cNvGraphicFramePr/>
          <p:nvPr/>
        </p:nvGraphicFramePr>
        <p:xfrm>
          <a:off x="539640" y="1989000"/>
          <a:ext cx="417672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417672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755640" y="1773360"/>
          <a:ext cx="3816360" cy="30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73360"/>
                    <a:ext cx="3816360" cy="30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 txBox="1"/>
          <p:nvPr/>
        </p:nvSpPr>
        <p:spPr>
          <a:xfrm>
            <a:off x="4500720" y="1599840"/>
            <a:ext cx="418608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гда мы говорим, что три прямые ( или отрезка )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нкурентн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то мы имеем в виду, что все они проходят через одну точку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торую обозначим через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-4280760" y="3245760"/>
            <a:ext cx="37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84000" y="260280"/>
            <a:ext cx="352764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ОКАЗА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доказательств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оремы Чев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помним, что площади треугольников с равными высотами пропорциональны основаниям треуг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сылаясь на рисунок, мы име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4572000" y="4292640"/>
                <a:ext cx="42163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C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X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P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P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P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X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X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P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Rectangle 7"/>
          <p:cNvSpPr/>
          <p:nvPr/>
        </p:nvSpPr>
        <p:spPr>
          <a:xfrm flipV="1">
            <a:off x="0" y="108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4427640" y="3284640"/>
                <a:ext cx="42336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C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X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P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P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P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X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X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P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8"/>
              <p:cNvSpPr txBox="1"/>
              <p:nvPr/>
            </p:nvSpPr>
            <p:spPr>
              <a:xfrm>
                <a:off x="4500720" y="5229360"/>
                <a:ext cx="40431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P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Z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Z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P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8" name="Picture 11" descr=""/>
          <p:cNvPicPr/>
          <p:nvPr/>
        </p:nvPicPr>
        <p:blipFill>
          <a:blip r:embed="rId1"/>
          <a:stretch/>
        </p:blipFill>
        <p:spPr>
          <a:xfrm>
            <a:off x="1042920" y="3203640"/>
            <a:ext cx="309744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еперь, если мы перемножим их, то получ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332000" y="2852640"/>
                <a:ext cx="72723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C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A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PA</m:t>
                            </m:r>
                          </m:sub>
                        </m:sSub>
                      </m:den>
                    </m:f>
                    <m:r>
                      <m:t xml:space="preserve">х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P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P</m:t>
                            </m:r>
                          </m:sub>
                        </m:sSub>
                      </m:den>
                    </m:f>
                    <m:r>
                      <m:t xml:space="preserve">х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еорема Менела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точка А1 лежит на стороне ВС треугольника АВС, точка С1 – на стороне АВ, точка В1 – на продолжении стороны АС за точку С. Точки А1,В1 иС1 лежат на одной прямой тогда и только тогда, когда выполняется 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2050920" y="4797360"/>
                <a:ext cx="458316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4"/>
          <p:cNvSpPr/>
          <p:nvPr/>
        </p:nvSpPr>
        <p:spPr>
          <a:xfrm>
            <a:off x="684360" y="836640"/>
            <a:ext cx="2784240" cy="20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3419640" y="285264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1258920" y="1916280"/>
            <a:ext cx="417672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49280" y="27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853080" y="2924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960560" y="42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329280" y="294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329280" y="2008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097640" y="14320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250920" y="4543560"/>
            <a:ext cx="88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66560"/>
                <a:tab algn="l" pos="1981080"/>
                <a:tab algn="l" pos="3009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теорема Входит в золотой фонд древнегреческой математики. Она дошла до нас в арабском переводе книги «Сферика» Менелая Александрийского. Равенство Менелая можно записывать, начиная с любой вершины треугольника, в любом направлении ( по часовой стрелке, против часовой стрелки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5"/>
              <p:cNvSpPr txBox="1"/>
              <p:nvPr/>
            </p:nvSpPr>
            <p:spPr>
              <a:xfrm>
                <a:off x="5076720" y="476280"/>
                <a:ext cx="3679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Rectangle 18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7"/>
              <p:cNvSpPr txBox="1"/>
              <p:nvPr/>
            </p:nvSpPr>
            <p:spPr>
              <a:xfrm>
                <a:off x="5508720" y="3068640"/>
                <a:ext cx="299880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num>
                          <m:den>
                            <m:r>
                              <m:t xml:space="preserve">C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3:14:17Z</dcterms:created>
  <dc:creator>Пользователь</dc:creator>
  <dc:description/>
  <dc:language>en-US</dc:language>
  <cp:lastModifiedBy>Home</cp:lastModifiedBy>
  <dcterms:modified xsi:type="dcterms:W3CDTF">2012-11-25T14:59:27Z</dcterms:modified>
  <cp:revision>5</cp:revision>
  <dc:subject/>
  <dc:title>Теоремы Чевы  и Менелая </dc:title>
</cp:coreProperties>
</file>