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E52-4223-454D-A486-F0F6CFCF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E3B-00AF-4D8D-A79A-3B85B498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C23-1621-4DE6-BF24-934ED315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784-2095-4328-BF21-2C67E1A1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8DFD-92AB-4A40-B14D-83A89CEF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65EB-2E68-4863-9ADE-1A78771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FA00-AF6E-4962-A42A-4F35AD8B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44C6-0174-437F-A4F1-84158FA8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7201-B120-46DD-BB89-88CA8263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65D9-1B9E-49C4-AB8F-1CBB756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9E95-7167-434A-918A-2BBE66C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906-E3AB-425C-8E90-0BD22CE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35F8-5AA4-46B5-892C-A1BCB70B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B38-5811-4DBE-AA2F-5829D98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A0CF-083F-4531-8DEF-8010F7D3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6F44-CF28-4160-9B34-761791FA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502E-7FF5-4FA4-8B39-FBAE522B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F13-6311-4E4A-9C72-56D0BD6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739-8DF7-41CA-9D22-0946A7CF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094-6A44-4DBF-B67E-0BFDBB6C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737-97FD-4D0C-9EDB-C0EF6051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B0D-7A17-4BCD-BDCB-BDF6938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E81-400A-4263-8BB2-C9F155D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00B-8EF6-4AFB-A8C0-5504EE63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8B9-D8BF-48B9-966F-6C1AEDD6CE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B73D-987B-43F9-B91A-8904EBA21E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Thanksgiving Day 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6960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1298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4384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153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32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440" y="274680"/>
            <a:ext cx="78991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1139760"/>
            <a:ext cx="7777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7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9200" y="274680"/>
            <a:ext cx="7905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12:50:34Z</dcterms:created>
  <dc:creator>паша</dc:creator>
  <dc:description/>
  <dc:language>en-US</dc:language>
  <cp:lastModifiedBy>паша</cp:lastModifiedBy>
  <dcterms:modified xsi:type="dcterms:W3CDTF">2016-11-23T23:39:52Z</dcterms:modified>
  <cp:revision>1</cp:revision>
  <dc:subject/>
  <dc:title>Thanksgiving Day </dc:title>
</cp:coreProperties>
</file>