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0.png" ContentType="image/png"/>
  <Override PartName="/ppt/media/image9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22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21.png" ContentType="image/png"/>
  <Override PartName="/ppt/media/image20.jpeg" ContentType="image/jpeg"/>
  <Override PartName="/ppt/media/image15.jpeg" ContentType="image/jpeg"/>
  <Override PartName="/ppt/media/image18.jpeg" ContentType="image/jpeg"/>
  <Override PartName="/ppt/media/image17.jpeg" ContentType="image/jpeg"/>
  <Override PartName="/ppt/media/image16.png" ContentType="image/png"/>
  <Override PartName="/ppt/media/image1.png" ContentType="image/png"/>
  <Override PartName="/ppt/media/image3.jpeg" ContentType="image/jpeg"/>
  <Override PartName="/ppt/media/image24.jpeg" ContentType="image/jpeg"/>
  <Override PartName="/ppt/media/image2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965F6-1ACF-4401-818E-F812B24C969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Обучение графическим навыкам  детей дошкольного возрас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0E5E1-F8DE-444C-9FCD-97CD392DC4B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и приемы: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достижения графических навыков у старших дошкольников в практической работе использовались следующие метод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ы и приемы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овесные (рассказ, беседа, объяснение детьми рассказов и сказок, обсуждение, объяснение, проговаривание чистоговорок, потешек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5E703-54D2-4F0B-AB85-8C48BF869F7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глядные (наблюдение, демонстрация наглядных пособий, иллюстраций, трафареты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ь которой являлась Формирование глазомера, зрительной памяти; развитие устойчивого, сосредоточенного внимания, развитие зрительно-двигательной координации, произвольности, воспитание трудолюбия, усидчив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70C6C-8DB9-48DC-9F4E-2C376FB3604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ктические (упражнения, творческая деятельность, выполнения графического диктанта, обведение узоров по трафаретам, самостоятельное рисование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ь практического задания способствовала формированию глазомера, зрительной памяти, развития воображения, развития зрительного и кинетического восприятия, зрительно-двигательной координации, произвольности, точности движ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9742B-4A64-46FD-B5C6-DA99A24C8B1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к же в ходе занятий использовались Игровые методы (дидактическая игра, воображаемая ситуация, здоровьесберегающие игры (пальчиковые игры, дыхательные гимнастики, физкультминутки подвижные игры и др.), сюрпризные моменты, загадки, игры для воспитания гуманных отношений. Которые проводятся с целью поднятия настроения, выработки зрительно-двигательной координации, точности движ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FDE1A-674B-44A3-B843-A5CF35565A8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ким образам, к моменту поступления детей в школу, глаз и рука ребенка в какой-то мере уже подготовлены к письму. Однако движения, совершаемые нами в процессе письма, не могут быть воспроизведены ни в рисовании, ни в лепке (наиболее близкие к письму виды деятельности. Поэтому в графических навыков  используют и применяют различные упражнения игры, которые в процессе письма вовлекают в работу  движения пальцев, мыслительной деятельности, зрительного воприятия, помогают ориентироваться на листе бумаг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8F18F-E7BC-4A04-86E1-B2CD302664E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Графические навыки – определенные привычные положения движения пишущей и рисующей руки, позволяющей изображать знаки и их соединения</a:t>
            </a:r>
            <a:r>
              <a:rPr b="0" lang="ru-RU" sz="1100" spc="-1" strike="noStrike">
                <a:solidFill>
                  <a:srgbClr val="1f497d"/>
                </a:solidFill>
                <a:latin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000000"/>
                </a:solidFill>
                <a:latin typeface="Calibri"/>
              </a:rPr>
              <a:t>Графический навык предполагает:</a:t>
            </a:r>
            <a:br>
              <a:rPr sz="1100"/>
            </a:br>
            <a:r>
              <a:rPr b="0" lang="ru-RU" sz="1200" spc="-1" strike="noStrike">
                <a:solidFill>
                  <a:srgbClr val="ff0066"/>
                </a:solidFill>
                <a:latin typeface="Calibri"/>
              </a:rPr>
              <a:t>умение красиво и легко (а значит ненапряженно) рисовать колебательными, вращательными, плавными, отрывными и ритмизированными движениями графические элементы различного содержания (предметные изображения, линии любой конфигурации - широкие, узкие, нитевидные, ломаные, спиралевидные). </a:t>
            </a:r>
            <a:br>
              <a:rPr sz="1200"/>
            </a:br>
            <a:r>
              <a:rPr b="0" lang="ru-RU" sz="1200" spc="-1" strike="noStrike">
                <a:solidFill>
                  <a:srgbClr val="ff0066"/>
                </a:solidFill>
                <a:latin typeface="Calibri"/>
              </a:rPr>
              <a:t>- легко и непринужденно удерживать пишущий инструмент (карандаш, ручку), соблюдая необходимый угол наклона;</a:t>
            </a:r>
            <a:br>
              <a:rPr sz="1200"/>
            </a:br>
            <a:r>
              <a:rPr b="0" lang="ru-RU" sz="1200" spc="-1" strike="noStrike">
                <a:solidFill>
                  <a:srgbClr val="ff0066"/>
                </a:solidFill>
                <a:latin typeface="Calibri"/>
              </a:rPr>
              <a:t>- устойчивое сохранение правильной позы у рисующего или пишущего ребенка;</a:t>
            </a:r>
            <a:br>
              <a:rPr sz="1200"/>
            </a:br>
            <a:r>
              <a:rPr b="0" lang="ru-RU" sz="1200" spc="-1" strike="noStrike">
                <a:solidFill>
                  <a:srgbClr val="ff0066"/>
                </a:solidFill>
                <a:latin typeface="Calibri"/>
              </a:rPr>
              <a:t>- выполнение графических движений с интересом, увлеченно, без повышенной напряженности</a:t>
            </a:r>
            <a:r>
              <a:rPr b="0" lang="ru-RU" sz="1200" spc="-1" strike="noStrike">
                <a:solidFill>
                  <a:srgbClr val="9900cc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11533-85B6-46DF-A7BA-55188A577EB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формировании графических навыков выделяется три основных этап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 этап- аналитиче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вычисления и овладения отдельными элементами действия, уяснения содержания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2 этап- синтетически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соединения отдельных элементов в целостное действи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3 этап- автоматиз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фактическое образования собственного навыка как действия, характеризирующегося высокой степенью и отсутствием регуляции и контроля.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 эти этапы необходимо развивать в процессе формирования графических навы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CA9B6-7CDF-4BEA-ADFC-C5F5CCE5E7A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ногие дети дошкольного возраста плохо ориентируются на листе бумаги. Поэтому целесообразно проводить с ними графические задания, диктанты, упражнения на развитие зрительного восприятия. Они помогают формированию и совершенствованию ориентировки на листе бумаги.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та проводится на листах большого формата и опирается на активную деятельность детей с игрушками и геометрическим материал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465C0-12B0-47A2-8F53-B9D57F381F6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блема обучения дошкольников графическим навыкам письма занимает особое место в системе подготовки к обучению в школ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этому для формирования </a:t>
            </a: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у детей старшего дошкольного возраста содержания графическим упражнениям разнообразн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(Штрихов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Обведени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Дорисовывани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Рисование орнаментов и узор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Раскрашивание картинок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Графические задания</a:t>
            </a:r>
            <a:r>
              <a:rPr b="0" lang="en-US" sz="1200" spc="-1" strike="noStrike">
                <a:solidFill>
                  <a:srgbClr val="800080"/>
                </a:solidFill>
                <a:latin typeface="Calibri"/>
              </a:rPr>
              <a:t>;</a:t>
            </a: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Работа с клеточкой</a:t>
            </a:r>
            <a:r>
              <a:rPr b="0" lang="en-US" sz="1200" spc="-1" strike="noStrike">
                <a:solidFill>
                  <a:srgbClr val="80008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FB7E4-02CE-4F82-B0EB-E4D051631A7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к же обучения графических навыков делится на несколько блок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имер, при выполнении графических упражнений первого блока дети закрепляют умения держать карандаш ( или фломастер) свободно, легко производить им движения в различных направлениях. Для этого используются графические упражнения как (шриховка) замкнутые фор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триховка развивает глазомер, формирует умение видеть контуры фигур и при штриховании не выходить за их пределы, соблюдая одинаковое расстояние между линиями, развивает мелкие мышцы пальцев, делает их более послушны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DC74C-20E5-46C2-B8C7-910BFB757DA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пустим, в следующем блоке происходит усложнения графическим упражнений путем использования линий более сложной конфигурации, ( воспроизведения узоров по клеточкам, самостоятельного декорирования предметных изображений предложенными элементами.) дети упражняются в плавном, равномерном чередовании и изменении движений руки под контролем зр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EB2F1-E96D-46FE-8DD9-B3CA678CA40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копление графического опыта идет параллельно с закреплением умения ориентироваться в пространстве. Используются Графические игры и упражнения (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Найди фрагмент изображения, Найди фрагмент изображения, Выстрой кубики в ряд по клеточкам (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исунок по клеточкам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,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репляет умения не только следовать заданному пространственному расположению, но и точно подсчитывать клеточки, расстояния между фигурами, употреблять соответствующие пространственные терми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полнения графических упражнений этого блока требует более уверенного, целенаправленного характера движений руки ребенк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13097-828A-4BE0-B658-CF2A2978673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ледующий блок- дети закрепляют приемы расположения графическим элементов на плоскости, упражняются в правильном определений направления линии и движений руки, четкой передаче конфигурации элементов узора, с учетом ритма, симметр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ложнения перетерпливают характер  графических упражнений (использование, точек, штрихов, графем.)  Комбинируются петельные, зигзагообразные, спиралевидные элементы, создание образов элементов(цветов, веток, ягод,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полнения графических упражнений этого блока требует от детей более высокой степени точ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полнительные задания, требующие создания объемных изображений, могут быть выполнены на отдельных листах бумаг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B08C6-BD73-4047-B433-174A762DFB1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76B73-F496-49BD-9A29-34BC42DA4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78B51-89E6-44DB-8DFB-AC9B9C9E7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9F455-BA42-474A-AEF5-4A8D976E7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CF21C-3761-43C6-9745-14BEB4A78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CFE52-BBB0-48B6-9C9B-F44911572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6C31B-AF88-42DC-8D11-3A65EB943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D1280-0813-49E9-A2A3-9B6874EDD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8670B-5406-4E2D-B674-D5FBBDEDD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0E395-F28E-43F5-9AC5-EB4B23FF4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11EEE-AD43-40F6-9003-6753A4176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C0ED2-963C-48CA-808F-16B4875A3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BFE92-650D-4D1B-A12F-2683D4ABA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6BF8E-9C08-453D-8F29-B6323BE7B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BDA44-5563-4EB9-8FA9-18AA9D574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60307-3EE9-47F2-80B4-62DEA8E2B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60B23-BB8E-4BF5-8CFB-BFA92CFB8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C1F78-D4E3-4F41-8879-C830E3BA3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2472F-1F83-4763-B5C7-07B2D2399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D37D4-5116-4C40-85ED-11C1BB6DF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BEB2E-E7A1-493C-A686-C69B2198F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8FBAC-EF14-461C-BB3C-A5F6DE27B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4B383-C9C9-47F6-986E-0CC8CDA16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D982C-9060-440A-B1AA-9AF4A723A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D8ECB-6D74-4165-B568-A4B69C6F5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>
              <a:gd name="textAreaLeft" fmla="*/ 0 w 285480"/>
              <a:gd name="textAreaRight" fmla="*/ 285840 w 285480"/>
              <a:gd name="textAreaTop" fmla="*/ 0 h 209520"/>
              <a:gd name="textAreaBottom" fmla="*/ 209880 h 209520"/>
            </a:gdLst>
            <a:ahLst/>
            <a:rect l="textAreaLeft" t="textAreaTop" r="textAreaRight" b="textAreaBottom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3FF10-9008-4A2F-B206-4B8AF7AC3EF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00667-04C8-4EA4-A755-5D12E7744B34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4360" y="765000"/>
            <a:ext cx="7772400" cy="31687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Обучение</a:t>
            </a:r>
            <a:br>
              <a:rPr sz="4400"/>
            </a:b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 графическим навыкам детей дошкольного возраст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2268360" y="4220640"/>
            <a:ext cx="6400800" cy="153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9933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ыполнила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тудентка 143 группы Куртина Виктор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еподаватель: О.Г. Гольска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lus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115480" cy="12938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методы и приемы:</a:t>
            </a: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	</a:t>
            </a:r>
            <a:br>
              <a:rPr sz="3200"/>
            </a:b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-360" y="1071720"/>
            <a:ext cx="964404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ловесные (рассказ, беседа, объяснение детьми рассказов и сказок, обсуждение, объяснение, проговаривание чистоговорок, потешек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714240" y="3214440"/>
            <a:ext cx="4429440" cy="85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9000"/>
          </a:bodyPr>
          <a:p>
            <a:pPr marL="133560" indent="-1335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«Дом и ворота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133560" indent="-1335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На поляне дом стоит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33560" indent="-1335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Ну а к дому путь закрыт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33560" indent="-1335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Мы ворота открываем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33560" indent="-1335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В этот домик приглашае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33560" indent="-1335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1" name="Содержимое 5" descr="kpa8HihFxCw.jpg"/>
          <p:cNvPicPr/>
          <p:nvPr/>
        </p:nvPicPr>
        <p:blipFill>
          <a:blip r:embed="rId1"/>
          <a:stretch/>
        </p:blipFill>
        <p:spPr>
          <a:xfrm>
            <a:off x="4143240" y="3286080"/>
            <a:ext cx="4572000" cy="266868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/>
          </p:nvPr>
        </p:nvSpPr>
        <p:spPr>
          <a:xfrm>
            <a:off x="457200" y="285480"/>
            <a:ext cx="8686800" cy="285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глядные (наблюдение, демонстрация наглядных пособий, иллюстраций, трафареты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3" name="Содержимое 7" descr="various-spirograph-designs1.jpg"/>
          <p:cNvPicPr/>
          <p:nvPr/>
        </p:nvPicPr>
        <p:blipFill>
          <a:blip r:embed="rId1"/>
          <a:stretch/>
        </p:blipFill>
        <p:spPr>
          <a:xfrm>
            <a:off x="285840" y="1928880"/>
            <a:ext cx="4000320" cy="2705040"/>
          </a:xfrm>
          <a:prstGeom prst="rect">
            <a:avLst/>
          </a:prstGeom>
          <a:ln w="0">
            <a:noFill/>
          </a:ln>
        </p:spPr>
      </p:pic>
      <p:pic>
        <p:nvPicPr>
          <p:cNvPr id="254" name="Рисунок 8" descr="13086.jpg"/>
          <p:cNvPicPr/>
          <p:nvPr/>
        </p:nvPicPr>
        <p:blipFill>
          <a:blip r:embed="rId2"/>
          <a:stretch/>
        </p:blipFill>
        <p:spPr>
          <a:xfrm>
            <a:off x="4286160" y="3786120"/>
            <a:ext cx="4667400" cy="307188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 txBox="1"/>
          <p:nvPr/>
        </p:nvSpPr>
        <p:spPr>
          <a:xfrm>
            <a:off x="464832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lus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/>
          </p:nvPr>
        </p:nvSpPr>
        <p:spPr>
          <a:xfrm>
            <a:off x="0" y="356760"/>
            <a:ext cx="9715680" cy="24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актические (упражнения, творческая деятельность, выполнения графического диктанта, обведение узоров по трафаретам, самостоятельное рисование узоро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7" name="Содержимое 5" descr="grafi4eskii_diktant_nataliigromaster_11.JPG"/>
          <p:cNvPicPr/>
          <p:nvPr/>
        </p:nvPicPr>
        <p:blipFill>
          <a:blip r:embed="rId1"/>
          <a:stretch/>
        </p:blipFill>
        <p:spPr>
          <a:xfrm>
            <a:off x="4143240" y="2928960"/>
            <a:ext cx="4445280" cy="2500200"/>
          </a:xfrm>
          <a:prstGeom prst="rect">
            <a:avLst/>
          </a:prstGeom>
          <a:ln w="0">
            <a:noFill/>
          </a:ln>
        </p:spPr>
      </p:pic>
      <p:pic>
        <p:nvPicPr>
          <p:cNvPr id="258" name="Содержимое 6" descr="grafdkt.gif"/>
          <p:cNvPicPr/>
          <p:nvPr/>
        </p:nvPicPr>
        <p:blipFill>
          <a:blip r:embed="rId2"/>
          <a:stretch/>
        </p:blipFill>
        <p:spPr>
          <a:xfrm>
            <a:off x="571680" y="2643120"/>
            <a:ext cx="3458880" cy="307188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Игровые методы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Пальчиковые игры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1" name="Содержимое 5" descr="80.jpg"/>
          <p:cNvPicPr/>
          <p:nvPr/>
        </p:nvPicPr>
        <p:blipFill>
          <a:blip r:embed="rId1"/>
          <a:stretch/>
        </p:blipFill>
        <p:spPr>
          <a:xfrm>
            <a:off x="0" y="2071800"/>
            <a:ext cx="4186080" cy="350208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 txBox="1"/>
          <p:nvPr/>
        </p:nvSpPr>
        <p:spPr>
          <a:xfrm>
            <a:off x="4500720" y="2571840"/>
            <a:ext cx="418608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Физкультминутки, подвижные игр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3" name="Рисунок 7" descr="физкультминрутка.jpg"/>
          <p:cNvPicPr/>
          <p:nvPr/>
        </p:nvPicPr>
        <p:blipFill>
          <a:blip r:embed="rId2"/>
          <a:stretch/>
        </p:blipFill>
        <p:spPr>
          <a:xfrm>
            <a:off x="4191120" y="3357720"/>
            <a:ext cx="4762440" cy="285732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afe1ff"/>
                </a:solidFill>
                <a:latin typeface="Arial"/>
              </a:rPr>
              <a:t>Спасибо за внимание!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65" name="Picture 6" descr="detsad2_big"/>
          <p:cNvPicPr/>
          <p:nvPr/>
        </p:nvPicPr>
        <p:blipFill>
          <a:blip r:embed="rId1"/>
          <a:stretch/>
        </p:blipFill>
        <p:spPr>
          <a:xfrm>
            <a:off x="1571760" y="1428840"/>
            <a:ext cx="5840280" cy="482904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14200" y="2858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ccecff"/>
                </a:solidFill>
                <a:uFillTx/>
                <a:latin typeface="Arial"/>
              </a:rPr>
              <a:t>Список информационных ресурсов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1. В.А.Илюхина «Волшебные линии». Дрофа, Москва 2005 г.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2. Т.С.Голубина «Чему научит клеточка». МОЗАИКА – СИНТЕЗ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3. И. Малюкова «Игровой самомассаж как средство подготовки руки к письму». //Дошкольное воспитание. 2008г. №2; 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4. А.Алексеева «Формирование готовности к овладению чтением и письмом». // Дошкольное воспитание. 2007г. №3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5 .В.В.Цвынтарный «Играем пальчиками развиваем речь». Центр полиграф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6. Любина Г. Желонкин О. «Рука развивает мозг»// Ребенок в детском саду. 2003г. №5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7. Подготовка руки ребенка к письму. // Начальная школа. 1993г. №3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8. ivalex. viscom.ru. – «Всё для детского сада»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lus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610920" y="1285920"/>
            <a:ext cx="7775640" cy="396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ecff"/>
                </a:solidFill>
                <a:latin typeface="Arial"/>
              </a:rPr>
              <a:t>Графические навыки – определенные привычные положения движения пишущей и рисующей руки, позволяющей изображать знаки и их соединения</a:t>
            </a: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1" name="Picture 7" descr="P260314_17"/>
          <p:cNvPicPr/>
          <p:nvPr/>
        </p:nvPicPr>
        <p:blipFill>
          <a:blip r:embed="rId1"/>
          <a:stretch/>
        </p:blipFill>
        <p:spPr>
          <a:xfrm>
            <a:off x="1143000" y="3000240"/>
            <a:ext cx="2643120" cy="344664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5" descr="P260314_17"/>
          <p:cNvPicPr/>
          <p:nvPr/>
        </p:nvPicPr>
        <p:blipFill>
          <a:blip r:embed="rId2"/>
          <a:stretch/>
        </p:blipFill>
        <p:spPr>
          <a:xfrm>
            <a:off x="4000680" y="3357720"/>
            <a:ext cx="4190760" cy="227484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400960" cy="1222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В формировании графических навыков выделяется три основных этапа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1 этап- аналитически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2 этап- синтетически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3 этап- автоматизац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lus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4982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edbff"/>
                </a:solidFill>
                <a:latin typeface="Times New Roman"/>
              </a:rPr>
              <a:t>Графические диктанты.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6" name="Picture 7" descr="IMG0053A"/>
          <p:cNvPicPr/>
          <p:nvPr/>
        </p:nvPicPr>
        <p:blipFill>
          <a:blip r:embed="rId1"/>
          <a:stretch/>
        </p:blipFill>
        <p:spPr>
          <a:xfrm>
            <a:off x="4265640" y="2001960"/>
            <a:ext cx="4608360" cy="3456000"/>
          </a:xfrm>
          <a:prstGeom prst="rect">
            <a:avLst/>
          </a:prstGeom>
          <a:ln w="0">
            <a:noFill/>
          </a:ln>
        </p:spPr>
      </p:pic>
      <p:pic>
        <p:nvPicPr>
          <p:cNvPr id="227" name="Содержимое 5" descr="4366-raskraska-Graficheskiy-diktant-Zmeyka.jpg"/>
          <p:cNvPicPr/>
          <p:nvPr/>
        </p:nvPicPr>
        <p:blipFill>
          <a:blip r:embed="rId2"/>
          <a:stretch/>
        </p:blipFill>
        <p:spPr>
          <a:xfrm>
            <a:off x="0" y="1571760"/>
            <a:ext cx="4200480" cy="452592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4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6778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ccecff"/>
                </a:solidFill>
                <a:uFillTx/>
                <a:latin typeface="Arial"/>
              </a:rPr>
              <a:t>5-7 лет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edbff"/>
                </a:solidFill>
                <a:latin typeface="Arial"/>
              </a:rPr>
              <a:t>Для формирования </a:t>
            </a:r>
            <a:r>
              <a:rPr b="0" lang="ru-RU" sz="2800" spc="-1" strike="noStrike">
                <a:solidFill>
                  <a:srgbClr val="afe1ff"/>
                </a:solidFill>
                <a:latin typeface="Arial"/>
              </a:rPr>
              <a:t>у детей старшего дошкольного возраста содержания графическим упражнениям разнообразн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fe1ff"/>
                </a:solidFill>
                <a:latin typeface="Arial"/>
              </a:rPr>
              <a:t>Штриховк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fe1ff"/>
                </a:solidFill>
                <a:latin typeface="Arial"/>
              </a:rPr>
              <a:t>Обведение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fe1ff"/>
                </a:solidFill>
                <a:latin typeface="Arial"/>
              </a:rPr>
              <a:t>Дорисовывание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fe1ff"/>
                </a:solidFill>
                <a:latin typeface="Arial"/>
              </a:rPr>
              <a:t>Рисование орнаментов и узоров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fe1ff"/>
                </a:solidFill>
                <a:latin typeface="Arial"/>
              </a:rPr>
              <a:t>Раскрашивание картинок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fe1ff"/>
                </a:solidFill>
                <a:latin typeface="Arial"/>
              </a:rPr>
              <a:t>Графические задания</a:t>
            </a:r>
            <a:r>
              <a:rPr b="0" lang="en-US" sz="2800" spc="-1" strike="noStrike">
                <a:solidFill>
                  <a:srgbClr val="afe1ff"/>
                </a:solidFill>
                <a:latin typeface="Arial"/>
              </a:rPr>
              <a:t>;</a:t>
            </a:r>
            <a:r>
              <a:rPr b="0" lang="ru-RU" sz="2800" spc="-1" strike="noStrike">
                <a:solidFill>
                  <a:srgbClr val="afe1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fe1ff"/>
                </a:solidFill>
                <a:latin typeface="Arial"/>
              </a:rPr>
              <a:t>Работа с клеточкой</a:t>
            </a:r>
            <a:r>
              <a:rPr b="0" lang="en-US" sz="2800" spc="-1" strike="noStrike">
                <a:solidFill>
                  <a:srgbClr val="afe1ff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0" name="Picture 11" descr=""/>
          <p:cNvPicPr/>
          <p:nvPr/>
        </p:nvPicPr>
        <p:blipFill>
          <a:blip r:embed="rId1"/>
          <a:stretch/>
        </p:blipFill>
        <p:spPr>
          <a:xfrm>
            <a:off x="6572160" y="3730680"/>
            <a:ext cx="2379600" cy="264960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203280" y="259920"/>
            <a:ext cx="2808360" cy="647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edbff"/>
                </a:solidFill>
                <a:latin typeface="Times New Roman"/>
              </a:rPr>
              <a:t>Штриховка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2" name="Picture 9" descr=""/>
          <p:cNvPicPr/>
          <p:nvPr/>
        </p:nvPicPr>
        <p:blipFill>
          <a:blip r:embed="rId1"/>
          <a:stretch/>
        </p:blipFill>
        <p:spPr>
          <a:xfrm>
            <a:off x="214200" y="785880"/>
            <a:ext cx="2346480" cy="331128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10" descr=""/>
          <p:cNvPicPr/>
          <p:nvPr/>
        </p:nvPicPr>
        <p:blipFill>
          <a:blip r:embed="rId2"/>
          <a:stretch/>
        </p:blipFill>
        <p:spPr>
          <a:xfrm>
            <a:off x="6715080" y="3429000"/>
            <a:ext cx="1947960" cy="316872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11" descr=""/>
          <p:cNvPicPr/>
          <p:nvPr/>
        </p:nvPicPr>
        <p:blipFill>
          <a:blip r:embed="rId3"/>
          <a:stretch/>
        </p:blipFill>
        <p:spPr>
          <a:xfrm>
            <a:off x="2500200" y="2571840"/>
            <a:ext cx="4249800" cy="274644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18840" y="366480"/>
            <a:ext cx="7953480" cy="495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edbff"/>
                </a:solidFill>
                <a:latin typeface="Times New Roman"/>
              </a:rPr>
              <a:t>Рисование орнаментов и узоров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6" name="Picture 6" descr=""/>
          <p:cNvPicPr/>
          <p:nvPr/>
        </p:nvPicPr>
        <p:blipFill>
          <a:blip r:embed="rId1"/>
          <a:stretch/>
        </p:blipFill>
        <p:spPr>
          <a:xfrm>
            <a:off x="785880" y="1214280"/>
            <a:ext cx="7669080" cy="545004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14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Графические игры и упражнения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4000" y="1125000"/>
            <a:ext cx="3166920" cy="10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Выстрой кубики в ря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9" name="Picture 18" descr=""/>
          <p:cNvPicPr/>
          <p:nvPr/>
        </p:nvPicPr>
        <p:blipFill>
          <a:blip r:embed="rId1"/>
          <a:stretch/>
        </p:blipFill>
        <p:spPr>
          <a:xfrm>
            <a:off x="3786120" y="1071720"/>
            <a:ext cx="5113440" cy="828360"/>
          </a:xfrm>
          <a:prstGeom prst="rect">
            <a:avLst/>
          </a:prstGeom>
          <a:ln w="0">
            <a:noFill/>
          </a:ln>
        </p:spPr>
      </p:pic>
      <p:pic>
        <p:nvPicPr>
          <p:cNvPr id="240" name="Содержимое 10" descr="img.jpg"/>
          <p:cNvPicPr/>
          <p:nvPr/>
        </p:nvPicPr>
        <p:blipFill>
          <a:blip r:embed="rId2"/>
          <a:stretch/>
        </p:blipFill>
        <p:spPr>
          <a:xfrm>
            <a:off x="4214880" y="2500200"/>
            <a:ext cx="3240000" cy="390996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 txBox="1"/>
          <p:nvPr/>
        </p:nvSpPr>
        <p:spPr>
          <a:xfrm>
            <a:off x="3643200" y="1999800"/>
            <a:ext cx="5043600" cy="7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Найди фрагмент изображ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2" name="Рисунок 11" descr="6430021_38210.jpg"/>
          <p:cNvPicPr/>
          <p:nvPr/>
        </p:nvPicPr>
        <p:blipFill>
          <a:blip r:embed="rId3"/>
          <a:stretch/>
        </p:blipFill>
        <p:spPr>
          <a:xfrm>
            <a:off x="357120" y="2000160"/>
            <a:ext cx="3357720" cy="392904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Петельные, создание образов элементов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5" name="Содержимое 7" descr="3259796.jpg"/>
          <p:cNvPicPr/>
          <p:nvPr/>
        </p:nvPicPr>
        <p:blipFill>
          <a:blip r:embed="rId1"/>
          <a:stretch/>
        </p:blipFill>
        <p:spPr>
          <a:xfrm>
            <a:off x="6143760" y="1571760"/>
            <a:ext cx="2820960" cy="282096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17" descr="пропись"/>
          <p:cNvPicPr/>
          <p:nvPr/>
        </p:nvPicPr>
        <p:blipFill>
          <a:blip r:embed="rId2"/>
          <a:stretch/>
        </p:blipFill>
        <p:spPr>
          <a:xfrm>
            <a:off x="3500280" y="3284640"/>
            <a:ext cx="2659320" cy="3573360"/>
          </a:xfrm>
          <a:prstGeom prst="rect">
            <a:avLst/>
          </a:prstGeom>
          <a:ln w="0">
            <a:noFill/>
          </a:ln>
        </p:spPr>
      </p:pic>
      <p:pic>
        <p:nvPicPr>
          <p:cNvPr id="247" name="Содержимое 10" descr="img.png"/>
          <p:cNvPicPr/>
          <p:nvPr/>
        </p:nvPicPr>
        <p:blipFill>
          <a:blip r:embed="rId3"/>
          <a:stretch/>
        </p:blipFill>
        <p:spPr>
          <a:xfrm>
            <a:off x="428760" y="1714680"/>
            <a:ext cx="3157560" cy="369072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29T11:35:37Z</dcterms:created>
  <dc:creator>Оля</dc:creator>
  <dc:description/>
  <dc:language>en-US</dc:language>
  <cp:lastModifiedBy>ё</cp:lastModifiedBy>
  <dcterms:modified xsi:type="dcterms:W3CDTF">2016-12-06T08:59:33Z</dcterms:modified>
  <cp:revision>120</cp:revision>
  <dc:subject/>
  <dc:title>Развитие графических навыков у детей дошкольного возраста</dc:title>
</cp:coreProperties>
</file>