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7A4-74C5-4619-BA41-F4ABEBEC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BB3-598A-4D6E-BCB9-FCB0F949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810-0D28-4106-A4A8-A9B43746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315-1337-4C60-8E47-8400BA32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ACE-0A57-466C-AAFB-385627B7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170-8804-4D9F-8E81-2F842253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294-09B8-4AF1-A286-81C8BE0F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ECE-5442-4969-AABF-CFDBDC01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0B2-D9E0-4B54-8579-7EAF6B30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831-E422-451D-9AE0-D9314EB6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6AC-664D-4FEE-999B-A3F46B4B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CB3-20D1-4740-BF0C-AAF701B5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151F-4FEE-4049-B5AF-3306B9D3EB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637000"/>
            <a:ext cx="64008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ект «Моя семья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таршей группе детского са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втор проект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спитател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ёмина Татьяна  Анатоль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200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5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7989840" cy="36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just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семейных газет «Папа , мама, я -дружная семья»(традиции и увлечения взрослых и детей в праздники и будни)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тавка детских рисунков «Моя семья», «Я и мамочка моя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ое собрание: «Как хорошо, что есть семья, которая от любых бед хранит меня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819440" y="404640"/>
            <a:ext cx="550512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а  дружная  сем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мейная газе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мейная газ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Объект 1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мейная газ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мейная газ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а рисун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Объект 2" descr="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liubavyshka.ru/_ph/4/1/421068183.jpg"/>
          <p:cNvPicPr/>
          <p:nvPr/>
        </p:nvPicPr>
        <p:blipFill>
          <a:blip r:embed="rId1"/>
          <a:stretch/>
        </p:blipFill>
        <p:spPr>
          <a:xfrm>
            <a:off x="3348000" y="285264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формационная карта 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дры-воспитатели, музыкальный работ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од, представивший проект- Кин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 проекта- информационно-творчески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ней продолжи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возраст детей:5-6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рок проведения : с 1 марта по 1 апр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ить представления у детей о семье через организацию различных видов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ть условия для повышения активности участия родителей в жизни груп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ткое содержание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нятия, беседы, создание семейной газеты «Наша дружная семья», игровая деятельность, чтение художественной литературы, заучивание стихов,  родительское собрание « Как хорошо, что есть семья», драматизация сказки, выставка рисунков к «Моя семья» «Я и мамочка мо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жидаемые результаты-продукт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тизация знаний детей о семье, семейная газета «Мама, папа, я – дружная семья», рисунки на тему «Моя сем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я анкетирование среди детей, выяснилось, что не все дети знают как зовут членов семьи, кем работают их родители, бабушки, дедушки. Поэтому мы должны помочь  детям узнать о семье ,структуре семьи, воспитывать любовь и уважение к членам семь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ть у детей представления о семье, структуре семь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у детей любовь и уважение к членам семь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творческие способности взрослых и детей в процессе совместной деятельности, развивать  мышление, речь, коммуникативные навы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ивизировать  словарь детей на тему родственных отнош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ы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седа « Что такое семья?»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южетно- ролевые игры: «Семья»,»Магазин», «Дочки-матер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тельское собрание «Как хорошо , что есть семь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весные игры: «Кто старше?», «Кто младше?», «Исправь Незнайку», «Доскажи словечк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льно-печатные игры «Кому что нужно для работы», «Професс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ение и заучивание стихов :Е.Благинина «Посидим в тишине», сказки «Гуси-лебеди», «Сестрица Алёнушка и братец Ивануш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ы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ение сказки «Кукушка», «Крошечка-Хаврошечка» «Морозк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седы: «Выходной день в моей семье». «Как я помогаю дома», «Кем работают мои родител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ение пословиц и поговорок о сем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лушивание и заучивание песен о сем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аматизация сказки «Красная Шапоч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готовление поделок к 8 мар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исование на тему «Моя семь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7:56:31Z</dcterms:created>
  <dc:creator>User</dc:creator>
  <dc:description/>
  <dc:language>en-US</dc:language>
  <cp:lastModifiedBy>методический кабинет</cp:lastModifiedBy>
  <dcterms:modified xsi:type="dcterms:W3CDTF">2014-04-03T09:50:51Z</dcterms:modified>
  <cp:revision>23</cp:revision>
  <dc:subject/>
  <dc:title>Проект «Моя семья»</dc:title>
</cp:coreProperties>
</file>