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8DF-4C5B-4979-BD22-8384EEF0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AFE-615E-4A57-8265-5F00449E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810-3328-454D-823B-6F005F5C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2D8-793E-4273-AFC3-665A8F9F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D56-912F-4918-86EE-C6412736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F9A-937E-40CC-8EFD-217B9B2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A17-3373-43B5-B535-DD69CB7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828-BAEC-45FC-8F23-BC820EC6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596-0B96-42FE-B758-C8160EB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67A-0188-45A9-8BFF-1B5CD3A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C3B-1265-4BA8-BC22-277017E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62D-C100-49EF-9309-431E211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093-0F3D-4B56-B54A-A0AC66F48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6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6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0066"/>
                </a:solidFill>
                <a:uFillTx/>
                <a:latin typeface="Georgia"/>
              </a:rPr>
              <a:t>КТО ЭТО?</a:t>
            </a:r>
            <a:br>
              <a:rPr sz="5400"/>
            </a:br>
            <a:br>
              <a:rPr sz="5400"/>
            </a:br>
            <a:r>
              <a:rPr b="0" lang="en-US" sz="1800" spc="-1" strike="noStrike">
                <a:solidFill>
                  <a:srgbClr val="660066"/>
                </a:solidFill>
                <a:latin typeface="Georgia"/>
              </a:rPr>
              <a:t>ЗАГАДКИ ДЛЯ САМЫХ МАЛЕНЬ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873080" cy="2729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438280" cy="205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286000" cy="224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1543320" cy="27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267080" y="5181480"/>
            <a:ext cx="1676520" cy="143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304920"/>
            <a:ext cx="213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4724280"/>
            <a:ext cx="1371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74320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7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0" y="54097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Домик мой всегда при мн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и ношу я на спине (ули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56272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838080"/>
            <a:ext cx="563904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75248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597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977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977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3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4120" y="54860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Сидит девица в темнице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Коса на улиц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(морков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4897440" cy="586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320" y="228600"/>
            <a:ext cx="6248160" cy="6553080"/>
          </a:xfrm>
          <a:prstGeom prst="ellipse">
            <a:avLst/>
          </a:prstGeom>
          <a:gradFill rotWithShape="0">
            <a:gsLst>
              <a:gs pos="0">
                <a:srgbClr val="8986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-23328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492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929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929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267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5714640"/>
            <a:ext cx="3581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Сто одёжек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Все без застёжек. (капу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5410080" cy="451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76720" y="380880"/>
            <a:ext cx="5638680" cy="4953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8288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429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291"/>
                            </p:stCondLst>
                            <p:childTnLst>
                              <p:par>
                                <p:cTn id="18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291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03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5791320"/>
            <a:ext cx="3962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имой и летом одним цветом (ёл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76920" y="533520"/>
            <a:ext cx="3504960" cy="5638320"/>
            <a:chOff x="4876920" y="533520"/>
            <a:chExt cx="3504960" cy="5638320"/>
          </a:xfrm>
        </p:grpSpPr>
        <p:sp>
          <p:nvSpPr>
            <p:cNvPr id="120" name=""/>
            <p:cNvSpPr/>
            <p:nvPr/>
          </p:nvSpPr>
          <p:spPr>
            <a:xfrm>
              <a:off x="5641560" y="533520"/>
              <a:ext cx="1975320" cy="1855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33cc33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4876920" y="3459600"/>
              <a:ext cx="3504960" cy="1927080"/>
            </a:xfrm>
            <a:custGeom>
              <a:avLst/>
              <a:gdLst>
                <a:gd name="textAreaLeft" fmla="*/ 770760 w 3504960"/>
                <a:gd name="textAreaRight" fmla="*/ 2734200 w 3504960"/>
                <a:gd name="textAreaTop" fmla="*/ 423720 h 1927080"/>
                <a:gd name="textAreaBottom" fmla="*/ 1503360 h 19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cc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9920" y="5387040"/>
              <a:ext cx="509760" cy="784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131080" y="2389320"/>
              <a:ext cx="2995560" cy="1427040"/>
            </a:xfrm>
            <a:custGeom>
              <a:avLst/>
              <a:gdLst>
                <a:gd name="textAreaLeft" fmla="*/ 658800 w 2995560"/>
                <a:gd name="textAreaRight" fmla="*/ 2336760 w 2995560"/>
                <a:gd name="textAreaTop" fmla="*/ 313560 h 1427040"/>
                <a:gd name="textAreaBottom" fmla="*/ 1113480 h 14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33cc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962520" y="0"/>
            <a:ext cx="5181480" cy="6248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89548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9246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377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772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772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16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Маленький, удаленьки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Сквозь землю прошел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Красную шапочку нашел. (гри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3765600" cy="5105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57600" y="533520"/>
            <a:ext cx="5486400" cy="5867280"/>
          </a:xfrm>
          <a:custGeom>
            <a:avLst/>
            <a:gdLst>
              <a:gd name="textAreaLeft" fmla="*/ 1012320 w 5486400"/>
              <a:gd name="textAreaRight" fmla="*/ 4474080 w 5486400"/>
              <a:gd name="textAreaTop" fmla="*/ 1082520 h 5867280"/>
              <a:gd name="textAreaBottom" fmla="*/ 4784760 h 58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75" y="21600"/>
                </a:lnTo>
                <a:lnTo>
                  <a:pt x="4025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0574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924680" y="-6858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09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94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94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21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5943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Не лает, не кусает, и в дом не пускает. (зам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452840" cy="5132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8120" y="457200"/>
            <a:ext cx="5867280" cy="53341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8288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674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0773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458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8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58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84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880" y="6019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534160" cy="248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222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18148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Рыжая, пушиста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На ёлочке живё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Крепкими зубкам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Орешки грызёт.(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белка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787320"/>
            <a:ext cx="4648320" cy="381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29000" y="685800"/>
            <a:ext cx="4191120" cy="3886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6002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95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95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95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92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5257800"/>
            <a:ext cx="4114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Не боится волк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Маленькая крох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Острые игол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ащитят надолго.(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ежик)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147920" cy="5432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457200"/>
            <a:ext cx="4343400" cy="6095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43828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44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449"/>
                            </p:stCondLst>
                            <p:childTnLst>
                              <p:par>
                                <p:cTn id="5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449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53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Скачет по болоту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елёная квакуш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елёненькие ножки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овут её ...(лягуш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28600" y="533520"/>
            <a:ext cx="10058400" cy="426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533520"/>
            <a:ext cx="7696440" cy="4419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16002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01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760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603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603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5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43040" y="54097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Лапу кто зимой сосёт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А ещё он любит мёд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Может громко зареветь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Как зовут его? ...(медведь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172200" cy="457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0"/>
            <a:ext cx="7696080" cy="4876920"/>
          </a:xfrm>
          <a:prstGeom prst="parallelogram">
            <a:avLst>
              <a:gd name="adj" fmla="val 3270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167652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67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0773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885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85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85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47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4114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Пи, пи, пи - она сказал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Сразу в норку убежа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Что же это за малышка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Это маленькая ...(мышк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5181840" cy="174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19520" y="0"/>
            <a:ext cx="6629400" cy="4572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304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629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001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964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649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649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29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У этой малыш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Твёрдая рубаш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наю я из книжки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Это - ...(черепашк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400800" cy="338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1080" y="304920"/>
            <a:ext cx="5791320" cy="495288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8288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-23328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1532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798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982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982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91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53337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На диванчике лежит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Только "мяу" говори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Молочко пьёт в миске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Знаю, это - ...(киск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936960" cy="5713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533520"/>
            <a:ext cx="4191120" cy="5333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36232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7724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07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71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72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16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b5d4"/>
            </a:gs>
            <a:gs pos="100000">
              <a:srgbClr val="b1f5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409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Дружбу водит он с лис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Для других ужасно зло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Всё зубами щёлк да щёлк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Очень страшный серый ...(вол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948640" cy="458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457200"/>
            <a:ext cx="7391520" cy="39625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600200"/>
            <a:ext cx="30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4582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12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255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255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81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i</cp:lastModifiedBy>
  <dcterms:modified xsi:type="dcterms:W3CDTF">2006-12-12T09:30:5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