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290-BC16-498E-9E77-CA7763E6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323-C04F-4E9D-B10B-58BF567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138-8ECE-4460-9ABC-69395C70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F9A-C066-4C90-AFB0-4ED44F15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C402-2997-464F-A6A4-0254B37C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44A0-12D4-427D-8848-A4C9540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7C8-BF1A-4155-882D-53885EC2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57B3-B7BC-4030-83F9-0CE7218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0883-8838-446D-90A5-98C81307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2BF8-BF75-4D25-99BA-89108D0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FDE7-04AA-4DC3-9D6A-8CADBD5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35C-B7FD-4EF2-A15C-14D6598D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9D2-D3E1-4AD7-8028-1EE3FD7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8DD-1DD7-4688-AE6F-BABA511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A38-AA3C-4903-AB37-8556AD3B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0FFF-9649-44EA-A56D-62ACB60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56F5-28FD-492B-9648-36956EDA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225-583C-4F1A-9F9C-DBB53CDE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E27-CD7C-49D7-BCFF-BEE0024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AF3-21EB-49A9-9112-512B8A2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CD3-82AD-466A-A375-A85C5E23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052-06C4-47B8-8A39-0B8D253F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4DE-1486-4E2F-AD80-174A46C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A05-BC9B-48EB-8395-DD737B0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DAC8-0DDC-4E4C-8255-16BF85409B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308-F839-40DF-A19A-F4EA1F08A0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7280" y="4076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Zatagina Kseniy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556000" y="2128320"/>
            <a:ext cx="4827600" cy="1303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 am talen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8" descr="j0185604"/>
          <p:cNvPicPr/>
          <p:nvPr/>
        </p:nvPicPr>
        <p:blipFill>
          <a:blip r:embed="rId1"/>
          <a:stretch/>
        </p:blipFill>
        <p:spPr>
          <a:xfrm rot="20255400">
            <a:off x="1835280" y="2421000"/>
            <a:ext cx="1008000" cy="923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j0199661"/>
          <p:cNvPicPr/>
          <p:nvPr/>
        </p:nvPicPr>
        <p:blipFill>
          <a:blip r:embed="rId2"/>
          <a:stretch/>
        </p:blipFill>
        <p:spPr>
          <a:xfrm rot="1995600">
            <a:off x="7380000" y="1557360"/>
            <a:ext cx="904680" cy="87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j0205466"/>
          <p:cNvPicPr/>
          <p:nvPr/>
        </p:nvPicPr>
        <p:blipFill>
          <a:blip r:embed="rId3"/>
          <a:stretch/>
        </p:blipFill>
        <p:spPr>
          <a:xfrm rot="20743200">
            <a:off x="4643280" y="549360"/>
            <a:ext cx="1414800" cy="1260360"/>
          </a:xfrm>
          <a:prstGeom prst="rect">
            <a:avLst/>
          </a:prstGeom>
          <a:ln w="0">
            <a:noFill/>
          </a:ln>
        </p:spPr>
      </p:pic>
      <p:pic>
        <p:nvPicPr>
          <p:cNvPr id="156" name="Ink 11" descr=""/>
          <p:cNvPicPr/>
          <p:nvPr/>
        </p:nvPicPr>
        <p:blipFill>
          <a:blip r:embed="rId4"/>
          <a:stretch/>
        </p:blipFill>
        <p:spPr>
          <a:xfrm>
            <a:off x="9309240" y="3695760"/>
            <a:ext cx="233280" cy="32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-360"/>
            <a:ext cx="4427640" cy="558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I CAN  LOOK  AFTER ANIM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3168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animals and I am good at looking after them. Maybe I will be a v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7" descr="IMG_7863"/>
          <p:cNvPicPr/>
          <p:nvPr/>
        </p:nvPicPr>
        <p:blipFill>
          <a:blip r:embed="rId1"/>
          <a:stretch/>
        </p:blipFill>
        <p:spPr>
          <a:xfrm>
            <a:off x="4140360" y="476280"/>
            <a:ext cx="44161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j0216724"/>
          <p:cNvPicPr/>
          <p:nvPr/>
        </p:nvPicPr>
        <p:blipFill>
          <a:blip r:embed="rId2"/>
          <a:stretch/>
        </p:blipFill>
        <p:spPr>
          <a:xfrm>
            <a:off x="1692360" y="3529080"/>
            <a:ext cx="2808360" cy="33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j0332364"/>
          <p:cNvPicPr/>
          <p:nvPr/>
        </p:nvPicPr>
        <p:blipFill>
          <a:blip r:embed="rId3"/>
          <a:stretch/>
        </p:blipFill>
        <p:spPr>
          <a:xfrm>
            <a:off x="5867280" y="5661000"/>
            <a:ext cx="1657440" cy="11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3280" y="-531720"/>
            <a:ext cx="43563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I AM A</a:t>
            </a:r>
            <a:br>
              <a:rPr sz="3600"/>
            </a:b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GOOD PAIN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71640" y="0"/>
            <a:ext cx="3888000" cy="285264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 can paint very well. Maybe I will be a paint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9" descr="IMG_20150419_164703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438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IMG_20150419_164800"/>
          <p:cNvPicPr/>
          <p:nvPr/>
        </p:nvPicPr>
        <p:blipFill>
          <a:blip r:embed="rId2"/>
          <a:stretch/>
        </p:blipFill>
        <p:spPr>
          <a:xfrm>
            <a:off x="0" y="4387680"/>
            <a:ext cx="4284720" cy="2409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IMG_20150419_164928"/>
          <p:cNvPicPr/>
          <p:nvPr/>
        </p:nvPicPr>
        <p:blipFill>
          <a:blip r:embed="rId3"/>
          <a:stretch/>
        </p:blipFill>
        <p:spPr>
          <a:xfrm>
            <a:off x="250920" y="0"/>
            <a:ext cx="230508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787640" y="476280"/>
            <a:ext cx="3663720" cy="4867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I think I am talented  because I am happ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7" descr="IMG_20140629_132541"/>
          <p:cNvPicPr/>
          <p:nvPr/>
        </p:nvPicPr>
        <p:blipFill>
          <a:blip r:embed="rId1"/>
          <a:stretch/>
        </p:blipFill>
        <p:spPr>
          <a:xfrm>
            <a:off x="755640" y="404640"/>
            <a:ext cx="2448000" cy="435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j0297707"/>
          <p:cNvPicPr/>
          <p:nvPr/>
        </p:nvPicPr>
        <p:blipFill>
          <a:blip r:embed="rId2"/>
          <a:stretch/>
        </p:blipFill>
        <p:spPr>
          <a:xfrm>
            <a:off x="5940360" y="314172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2:27:29Z</dcterms:created>
  <dc:creator>ирина майсюкова</dc:creator>
  <dc:description/>
  <dc:language>en-US</dc:language>
  <cp:lastModifiedBy>Владимир Макаричев</cp:lastModifiedBy>
  <dcterms:modified xsi:type="dcterms:W3CDTF">2016-12-06T19:44:53Z</dcterms:modified>
  <cp:revision>9</cp:revision>
  <dc:subject/>
  <dc:title>I am talented</dc:title>
</cp:coreProperties>
</file>