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42.png" ContentType="image/png"/>
  <Override PartName="/ppt/media/image40.jpeg" ContentType="image/jpeg"/>
  <Override PartName="/ppt/media/image44.jpeg" ContentType="image/jpeg"/>
  <Override PartName="/ppt/media/image9.png" ContentType="image/png"/>
  <Override PartName="/ppt/media/image41.jpeg" ContentType="image/jpeg"/>
  <Override PartName="/ppt/media/image45.jpeg" ContentType="image/jpeg"/>
  <Override PartName="/ppt/media/image37.gif" ContentType="image/gif"/>
  <Override PartName="/ppt/media/image52.jpeg" ContentType="image/jpeg"/>
  <Override PartName="/ppt/media/image39.jpeg" ContentType="image/jpeg"/>
  <Override PartName="/ppt/media/image8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46.jpeg" ContentType="image/jpeg"/>
  <Override PartName="/ppt/media/image51.jpeg" ContentType="image/jpeg"/>
  <Override PartName="/ppt/media/image53.gif" ContentType="image/gif"/>
  <Override PartName="/ppt/media/image31.jpeg" ContentType="image/jpeg"/>
  <Override PartName="/ppt/media/image30.png" ContentType="image/png"/>
  <Override PartName="/ppt/media/image13.png" ContentType="image/png"/>
  <Override PartName="/ppt/media/image54.jpeg" ContentType="image/jpe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43.gif" ContentType="image/gif"/>
  <Override PartName="/ppt/media/image6.png" ContentType="image/png"/>
  <Override PartName="/ppt/media/image29.png" ContentType="image/png"/>
  <Override PartName="/ppt/media/image35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2EF-8008-4830-91C6-4F84DC42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058-420D-43B8-AAAB-282E180C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833-168A-4AE0-B859-DE1906EB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D05-EE89-431B-995A-3FAADE99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DB15-6FEF-433E-A7F4-6AAB8E4A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32D5-0D56-4DD3-BED2-F54BB99C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2C0C-EC33-43F1-BE2A-F8A322C1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4338-B736-4B15-A3D8-B369AFA8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CAA8-2D5B-4A41-BDE8-0533EB5C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4EAF-C898-42A9-9E3F-C4E69368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5BB3-176F-4F47-A9DE-65D6048A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A441-87A5-4CED-A6D6-AA2650B8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A8C6-51FC-4543-902B-B9780D4B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9229-9BC7-45A4-AFF3-EED281D1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6F90-5D9B-4CC0-9A6A-3C7B6B64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666C-277F-4FCE-8BF3-CFF26A94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4A8C-48D8-437E-846E-E7D67BA1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945-F68A-445A-B124-0ED552BF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833-8028-48DE-95D8-517F5089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33E-FFE8-44BC-B4A8-507135B0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C62-04D3-4926-9E49-C8F4863C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656-1026-4FDC-9C1E-7B414C8D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BF4-4620-4283-A330-CD4CFC24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3328-2019-4198-831E-06A5DC11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EABE-459B-4006-9236-25150556B120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20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12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12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12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12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123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123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124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124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126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126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127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127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128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128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129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129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A340-0A2F-4A10-B1AB-F413FB86AD34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image" Target="../media/image43.gif"/><Relationship Id="rId7" Type="http://schemas.openxmlformats.org/officeDocument/2006/relationships/image" Target="../media/image37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37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gif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5660640"/>
            <a:ext cx="79930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Друзья</a:t>
            </a:r>
            <a:r>
              <a:rPr b="0" lang="ru-RU" sz="4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солнышка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1657440" y="77760"/>
            <a:ext cx="59389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1884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FrankRuehl"/>
              </a:rPr>
              <a:t>Друзья для солнышка все то, что бывает желтым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7" name="Picture 2" descr="C:\Users\Владислав\Desktop\1262858384_7.jpeg"/>
          <p:cNvPicPr/>
          <p:nvPr/>
        </p:nvPicPr>
        <p:blipFill>
          <a:blip r:embed="rId1"/>
          <a:stretch/>
        </p:blipFill>
        <p:spPr>
          <a:xfrm>
            <a:off x="179280" y="1557360"/>
            <a:ext cx="2711520" cy="1976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C:\Users\Владислав\Desktop\74865211_large_442024_w640_h640_brojler1.jpg"/>
          <p:cNvPicPr/>
          <p:nvPr/>
        </p:nvPicPr>
        <p:blipFill>
          <a:blip r:embed="rId2"/>
          <a:stretch/>
        </p:blipFill>
        <p:spPr>
          <a:xfrm>
            <a:off x="3203640" y="1557360"/>
            <a:ext cx="2255760" cy="219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Users\Владислав\Desktop\1002.jpg"/>
          <p:cNvPicPr/>
          <p:nvPr/>
        </p:nvPicPr>
        <p:blipFill>
          <a:blip r:embed="rId3"/>
          <a:stretch/>
        </p:blipFill>
        <p:spPr>
          <a:xfrm>
            <a:off x="5724360" y="1557360"/>
            <a:ext cx="3094200" cy="2046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Users\Владислав\Desktop\0d0e2d0da9d659b28f3d9682ab612d12.jpg"/>
          <p:cNvPicPr/>
          <p:nvPr/>
        </p:nvPicPr>
        <p:blipFill>
          <a:blip r:embed="rId4"/>
          <a:stretch/>
        </p:blipFill>
        <p:spPr>
          <a:xfrm>
            <a:off x="3025800" y="4221000"/>
            <a:ext cx="2611440" cy="1960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Владислав\Desktop\depositphotos_3794967-Yellow-pencil.jpg"/>
          <p:cNvPicPr/>
          <p:nvPr/>
        </p:nvPicPr>
        <p:blipFill>
          <a:blip r:embed="rId5"/>
          <a:stretch/>
        </p:blipFill>
        <p:spPr>
          <a:xfrm>
            <a:off x="539640" y="4076640"/>
            <a:ext cx="1871640" cy="2468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Владислав\Desktop\Passag01_31Z.jpg"/>
          <p:cNvPicPr/>
          <p:nvPr/>
        </p:nvPicPr>
        <p:blipFill>
          <a:blip r:embed="rId6"/>
          <a:stretch/>
        </p:blipFill>
        <p:spPr>
          <a:xfrm>
            <a:off x="6283440" y="4062240"/>
            <a:ext cx="2390760" cy="2391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Владислав\Desktop\7150405.gif"/>
          <p:cNvPicPr/>
          <p:nvPr/>
        </p:nvPicPr>
        <p:blipFill>
          <a:blip r:embed="rId7"/>
          <a:stretch/>
        </p:blipFill>
        <p:spPr>
          <a:xfrm>
            <a:off x="6948360" y="104760"/>
            <a:ext cx="2278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90280" y="62028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FrankRuehl"/>
              </a:rPr>
              <a:t>Друзья солнышка- все, что бывает круглым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5" name="Рисунок 3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4" descr=""/>
          <p:cNvPicPr/>
          <p:nvPr/>
        </p:nvPicPr>
        <p:blipFill>
          <a:blip r:embed="rId2"/>
          <a:stretch/>
        </p:blipFill>
        <p:spPr>
          <a:xfrm>
            <a:off x="3348000" y="1927080"/>
            <a:ext cx="1995480" cy="1933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5" descr=""/>
          <p:cNvPicPr/>
          <p:nvPr/>
        </p:nvPicPr>
        <p:blipFill>
          <a:blip r:embed="rId3"/>
          <a:stretch/>
        </p:blipFill>
        <p:spPr>
          <a:xfrm>
            <a:off x="5580000" y="1927080"/>
            <a:ext cx="2625840" cy="19335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2303280" cy="1727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5"/>
          <a:stretch/>
        </p:blipFill>
        <p:spPr>
          <a:xfrm>
            <a:off x="3571920" y="4130640"/>
            <a:ext cx="1760400" cy="2197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Users\Владислав\Desktop\anime-sport-530.gif"/>
          <p:cNvPicPr/>
          <p:nvPr/>
        </p:nvPicPr>
        <p:blipFill>
          <a:blip r:embed="rId6"/>
          <a:stretch/>
        </p:blipFill>
        <p:spPr>
          <a:xfrm>
            <a:off x="5724360" y="4024440"/>
            <a:ext cx="2414880" cy="235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Users\Владислав\Desktop\7150405.gif"/>
          <p:cNvPicPr/>
          <p:nvPr/>
        </p:nvPicPr>
        <p:blipFill>
          <a:blip r:embed="rId7"/>
          <a:stretch/>
        </p:blipFill>
        <p:spPr>
          <a:xfrm>
            <a:off x="6516720" y="-316080"/>
            <a:ext cx="2709720" cy="26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5470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FrankRuehl"/>
              </a:rPr>
              <a:t>Друзья для солнышка все то, что греет нас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3" name="Picture 2" descr="C:\Users\Владислав\Desktop\3655315.jpg"/>
          <p:cNvPicPr/>
          <p:nvPr/>
        </p:nvPicPr>
        <p:blipFill>
          <a:blip r:embed="rId1"/>
          <a:stretch/>
        </p:blipFill>
        <p:spPr>
          <a:xfrm>
            <a:off x="250920" y="1268280"/>
            <a:ext cx="1649160" cy="2432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Users\Владислав\Desktop\OSO 6065.JPG"/>
          <p:cNvPicPr/>
          <p:nvPr/>
        </p:nvPicPr>
        <p:blipFill>
          <a:blip r:embed="rId2"/>
          <a:stretch/>
        </p:blipFill>
        <p:spPr>
          <a:xfrm>
            <a:off x="5724360" y="1268280"/>
            <a:ext cx="3354480" cy="2360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Users\Владислав\Desktop\tmm640x640_46976.jpg"/>
          <p:cNvPicPr/>
          <p:nvPr/>
        </p:nvPicPr>
        <p:blipFill>
          <a:blip r:embed="rId3"/>
          <a:stretch/>
        </p:blipFill>
        <p:spPr>
          <a:xfrm>
            <a:off x="2268360" y="1239840"/>
            <a:ext cx="3222720" cy="2417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Владислав\Desktop\138150279950.jpg"/>
          <p:cNvPicPr/>
          <p:nvPr/>
        </p:nvPicPr>
        <p:blipFill>
          <a:blip r:embed="rId4"/>
          <a:stretch/>
        </p:blipFill>
        <p:spPr>
          <a:xfrm>
            <a:off x="236520" y="4149720"/>
            <a:ext cx="2725920" cy="2044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C:\Users\Владислав\Desktop\93718071_4737592_yas28.jpg"/>
          <p:cNvPicPr/>
          <p:nvPr/>
        </p:nvPicPr>
        <p:blipFill>
          <a:blip r:embed="rId5"/>
          <a:stretch/>
        </p:blipFill>
        <p:spPr>
          <a:xfrm>
            <a:off x="3348000" y="3860640"/>
            <a:ext cx="2757600" cy="2757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C:\Users\Владислав\Desktop\Chaynik_Vindsor_4386.jpg"/>
          <p:cNvPicPr/>
          <p:nvPr/>
        </p:nvPicPr>
        <p:blipFill>
          <a:blip r:embed="rId6"/>
          <a:stretch/>
        </p:blipFill>
        <p:spPr>
          <a:xfrm>
            <a:off x="6413400" y="3860640"/>
            <a:ext cx="2624400" cy="2624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Users\Владислав\Desktop\7150405.gif"/>
          <p:cNvPicPr/>
          <p:nvPr/>
        </p:nvPicPr>
        <p:blipFill>
          <a:blip r:embed="rId7"/>
          <a:stretch/>
        </p:blipFill>
        <p:spPr>
          <a:xfrm>
            <a:off x="6875640" y="-458640"/>
            <a:ext cx="28558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5470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FrankRuehl"/>
              </a:rPr>
              <a:t>Друзья для солнышка все то, что светит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1" name="Picture 3" descr="C:\Users\Владислав\Desktop\7150405.gif"/>
          <p:cNvPicPr/>
          <p:nvPr/>
        </p:nvPicPr>
        <p:blipFill>
          <a:blip r:embed="rId1"/>
          <a:stretch/>
        </p:blipFill>
        <p:spPr>
          <a:xfrm>
            <a:off x="6829560" y="-458640"/>
            <a:ext cx="2854080" cy="2774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Владислав\Desktop\9230.jpg"/>
          <p:cNvPicPr/>
          <p:nvPr/>
        </p:nvPicPr>
        <p:blipFill>
          <a:blip r:embed="rId2"/>
          <a:stretch/>
        </p:blipFill>
        <p:spPr>
          <a:xfrm>
            <a:off x="250920" y="1111320"/>
            <a:ext cx="2125440" cy="2125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Users\Владислав\Desktop\00398012.jpg"/>
          <p:cNvPicPr/>
          <p:nvPr/>
        </p:nvPicPr>
        <p:blipFill>
          <a:blip r:embed="rId3"/>
          <a:stretch/>
        </p:blipFill>
        <p:spPr>
          <a:xfrm>
            <a:off x="2843280" y="1162080"/>
            <a:ext cx="2338200" cy="2074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Users\Владислав\Desktop\640.ROAD.jpg"/>
          <p:cNvPicPr/>
          <p:nvPr/>
        </p:nvPicPr>
        <p:blipFill>
          <a:blip r:embed="rId4"/>
          <a:stretch/>
        </p:blipFill>
        <p:spPr>
          <a:xfrm>
            <a:off x="826920" y="3727440"/>
            <a:ext cx="2549520" cy="2973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Users\Владислав\Desktop\97082316_0_4d800_6325e4f8_L.jpg"/>
          <p:cNvPicPr/>
          <p:nvPr/>
        </p:nvPicPr>
        <p:blipFill>
          <a:blip r:embed="rId5"/>
          <a:stretch/>
        </p:blipFill>
        <p:spPr>
          <a:xfrm>
            <a:off x="4932360" y="3573360"/>
            <a:ext cx="2286000" cy="3127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C:\Users\Владислав\Desktop\i.jpg"/>
          <p:cNvPicPr/>
          <p:nvPr/>
        </p:nvPicPr>
        <p:blipFill>
          <a:blip r:embed="rId6"/>
          <a:stretch/>
        </p:blipFill>
        <p:spPr>
          <a:xfrm>
            <a:off x="5364000" y="1544760"/>
            <a:ext cx="235764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6T19:53:12Z</dcterms:created>
  <dc:creator>Алинка</dc:creator>
  <dc:description/>
  <dc:language>en-US</dc:language>
  <cp:lastModifiedBy>User</cp:lastModifiedBy>
  <dcterms:modified xsi:type="dcterms:W3CDTF">2016-12-07T19:32:10Z</dcterms:modified>
  <cp:revision>14</cp:revision>
  <dc:subject/>
  <dc:title>Друзья солнышка</dc:title>
</cp:coreProperties>
</file>