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8FD-18B4-4566-9729-2DBBCBD1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807-7D85-4834-9480-D40C176F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187-275C-44EB-9928-51E0F6BA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0D2-70C5-46E6-9B40-56E222CA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B4C0-2C18-4204-8F74-B673179F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C015-87AD-4F3D-80A8-D6E59C0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D4A-C0FD-40B3-8FDC-19604D4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3195-C248-4DE9-B254-E9B2BD2A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6024-0153-4B5F-AAAE-42280AE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3D1-5A90-44D3-83DF-C999D376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CA7-AF3F-4453-8925-B54B7B8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845-E9FC-4376-A815-1C5B88CF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EA12-0155-4D81-B755-7D18CD4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2E2-5CC1-4544-A72F-9B1C976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F7C-EBE9-46F1-A248-3F54703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D50D-1BEA-4F8B-8E01-C5E32313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40B0-2F58-49A7-9BA2-E628F76C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8A94-5BD0-4D0F-B390-BC266C98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170B-B688-4776-AC5D-71D4C207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59C2-8E2F-40A7-9D62-8981080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7672-09CC-4F10-B107-D73C63DF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D503-9197-4E0F-A3D1-236B867B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169-5AF9-4A55-9442-20FEAC38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001B-22F7-484F-AAD4-835282D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3803-6305-4C61-8C61-06DC346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0D20-88E9-43DB-B1E9-B750385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6D60-FDF8-405A-8F95-BBE9386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C1E2-FDA0-4D7C-B697-AFED6B85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6E23-A8DD-43E2-BDA8-3CDCE23D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A185-4DDB-4FD3-963B-84C2B0EA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D53F-56E0-47DD-984A-1DF2A7E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B2F1-9339-457A-B116-68939F8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76F6-3924-46F4-B191-5738084F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43E-2860-4363-A3BE-38DFB39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D2C8-13A4-4C3D-A45E-78AF18F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ED9A-2D28-4BE5-B084-0960C979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263B-6833-4411-8B70-9450F136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CC13-B277-4EBC-8E1A-4BEFB8C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4F01-A336-4B69-A5E7-6B20FFE1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E5DE-DF0E-4D39-A921-FE3CB62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0A5A-B365-40F9-A67C-0BB4CB5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C1BCF-E325-43E5-8936-544FC6BA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B999-7861-4207-8037-5CDB4CE2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6183-EED2-4C67-9406-9C1139FD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925-7D19-4121-9E48-467FB69B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8D397-9E68-458F-A11D-8B76FDB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2DF2-FE42-4297-8482-6FAADDE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5E89-5304-40F8-A8CC-ABB185EE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1D08-B3C1-41A4-88B8-0084C7B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EBB3-06D2-40B7-B7A7-F1F0F4F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8319-00D6-4BB5-92C1-C6F07CA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8F80-BB08-4C9B-90AC-7EFBCBF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EB55-41C9-4AB2-A19D-F53A9374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CAEB-BEDD-425F-AA52-CA963FA7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F17E-9995-4AAB-8836-E07A8B52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574-6414-4FD2-917C-D747D31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DAA3-C1FD-4677-9AC0-41F46D24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6D7-9321-4328-AFCA-189F2BE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20B-70BF-43A8-B23A-0AAEEF6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952-AE54-40B5-9856-D9EEBF3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499A-23A4-477C-8D1E-42963405AE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0B4B-4E66-4F48-899A-26DE9E56F2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378-4AE7-47D2-B2DD-C41A4CB685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19C0-62F0-4734-AA06-E5095F85BB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0730-C901-4206-B226-CEF434385B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rah.ru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rah.ru/portfolio_mozaika_vitr.asp?lang=rus&amp;re=mozaika&amp;re1=mozaika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mrah.ru/gips_photo.asp?lang=rus&amp;re=gips&amp;re1=gips&amp;ph=1&amp;NamePh=&#1041;&#1102;&#1089;&#1090;%20&#1042;&#1086;&#1083;&#1100;&#1090;&#1077;&#1088;&#1072;.&amp;TypeHPh=470%20&#1084;&#1084;&amp;TypeWPh=200%20&#1084;&#1084;&amp;TypeGPh=8%20&#1082;&#1075;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600200"/>
            <a:ext cx="735156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Академия Художест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в Санкт - Петербурге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0" y="4343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Катаева Майя Валериевна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ГБОУ СОШ №175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реподаватель искус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Verdana"/>
              </a:rPr>
              <a:t>Проектная модель Смольного монастыр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952880" cy="36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 Я. Лоренц по проекту Ф. Растрел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750-1756.Дерево с окраской масляной краской, позолота, свинец.265х518х50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8" descr="Мастер Я. Лоренц по проекту Ф. Растрелли.Проектная модель Смольного монастыря.1750-1756.Дерево с окраской масляной краской, позолота, свинец.265х518х50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257800" y="762120"/>
            <a:ext cx="3044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Проектная модель Троицкого собора Александро - Невского монастыря в Петербурге.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276720" cy="368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 Симеон Серенсен по проекту              И.Е. Старо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778-1788. Дерево,лак. 155х218х87,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8" descr="Мастер Симеон Серенсен по проекту И.Е. Старова.Проектная модель Троицкого собора Александро-Невского монастыря в Петербурге.1778-1788.Дерево, лак.155х218х87,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267080" y="1905120"/>
            <a:ext cx="40482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дель лютеранской церкви Петра и Павла в Петербурге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209320"/>
            <a:ext cx="3886200" cy="39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а Христиан Тацци и М. Харламов по проекту                         А. Брюлл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редина XIX 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ронз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83х138,5х10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Мастера Христиан Тацци и М. Харламов по проекту А. Брюллова.Модель лютеранской церкви Петра и Павла в Петербурге.Середина XIX в.Бронза.83х138,5х106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00600" y="1905120"/>
            <a:ext cx="350532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разное время Академию закончили такие выдающие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живописцы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: А.А.Иванов, К.П.Брюллов, И.Е.Репин, В.Д.Поленов, В.И.Суриков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кульпторы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И.П.Мартос, В.И.Демут-Малиновский, С.С.Пименов, И.П.Прокофьев, М.М.Антокольск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архитекторы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А.Н.Воронихин, Н.Л.Бенуа, К.А.Тон, И.А.Фомин, В.А.Щуко и многие друг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685440"/>
            <a:ext cx="7924680" cy="6172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адемия занималась рассмотрением и утверждением  важных архитектурных, скульптурных и живописных проектов для столицы и других гор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preview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47920" y="3886200"/>
            <a:ext cx="5257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едагоги и ученики участвовали в возведении и оформлении  крупных художественных ансамблей того времен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занский и Исаакиевский собор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Храм Спаса-на-Крови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храм Христа Спасителя в Москв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936"/>
            </a:gs>
            <a:gs pos="50000">
              <a:srgbClr val="ffffff"/>
            </a:gs>
            <a:gs pos="100000">
              <a:srgbClr val="9f29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14400" y="2590560"/>
            <a:ext cx="7315200" cy="34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Лаборатория художественных  стекломатериалов. Смальта и витражное стекл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Гипсоформовочная мастер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Станковая живопи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Граф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Скульп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Verdana"/>
              </a:rPr>
              <a:t>Мозаичная мастерск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РОССИЙСКАЯ АКАДЕМИЯ ХУДОЖЕСТВ. Императорские мастерские. Санкт-Петербург.">
            <a:hlinkClick r:id="rId1"/>
          </p:cNvPr>
          <p:cNvPicPr/>
          <p:nvPr/>
        </p:nvPicPr>
        <p:blipFill>
          <a:blip r:embed="rId2">
            <a:lum bright="-18000"/>
          </a:blip>
          <a:srcRect l="0" t="0" r="0" b="6572"/>
          <a:stretch/>
        </p:blipFill>
        <p:spPr>
          <a:xfrm>
            <a:off x="0" y="46080"/>
            <a:ext cx="9144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f0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 художественных  стекломатериалов. Смальта и витражное стекло.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22856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единственная мастерская в России, производящая смальту по старинным рецептур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диции наших мастерских стеклоделия складывались более 150 л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ветовая палитра смальты насчитывает более 10 000 оттенков ( включая золотую и серебряную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7f09"/>
            </a:gs>
            <a:gs pos="100000">
              <a:srgbClr val="685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6019560"/>
            <a:ext cx="8183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Мозаичная мастерская.</a:t>
            </a: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9903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заичная мастерская была создана в 1851 году и существует до сих п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мастерской набраны крупнейшие полотна Санкт - Петербурга                     ( мозаики Исаакиевского собора, храма Спаса на Крови, художественное оформление станций метро «Спортивная», "Комендантский проспект» и 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5" descr="К выбору рабо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990720"/>
            <a:ext cx="3147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2920" y="4983120"/>
            <a:ext cx="48308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псоформовочная мастерска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94920" y="1523520"/>
            <a:ext cx="3886200" cy="2971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Производство  изделий из гип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Работы на заказ по эскизам заказчи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Изготовление сувенирной продукц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Изготовление учебной продукц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Бюст Вольтера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19112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Набор «Геометрические тела»               (7 предметов)."/>
          <p:cNvPicPr/>
          <p:nvPr/>
        </p:nvPicPr>
        <p:blipFill>
          <a:blip r:embed="rId4"/>
          <a:stretch/>
        </p:blipFill>
        <p:spPr>
          <a:xfrm>
            <a:off x="6781680" y="528156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Бюст Аполлона."/>
          <p:cNvPicPr/>
          <p:nvPr/>
        </p:nvPicPr>
        <p:blipFill>
          <a:blip r:embed="rId5"/>
          <a:stretch/>
        </p:blipFill>
        <p:spPr>
          <a:xfrm>
            <a:off x="7238880" y="45720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Фигура «Венера Милосская»."/>
          <p:cNvPicPr/>
          <p:nvPr/>
        </p:nvPicPr>
        <p:blipFill>
          <a:blip r:embed="rId6"/>
          <a:stretch/>
        </p:blipFill>
        <p:spPr>
          <a:xfrm>
            <a:off x="7315200" y="297180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5" descr="Маска льва."/>
          <p:cNvPicPr/>
          <p:nvPr/>
        </p:nvPicPr>
        <p:blipFill>
          <a:blip r:embed="rId7"/>
          <a:stretch/>
        </p:blipFill>
        <p:spPr>
          <a:xfrm>
            <a:off x="533520" y="533520"/>
            <a:ext cx="112068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Бюст девочки."/>
          <p:cNvPicPr/>
          <p:nvPr/>
        </p:nvPicPr>
        <p:blipFill>
          <a:blip r:embed="rId8"/>
          <a:stretch/>
        </p:blipFill>
        <p:spPr>
          <a:xfrm>
            <a:off x="5638680" y="1523880"/>
            <a:ext cx="142884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Российская академия художеств - крупнейший центр отечественной художественной культуры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66680" y="29714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Академия художеств была учреждена решением Сената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6 ноября 1757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 года в царствование императрицы Елизаветы Петровны в Петербурге по инициативе великого русского ученого М.В. Ломоносова и известного просветителя того времени И.И. Шувал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preview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14400" y="3200400"/>
            <a:ext cx="7007400" cy="2678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15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2007 году Российской академии художеств исполнилось 250 лет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758. Первый набор ученик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кадемия создавалась как центр подготовки национальных художников и архитектор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ервыми профессорами стали иностранц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8381880" cy="5364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1764. Январь. Началось строительство здания для Академии художеств по проек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Ж.Б. Валлен-Деламота и А.Ф. Кокорино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академия"/>
          <p:cNvPicPr/>
          <p:nvPr/>
        </p:nvPicPr>
        <p:blipFill>
          <a:blip r:embed="rId1"/>
          <a:srcRect l="0" t="27671" r="0" b="35113"/>
          <a:stretch/>
        </p:blipFill>
        <p:spPr>
          <a:xfrm>
            <a:off x="762120" y="3809880"/>
            <a:ext cx="78105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396216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Музей Академии художеств - одно из старейших художественных собраний Санкт - Петербурга и России. 1758г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5" descr=" И.А. Иванов. Вид парадной лестницы Академии Художеств. 1830"/>
          <p:cNvPicPr/>
          <p:nvPr/>
        </p:nvPicPr>
        <p:blipFill>
          <a:blip r:embed="rId1"/>
          <a:stretch/>
        </p:blipFill>
        <p:spPr>
          <a:xfrm>
            <a:off x="5029200" y="1143000"/>
            <a:ext cx="3105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23232"/>
                </a:solidFill>
                <a:latin typeface="Verdana"/>
              </a:rPr>
              <a:t>Рафаэлевский зал Академии художеств. </a:t>
            </a:r>
            <a:br>
              <a:rPr sz="2900"/>
            </a:br>
            <a:r>
              <a:rPr b="1" lang="ru-RU" sz="2400" spc="-1" strike="noStrike">
                <a:solidFill>
                  <a:srgbClr val="323232"/>
                </a:solidFill>
                <a:latin typeface="Verdana"/>
              </a:rPr>
              <a:t>Копия фрески Рафаэля "Афинская школа" исполненная К.П. Брюлловым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5" descr="Рафаэлевский зал Академии художеств. Копия фрески Рафаэля &quot;Афинская школа&quot; исполненная К.П. Брюлловым дала название залу.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905120" y="2438280"/>
            <a:ext cx="50292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"</a:t>
            </a:r>
            <a:r>
              <a:rPr b="1" lang="ru-RU" sz="2400" spc="-1" strike="noStrike">
                <a:solidFill>
                  <a:srgbClr val="323232"/>
                </a:solidFill>
                <a:latin typeface="Verdana"/>
              </a:rPr>
              <a:t>Циркуль" 1-го этажа. 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Verdana"/>
              </a:rPr>
              <a:t>Анфилада отдела слепков. 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5" descr="&quot;Циркуль&quot; 1-го этажа. Анфилада отдела слепков. Постоянная экспозиция НИМ РАХ. Фото В.А. Григорьева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828800" y="1905120"/>
            <a:ext cx="563868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СОКРОВИЩА АКАДЕМИИ... </a:t>
            </a: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Коллекция архитектурных</a:t>
            </a:r>
            <a:r>
              <a:rPr b="1" lang="ru-RU" sz="4300" spc="-1" strike="noStrike">
                <a:solidFill>
                  <a:srgbClr val="32323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моделей музея Российской Академии художеств в Санкт-Петербурге - крупнейшая в Европе, она насчитывает свыше 130 моделей.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3232"/>
                </a:solidFill>
                <a:latin typeface="Verdana"/>
              </a:rPr>
              <a:t>Проектная модель </a:t>
            </a:r>
            <a:br>
              <a:rPr sz="2400"/>
            </a:br>
            <a:r>
              <a:rPr b="1" lang="ru-RU" sz="2400" spc="-1" strike="noStrike">
                <a:solidFill>
                  <a:srgbClr val="323232"/>
                </a:solidFill>
                <a:latin typeface="Verdana"/>
              </a:rPr>
              <a:t>Собора Исаакия Далматского в Петербурге.</a:t>
            </a:r>
            <a:br>
              <a:rPr sz="3200"/>
            </a:br>
            <a:r>
              <a:rPr b="1" lang="ru-RU" sz="2200" spc="-1" strike="noStrike">
                <a:solidFill>
                  <a:srgbClr val="323232"/>
                </a:solidFill>
                <a:latin typeface="Verdana"/>
              </a:rPr>
              <a:t>Конец 1820-х – начало 1830-х гг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886200" cy="460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а: И. Гребер, Гроссе, Эйлертц под руководством и по проекту                           О. Монферран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рево с окраской масляной краской, позолота, гипс, металл.233х360х358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9" descr="Мастера: И. Гребер, Гроссе, Эйлертц под руководством и по проекту О. Монферрана Проектная модель Собора Исаакия Далматского в Петербурге.Конец 1820-х – начало 1830-х гг.Дерево с окраской масляной краской, позолота, гипс, металл.233х360х358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4876920" y="1981080"/>
            <a:ext cx="33526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</cp:lastModifiedBy>
  <dcterms:modified xsi:type="dcterms:W3CDTF">2016-12-07T16:03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