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4.jpeg" ContentType="image/jpeg"/>
  <Override PartName="/ppt/media/image10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218-11FD-4BA3-877E-0B71F9D8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1D8-18F4-449D-8693-3FED56AB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5500E-50F7-4291-B9D4-81A584BA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2124F-CFAA-4302-9385-91A708FB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AFF981-F7E2-4E44-B9B4-F8948BE5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AA212-15C5-4FC5-9EE7-A54C756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E9321-CF9C-4FE2-B61B-EDFBCDB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239D97-30DD-4945-B721-7F9E42C4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DE5D59-F4CF-47CD-80AF-E029F2E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69C1F7-7D81-4C83-966F-45768D03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C70769-EF6A-46B6-890C-FABAFBE8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3CB6D-EC84-4AC6-A264-DB4BB754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099-A586-421B-9441-E0C4AFCF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6D3EB-C022-4692-8758-297829E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0DE7A-7A83-4491-BAFD-A37B7B8C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5D394-B011-46A1-B7A3-323CCA7B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557CA-142A-4179-8E71-8792F4C7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182EE-7871-4D41-B401-371BBDCF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F2867-8DA2-4B49-ACA2-50ED452E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841C-4FF5-4F26-9D11-7810543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6794A-CF30-4CC2-9FCF-5B61976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E8D3-701E-4C02-A1BA-A6F75B04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726E0-40A5-4711-89BE-677F22A6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80E-0466-4C81-BA4A-53EF8744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45F59-723F-4716-96B5-CFEA074F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7E8A-C8F6-47CE-B68C-A2CA389A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F59C-A978-4C7B-A9C0-1ACFB38E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752-0ED2-479C-829C-AFDF306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896C-98B7-4EA8-A773-DF709FD2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0122-96BB-4CD3-AC34-83EC0C8E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143-770E-4DAB-9949-F0FBB518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0023-6F42-46E5-A5BC-92F3629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2DC-4087-4D55-A68C-DD32C9D0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6492-83AF-46BD-8647-898AA62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EA43-A799-4BE2-AE85-E76C5D1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454E-3CC4-4BB8-8A88-CC7F143B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6C2A-28BF-4B7B-8528-8D448604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A821-DEC3-44C9-A3E1-BCC6D840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F594-5B67-4463-9E13-BF651BBD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F58B-112B-4E73-870F-C388FB1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50E2D-C4F7-45B6-A293-49F593A0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CAD6-4A7E-4772-B8C1-6D6D1116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6794-BD1F-4AA0-B997-C7C954D0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B1E-0DD9-4906-9942-F932374E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FC6C2-08DA-4883-B83D-27352FC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B84A-EF54-4702-A5C6-28805AC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7307-6776-43FA-8FA3-2D80EB6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3D39-5326-40B7-AB11-53EE16B0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3DD2-4EB9-44C2-A32C-C77F314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FF3D-DC1F-40CF-973D-1426EFD1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5F9A-3DC9-480A-87C2-F7B21593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2016-225C-4AC3-B473-0BC437E3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D594-B6F2-4C30-8CD5-1DEFD5D0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CBA7-5EDE-4016-8BF5-4091EE9D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B8E-E4F6-43CC-AD57-B71D778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538B-7C70-4259-834E-B7DE468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A955-8E90-4897-80FE-0C40C79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2988-661B-4357-BD08-81CC167B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4109-1DB8-4F27-BBF9-07B316F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FBC3-69D7-41B5-A3E1-E57ADA2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A08D-3FAC-485B-BC2E-EFC96A7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0E879-C355-4889-B0AB-AEF5EAEC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2AD5-DDC9-4628-8572-F3DE97F6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DFB96-AEF5-4F0F-B0D3-E9A3BB76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4BAE-089A-4E6D-9978-3D1FA971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BA9-F452-4CC8-9953-2D9753C8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91049-12ED-4D5E-B474-6851F219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BD085-EBEB-4B80-8DE0-FB81708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7365D-0438-4E45-A697-E4F69F33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2B9E-ADD1-4980-A054-03388A3B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B52F3-45C8-4B40-B483-AAFF4689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DF5C4-6990-4A8F-9779-CBD73E28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534D-4E9A-4BCB-B58B-75AF143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B807-0B89-4135-A895-D281789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551F7-8798-4B07-BA1A-EDB35FF7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CABA-F945-4E07-88BA-3908D74C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983-4FED-45AF-AEA0-272381A5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C4E2-05F0-437D-AD77-F8301B9B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D9839-891D-4D99-9844-F74C1A36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5BD51-144A-4220-82BD-04A0FDE4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A6B4C-8B30-4811-89D9-46E0FFA8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58D91-79A7-4E57-B87B-614A8542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91D0D-0857-4066-A470-BAF89CA8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E06F9-C06F-469E-A54F-471A158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F8D48-D9A3-4E2D-916A-AE324ED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426EC-0B69-43EF-AD2D-93EA0FB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4851F-722D-4D1C-8544-E5E7070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D35-A21C-4C99-92B0-30A0AA26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3906D-4362-49EF-A539-7A48EDB4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444BB-604D-4D53-8A24-ECB6646D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8607B-D164-4488-BAA2-50B3372B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82804-D4A8-40B6-90B3-7071236A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0011-5633-4E6B-B88E-E599B89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258BE-FA9D-4A4F-966E-816C280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5DDF-DD88-4F39-8BA0-3F0983E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2335-475E-45E7-98D7-DAD1183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DF997-512B-4E63-B1DA-018CD7C2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9ACDC-45BD-4A8A-81B4-54B54B7D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A8E-7C88-40CE-9FFB-59C1C4A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8741-1D18-495C-BDF8-C8140FC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0FC99-E652-49C4-B19F-A0D09D6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F2432-C869-4789-B779-1423B5A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D9B42-3827-4DA5-A04F-DF8E0178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F62DF-BE84-4906-984F-69BB284B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082B1-F144-4352-8DED-77CC6827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89C10-A3E8-4510-83DE-EAA31F1D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4C86B-4EBD-415D-BF37-8B154A6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FFA0F-6889-4CE4-AAFB-E06EA459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A2BD-33D4-4040-81E5-CF6E6EE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407-254D-4E81-B818-11542CA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4ADC-CA9F-4EAE-AD60-541D9DD5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75F5E-62C3-466C-A903-A928E2E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E3088-ED55-43AD-9D49-73E3B3FD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FE42-C9DE-4E32-9E98-4846488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B2CC4-1E6F-4C06-BC39-29736E03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580E-A199-401B-934B-8AAACFE3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4C563-399F-4C48-8793-9065E00C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04B09A-EF68-4DE2-85DB-A8F9A70E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E6692-2D71-45F8-9DDA-9A81EF0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4B5088-A022-4865-AEAB-7B8DCC9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8B8-65A0-425E-B764-FBE2D02F1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A3E1-3787-44B4-A1CD-9C4C11A4FF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2152-350D-48F6-81EB-E255EEB54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3AA-FFA9-441A-99E9-234A60928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70A6-2A33-4B1B-A935-41FCFA92E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B14E-D98F-48BB-B495-AE41A0AAD7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DD2C-1595-4AFF-B770-63A1FF15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3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8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E98E-CC6A-4CB1-9A68-DD55D566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2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C3A8-3E0D-484F-97BC-4DD275E4A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220A-71AC-4440-BEB2-7B73ED10E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clipartpanda.com/storm-clouds-clipart-rain-cloud-hi.png" TargetMode="External"/><Relationship Id="rId2" Type="http://schemas.openxmlformats.org/officeDocument/2006/relationships/hyperlink" Target="http://images.clipartpanda.com/storm-clouds-clipart-rain-cloud-hi.png" TargetMode="External"/><Relationship Id="rId3" Type="http://schemas.openxmlformats.org/officeDocument/2006/relationships/hyperlink" Target="http://images.clipartpanda.com/storm-clouds-clipart-rain-cloud-hi.png" TargetMode="External"/><Relationship Id="rId4" Type="http://schemas.openxmlformats.org/officeDocument/2006/relationships/hyperlink" Target="http://images.clipartpanda.com/storm-clouds-clipart-rain-cloud-hi.png" TargetMode="External"/><Relationship Id="rId5" Type="http://schemas.openxmlformats.org/officeDocument/2006/relationships/hyperlink" Target="http://images.clipartpanda.com/storm-clouds-clipart-rain-cloud-hi.png" TargetMode="External"/><Relationship Id="rId6" Type="http://schemas.openxmlformats.org/officeDocument/2006/relationships/hyperlink" Target="http://previews.123rf.com/images/chudtsankov/chudtsankov1207/chudtsankov120700010/14466450-Happy-Water-Drop-Looking-Around-A-Sign-Stock-Vector-raindrop.jpg" TargetMode="External"/><Relationship Id="rId7" Type="http://schemas.openxmlformats.org/officeDocument/2006/relationships/hyperlink" Target="http://previews.123rf.com/images/chudtsankov/chudtsankov1207/chudtsankov120700010/14466450-Happy-Water-Drop-Looking-Around-A-Sign-Stock-Vector-raindrop.jpg" TargetMode="External"/><Relationship Id="rId8" Type="http://schemas.openxmlformats.org/officeDocument/2006/relationships/hyperlink" Target="http://previews.123rf.com/images/chudtsankov/chudtsankov1207/chudtsankov120700010/14466450-Happy-Water-Drop-Looking-Around-A-Sign-Stock-Vector-raindrop.jpg" TargetMode="External"/><Relationship Id="rId9" Type="http://schemas.openxmlformats.org/officeDocument/2006/relationships/hyperlink" Target="http://previews.123rf.com/images/chudtsankov/chudtsankov1207/chudtsankov120700010/14466450-Happy-Water-Drop-Looking-Around-A-Sign-Stock-Vector-raindrop.jpg" TargetMode="External"/><Relationship Id="rId10" Type="http://schemas.openxmlformats.org/officeDocument/2006/relationships/hyperlink" Target="http://previews.123rf.com/images/chudtsankov/chudtsankov1207/chudtsankov120700010/14466450-Happy-Water-Drop-Looking-Around-A-Sign-Stock-Vector-raindrop.jpg" TargetMode="External"/><Relationship Id="rId11" Type="http://schemas.openxmlformats.org/officeDocument/2006/relationships/hyperlink" Target="http://previews.123rf.com/images/chudtsankov/chudtsankov1207/chudtsankov120700010/14466450-Happy-Water-Drop-Looking-Around-A-Sign-Stock-Vector-raindrop.jpg" TargetMode="External"/><Relationship Id="rId12" Type="http://schemas.openxmlformats.org/officeDocument/2006/relationships/hyperlink" Target="http://previews.123rf.com/images/chudtsankov/chudtsankov1207/chudtsankov120700010/14466450-Happy-Water-Drop-Looking-Around-A-Sign-Stock-Vector-raindrop.jpg" TargetMode="External"/><Relationship Id="rId13" Type="http://schemas.openxmlformats.org/officeDocument/2006/relationships/hyperlink" Target="http://nichosy.com/wp-content/uploads/2015/09/65084185_1286644433_2b67aa805364.jpg" TargetMode="External"/><Relationship Id="rId14" Type="http://schemas.openxmlformats.org/officeDocument/2006/relationships/hyperlink" Target="http://nichosy.com/wp-content/uploads/2015/09/65084185_1286644433_2b67aa805364.jpg" TargetMode="External"/><Relationship Id="rId15" Type="http://schemas.openxmlformats.org/officeDocument/2006/relationships/hyperlink" Target="http://nichosy.com/wp-content/uploads/2015/09/65084185_1286644433_2b67aa805364.jpg" TargetMode="External"/><Relationship Id="rId16" Type="http://schemas.openxmlformats.org/officeDocument/2006/relationships/hyperlink" Target="http://nichosy.com/wp-content/uploads/2015/09/65084185_1286644433_2b67aa805364.jpg" TargetMode="External"/><Relationship Id="rId17" Type="http://schemas.openxmlformats.org/officeDocument/2006/relationships/hyperlink" Target="http://nichosy.com/wp-content/uploads/2015/09/65084185_1286644433_2b67aa805364.jpg" TargetMode="External"/><Relationship Id="rId18" Type="http://schemas.openxmlformats.org/officeDocument/2006/relationships/hyperlink" Target="http://nichosy.com/wp-content/uploads/2015/09/65084185_1286644433_2b67aa805364.jpg" TargetMode="External"/><Relationship Id="rId19" Type="http://schemas.openxmlformats.org/officeDocument/2006/relationships/hyperlink" Target="http://nichosy.com/wp-content/uploads/2015/09/65084185_1286644433_2b67aa805364.jpg" TargetMode="External"/><Relationship Id="rId20" Type="http://schemas.openxmlformats.org/officeDocument/2006/relationships/hyperlink" Target="http://nichosy.com/wp-content/uploads/2015/09/65084185_1286644433_2b67aa805364.jpg" TargetMode="External"/><Relationship Id="rId21" Type="http://schemas.openxmlformats.org/officeDocument/2006/relationships/hyperlink" Target="http://cliparts.co/cliparts/6Tr/6Mz/6Tr6Mz6TK.jpg" TargetMode="External"/><Relationship Id="rId22" Type="http://schemas.openxmlformats.org/officeDocument/2006/relationships/hyperlink" Target="http://cliparts.co/cliparts/6Tr/6Mz/6Tr6Mz6TK.jpg" TargetMode="External"/><Relationship Id="rId23" Type="http://schemas.openxmlformats.org/officeDocument/2006/relationships/hyperlink" Target="http://cliparts.co/cliparts/6Tr/6Mz/6Tr6Mz6TK.jpg" TargetMode="External"/><Relationship Id="rId24" Type="http://schemas.openxmlformats.org/officeDocument/2006/relationships/hyperlink" Target="http://cliparts.co/cliparts/6Tr/6Mz/6Tr6Mz6TK.jpg" TargetMode="External"/><Relationship Id="rId25" Type="http://schemas.openxmlformats.org/officeDocument/2006/relationships/hyperlink" Target="http://cliparts.co/cliparts/6Tr/6Mz/6Tr6Mz6TK.jpg" TargetMode="External"/><Relationship Id="rId26" Type="http://schemas.openxmlformats.org/officeDocument/2006/relationships/hyperlink" Target="http://cliparts.co/cliparts/6Tr/6Mz/6Tr6Mz6TK.jpg" TargetMode="External"/><Relationship Id="rId27" Type="http://schemas.openxmlformats.org/officeDocument/2006/relationships/hyperlink" Target="https://i.incamp.ru/u/1/128/delfin-58-8.jpg" TargetMode="External"/><Relationship Id="rId28" Type="http://schemas.openxmlformats.org/officeDocument/2006/relationships/hyperlink" Target="https://i.incamp.ru/u/1/128/delfin-58-8.jpg" TargetMode="External"/><Relationship Id="rId29" Type="http://schemas.openxmlformats.org/officeDocument/2006/relationships/hyperlink" Target="https://i.incamp.ru/u/1/128/delfin-58-8.jpg" TargetMode="External"/><Relationship Id="rId30" Type="http://schemas.openxmlformats.org/officeDocument/2006/relationships/hyperlink" Target="https://i.incamp.ru/u/1/128/delfin-58-8.jpg" TargetMode="External"/><Relationship Id="rId31" Type="http://schemas.openxmlformats.org/officeDocument/2006/relationships/hyperlink" Target="http://www.marykay.pl/pl-PL/TipsAndTrends/PublishingImages/kropelka4.jpg" TargetMode="External"/><Relationship Id="rId32" Type="http://schemas.openxmlformats.org/officeDocument/2006/relationships/hyperlink" Target="http://www.marykay.pl/pl-PL/TipsAndTrends/PublishingImages/kropelka4.jpg" TargetMode="External"/><Relationship Id="rId33" Type="http://schemas.openxmlformats.org/officeDocument/2006/relationships/hyperlink" Target="http://www.marykay.pl/pl-PL/TipsAndTrends/PublishingImages/kropelka4.jpg" TargetMode="External"/><Relationship Id="rId34" Type="http://schemas.openxmlformats.org/officeDocument/2006/relationships/hyperlink" Target="http://www.marykay.pl/pl-PL/TipsAndTrends/PublishingImages/kropelka4.jpg" TargetMode="External"/><Relationship Id="rId35" Type="http://schemas.openxmlformats.org/officeDocument/2006/relationships/hyperlink" Target="http://www.marykay.pl/pl-PL/TipsAndTrends/PublishingImages/kropelka4.jpg" TargetMode="External"/><Relationship Id="rId36" Type="http://schemas.openxmlformats.org/officeDocument/2006/relationships/hyperlink" Target="http://www.marykay.pl/pl-PL/TipsAndTrends/PublishingImages/kropelka4.jpg" TargetMode="External"/><Relationship Id="rId37" Type="http://schemas.openxmlformats.org/officeDocument/2006/relationships/hyperlink" Target="http://www.marykay.pl/pl-PL/TipsAndTrends/PublishingImages/kropelka4.jpg" TargetMode="External"/><Relationship Id="rId38" Type="http://schemas.openxmlformats.org/officeDocument/2006/relationships/hyperlink" Target="http://www.marykay.pl/pl-PL/TipsAndTrends/PublishingImages/kropelka4.jpg" TargetMode="External"/><Relationship Id="rId39" Type="http://schemas.openxmlformats.org/officeDocument/2006/relationships/hyperlink" Target="http://www.marykay.pl/pl-PL/TipsAndTrends/PublishingImages/kropelka4.jpg" TargetMode="External"/><Relationship Id="rId40" Type="http://schemas.openxmlformats.org/officeDocument/2006/relationships/hyperlink" Target="http://www.marykay.pl/pl-PL/TipsAndTrends/PublishingImages/kropelka4.jpg" TargetMode="External"/><Relationship Id="rId41" Type="http://schemas.openxmlformats.org/officeDocument/2006/relationships/hyperlink" Target="http://kanalizaciyam.ru/wp-content/uploads/kak-razobrat-kran.jpg" TargetMode="External"/><Relationship Id="rId42" Type="http://schemas.openxmlformats.org/officeDocument/2006/relationships/hyperlink" Target="http://kanalizaciyam.ru/wp-content/uploads/kak-razobrat-kran.jpg" TargetMode="External"/><Relationship Id="rId43" Type="http://schemas.openxmlformats.org/officeDocument/2006/relationships/hyperlink" Target="http://kanalizaciyam.ru/wp-content/uploads/kak-razobrat-kran.jpg" TargetMode="External"/><Relationship Id="rId44" Type="http://schemas.openxmlformats.org/officeDocument/2006/relationships/hyperlink" Target="http://kanalizaciyam.ru/wp-content/uploads/kak-razobrat-kran.jpg" TargetMode="External"/><Relationship Id="rId45" Type="http://schemas.openxmlformats.org/officeDocument/2006/relationships/hyperlink" Target="http://kanalizaciyam.ru/wp-content/uploads/kak-razobrat-kran.jpg" TargetMode="External"/><Relationship Id="rId46" Type="http://schemas.openxmlformats.org/officeDocument/2006/relationships/hyperlink" Target="http://kanalizaciyam.ru/wp-content/uploads/kak-razobrat-kran.jpg" TargetMode="External"/><Relationship Id="rId47" Type="http://schemas.openxmlformats.org/officeDocument/2006/relationships/hyperlink" Target="http://kanalizaciyam.ru/wp-content/uploads/kak-razobrat-kran.jpg" TargetMode="External"/><Relationship Id="rId48" Type="http://schemas.openxmlformats.org/officeDocument/2006/relationships/hyperlink" Target="http://kanalizaciyam.ru/wp-content/uploads/kak-razobrat-kran.jpg" TargetMode="External"/><Relationship Id="rId49" Type="http://schemas.openxmlformats.org/officeDocument/2006/relationships/hyperlink" Target="http://kanalizaciyam.ru/wp-content/uploads/kak-razobrat-kran.jpg" TargetMode="External"/><Relationship Id="rId50" Type="http://schemas.openxmlformats.org/officeDocument/2006/relationships/hyperlink" Target="http://amber.ua/products_pictures/medium_big_btsmall_p3360_396663.jpg" TargetMode="External"/><Relationship Id="rId51" Type="http://schemas.openxmlformats.org/officeDocument/2006/relationships/hyperlink" Target="http://amber.ua/products_pictures/medium_big_btsmall_p3360_396663.jpg" TargetMode="External"/><Relationship Id="rId52" Type="http://schemas.openxmlformats.org/officeDocument/2006/relationships/hyperlink" Target="http://amber.ua/products_pictures/medium_big_btsmall_p3360_396663.jpg" TargetMode="External"/><Relationship Id="rId53" Type="http://schemas.openxmlformats.org/officeDocument/2006/relationships/hyperlink" Target="http://amber.ua/products_pictures/medium_big_btsmall_p3360_396663.jpg" TargetMode="External"/><Relationship Id="rId54" Type="http://schemas.openxmlformats.org/officeDocument/2006/relationships/hyperlink" Target="http://amber.ua/products_pictures/medium_big_btsmall_p3360_396663.jpg" TargetMode="External"/><Relationship Id="rId55" Type="http://schemas.openxmlformats.org/officeDocument/2006/relationships/hyperlink" Target="http://amber.ua/products_pictures/medium_big_btsmall_p3360_396663.jpg" TargetMode="External"/><Relationship Id="rId56" Type="http://schemas.openxmlformats.org/officeDocument/2006/relationships/hyperlink" Target="http://www.cutleryandmore.com/content/products/large/11481.jpg" TargetMode="External"/><Relationship Id="rId57" Type="http://schemas.openxmlformats.org/officeDocument/2006/relationships/hyperlink" Target="http://www.cutleryandmore.com/content/products/large/11481.jpg" TargetMode="External"/><Relationship Id="rId58" Type="http://schemas.openxmlformats.org/officeDocument/2006/relationships/hyperlink" Target="http://www.cutleryandmore.com/content/products/large/11481.jpg" TargetMode="External"/><Relationship Id="rId59" Type="http://schemas.openxmlformats.org/officeDocument/2006/relationships/hyperlink" Target="http://www.cutleryandmore.com/content/products/large/11481.jpg" TargetMode="External"/><Relationship Id="rId60" Type="http://schemas.openxmlformats.org/officeDocument/2006/relationships/hyperlink" Target="http://www.cutleryandmore.com/content/products/large/11481.jpg" TargetMode="External"/><Relationship Id="rId61" Type="http://schemas.openxmlformats.org/officeDocument/2006/relationships/hyperlink" Target="http://www.cutleryandmore.com/content/products/large/11481.jpg" TargetMode="External"/><Relationship Id="rId62" Type="http://schemas.openxmlformats.org/officeDocument/2006/relationships/hyperlink" Target="http://www.cutleryandmore.com/content/products/large/11481.jpg" TargetMode="External"/><Relationship Id="rId63" Type="http://schemas.openxmlformats.org/officeDocument/2006/relationships/hyperlink" Target="http://www.cutleryandmore.com/content/products/large/11481.jpg" TargetMode="External"/><Relationship Id="rId64" Type="http://schemas.openxmlformats.org/officeDocument/2006/relationships/hyperlink" Target="http://www.cutleryandmore.com/content/products/large/11481.jpg" TargetMode="External"/><Relationship Id="rId65" Type="http://schemas.openxmlformats.org/officeDocument/2006/relationships/hyperlink" Target="http://www.cutleryandmore.com/content/products/large/11481.jpg" TargetMode="External"/><Relationship Id="rId66" Type="http://schemas.openxmlformats.org/officeDocument/2006/relationships/hyperlink" Target="http://img.mota.ru/upload/wallpapers/source/2015/08/09/18/05/45210/mota.ru-20150808184.jpg" TargetMode="External"/><Relationship Id="rId67" Type="http://schemas.openxmlformats.org/officeDocument/2006/relationships/hyperlink" Target="http://img.mota.ru/upload/wallpapers/source/2015/08/09/18/05/45210/mota.ru-20150808184.jpg" TargetMode="External"/><Relationship Id="rId68" Type="http://schemas.openxmlformats.org/officeDocument/2006/relationships/hyperlink" Target="http://img.mota.ru/upload/wallpapers/source/2015/08/09/18/05/45210/mota.ru-20150808184.jpg" TargetMode="External"/><Relationship Id="rId69" Type="http://schemas.openxmlformats.org/officeDocument/2006/relationships/hyperlink" Target="http://img.mota.ru/upload/wallpapers/source/2015/08/09/18/05/45210/mota.ru-20150808184.jpg" TargetMode="External"/><Relationship Id="rId70" Type="http://schemas.openxmlformats.org/officeDocument/2006/relationships/hyperlink" Target="http://img.mota.ru/upload/wallpapers/source/2015/08/09/18/05/45210/mota.ru-20150808184.jpg" TargetMode="External"/><Relationship Id="rId71" Type="http://schemas.openxmlformats.org/officeDocument/2006/relationships/hyperlink" Target="http://img.mota.ru/upload/wallpapers/source/2015/08/09/18/05/45210/mota.ru-20150808184.jpg" TargetMode="External"/><Relationship Id="rId72" Type="http://schemas.openxmlformats.org/officeDocument/2006/relationships/hyperlink" Target="http://img.mota.ru/upload/wallpapers/source/2015/08/09/18/05/45210/mota.ru-20150808184.jpg" TargetMode="External"/><Relationship Id="rId73" Type="http://schemas.openxmlformats.org/officeDocument/2006/relationships/hyperlink" Target="http://img.mota.ru/upload/wallpapers/source/2015/08/09/18/05/45210/mota.ru-20150808184.jpg" TargetMode="External"/><Relationship Id="rId74" Type="http://schemas.openxmlformats.org/officeDocument/2006/relationships/hyperlink" Target="http://img.mota.ru/upload/wallpapers/source/2015/08/09/18/05/45210/mota.ru-20150808184.jpg" TargetMode="External"/><Relationship Id="rId75" Type="http://schemas.openxmlformats.org/officeDocument/2006/relationships/hyperlink" Target="http://img.mota.ru/upload/wallpapers/source/2015/08/09/18/05/45210/mota.ru-20150808184.jpg" TargetMode="External"/><Relationship Id="rId76" Type="http://schemas.openxmlformats.org/officeDocument/2006/relationships/hyperlink" Target="https://pp.vk.me/c622031/v622031732/3f14f/32WaRGVNh5s.jpg" TargetMode="External"/><Relationship Id="rId77" Type="http://schemas.openxmlformats.org/officeDocument/2006/relationships/hyperlink" Target="https://pp.vk.me/c622031/v622031732/3f14f/32WaRGVNh5s.jpg" TargetMode="External"/><Relationship Id="rId78" Type="http://schemas.openxmlformats.org/officeDocument/2006/relationships/hyperlink" Target="https://pp.vk.me/c622031/v622031732/3f14f/32WaRGVNh5s.jpg" TargetMode="External"/><Relationship Id="rId79" Type="http://schemas.openxmlformats.org/officeDocument/2006/relationships/hyperlink" Target="https://pp.vk.me/c622031/v622031732/3f14f/32WaRGVNh5s.jpg" TargetMode="External"/><Relationship Id="rId80" Type="http://schemas.openxmlformats.org/officeDocument/2006/relationships/hyperlink" Target="http://rita.netnado.ru/umot/mi-zdoroveyu-skajem-da/9.png" TargetMode="External"/><Relationship Id="rId81" Type="http://schemas.openxmlformats.org/officeDocument/2006/relationships/hyperlink" Target="http://rita.netnado.ru/umot/mi-zdoroveyu-skajem-da/9.png" TargetMode="External"/><Relationship Id="rId82" Type="http://schemas.openxmlformats.org/officeDocument/2006/relationships/hyperlink" Target="http://rita.netnado.ru/umot/mi-zdoroveyu-skajem-da/9.png" TargetMode="External"/><Relationship Id="rId83" Type="http://schemas.openxmlformats.org/officeDocument/2006/relationships/hyperlink" Target="http://rita.netnado.ru/umot/mi-zdoroveyu-skajem-da/9.png" TargetMode="External"/><Relationship Id="rId84" Type="http://schemas.openxmlformats.org/officeDocument/2006/relationships/hyperlink" Target="http://rita.netnado.ru/umot/mi-zdoroveyu-skajem-da/9.png" TargetMode="External"/><Relationship Id="rId85" Type="http://schemas.openxmlformats.org/officeDocument/2006/relationships/hyperlink" Target="http://rita.netnado.ru/umot/mi-zdoroveyu-skajem-da/9.png" TargetMode="External"/><Relationship Id="rId86" Type="http://schemas.openxmlformats.org/officeDocument/2006/relationships/hyperlink" Target="http://rita.netnado.ru/umot/mi-zdoroveyu-skajem-da/9.png" TargetMode="External"/><Relationship Id="rId87" Type="http://schemas.openxmlformats.org/officeDocument/2006/relationships/hyperlink" Target="http://rita.netnado.ru/umot/mi-zdoroveyu-skajem-da/9.png" TargetMode="External"/><Relationship Id="rId88" Type="http://schemas.openxmlformats.org/officeDocument/2006/relationships/hyperlink" Target="https://deti.mail.ru/pre_square800_resize/pic/wysiwyg/2015/08/12/3a.jpg" TargetMode="External"/><Relationship Id="rId89" Type="http://schemas.openxmlformats.org/officeDocument/2006/relationships/hyperlink" Target="https://deti.mail.ru/pre_square800_resize/pic/wysiwyg/2015/08/12/3a.jpg" TargetMode="External"/><Relationship Id="rId90" Type="http://schemas.openxmlformats.org/officeDocument/2006/relationships/hyperlink" Target="https://deti.mail.ru/pre_square800_resize/pic/wysiwyg/2015/08/12/3a.jpg" TargetMode="External"/><Relationship Id="rId91" Type="http://schemas.openxmlformats.org/officeDocument/2006/relationships/hyperlink" Target="https://deti.mail.ru/pre_square800_resize/pic/wysiwyg/2015/08/12/3a.jpg" TargetMode="External"/><Relationship Id="rId92" Type="http://schemas.openxmlformats.org/officeDocument/2006/relationships/hyperlink" Target="https://deti.mail.ru/pre_square800_resize/pic/wysiwyg/2015/08/12/3a.jpg" TargetMode="External"/><Relationship Id="rId93" Type="http://schemas.openxmlformats.org/officeDocument/2006/relationships/hyperlink" Target="https://deti.mail.ru/pre_square800_resize/pic/wysiwyg/2015/08/12/3a.jpg" TargetMode="External"/><Relationship Id="rId94" Type="http://schemas.openxmlformats.org/officeDocument/2006/relationships/hyperlink" Target="https://deti.mail.ru/pre_square800_resize/pic/wysiwyg/2015/08/12/3a.jpg" TargetMode="External"/><Relationship Id="rId95" Type="http://schemas.openxmlformats.org/officeDocument/2006/relationships/hyperlink" Target="https://deti.mail.ru/pre_square800_resize/pic/wysiwyg/2015/08/12/3a.jpg" TargetMode="External"/><Relationship Id="rId96" Type="http://schemas.openxmlformats.org/officeDocument/2006/relationships/hyperlink" Target="http://best-photos.ru/albums/userpics/10013/water3064.jpg" TargetMode="External"/><Relationship Id="rId97" Type="http://schemas.openxmlformats.org/officeDocument/2006/relationships/hyperlink" Target="http://best-photos.ru/albums/userpics/10013/water3064.jpg" TargetMode="External"/><Relationship Id="rId98" Type="http://schemas.openxmlformats.org/officeDocument/2006/relationships/hyperlink" Target="http://best-photos.ru/albums/userpics/10013/water3064.jpg" TargetMode="External"/><Relationship Id="rId99" Type="http://schemas.openxmlformats.org/officeDocument/2006/relationships/hyperlink" Target="http://best-photos.ru/albums/userpics/10013/water3064.jpg" TargetMode="External"/><Relationship Id="rId100" Type="http://schemas.openxmlformats.org/officeDocument/2006/relationships/hyperlink" Target="http://best-photos.ru/albums/userpics/10013/water3064.jpg" TargetMode="External"/><Relationship Id="rId101" Type="http://schemas.openxmlformats.org/officeDocument/2006/relationships/hyperlink" Target="http://best-photos.ru/albums/userpics/10013/water3064.jpg" TargetMode="External"/><Relationship Id="rId102" Type="http://schemas.openxmlformats.org/officeDocument/2006/relationships/hyperlink" Target="http://best-photos.ru/albums/userpics/10013/water3064.jpg" TargetMode="External"/><Relationship Id="rId103" Type="http://schemas.openxmlformats.org/officeDocument/2006/relationships/hyperlink" Target="http://best-photos.ru/albums/userpics/10013/water3064.jpg" TargetMode="External"/><Relationship Id="rId10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cccc"/>
                </a:solidFill>
                <a:latin typeface="Tahoma"/>
              </a:rPr>
              <a:t>Игры с капелькой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907640" y="4508280"/>
            <a:ext cx="655164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 ДО «Планета детства «Лада» ДС №140 «Златовлас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фильтр"/>
          <p:cNvPicPr/>
          <p:nvPr/>
        </p:nvPicPr>
        <p:blipFill>
          <a:blip r:embed="rId1"/>
          <a:stretch/>
        </p:blipFill>
        <p:spPr>
          <a:xfrm>
            <a:off x="468360" y="1413000"/>
            <a:ext cx="4032360" cy="4680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11481"/>
          <p:cNvPicPr/>
          <p:nvPr/>
        </p:nvPicPr>
        <p:blipFill>
          <a:blip r:embed="rId2"/>
          <a:stretch/>
        </p:blipFill>
        <p:spPr>
          <a:xfrm>
            <a:off x="3995640" y="765000"/>
            <a:ext cx="5148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ле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ле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white-paper-background"/>
          <p:cNvPicPr/>
          <p:nvPr/>
        </p:nvPicPr>
        <p:blipFill>
          <a:blip r:embed="rId2"/>
          <a:stretch/>
        </p:blipFill>
        <p:spPr>
          <a:xfrm>
            <a:off x="2195640" y="3213000"/>
            <a:ext cx="1368360" cy="720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depositphotos_12492628-Water-drop-with-welcoming-open"/>
          <p:cNvPicPr/>
          <p:nvPr/>
        </p:nvPicPr>
        <p:blipFill>
          <a:blip r:embed="rId3"/>
          <a:stretch/>
        </p:blipFill>
        <p:spPr>
          <a:xfrm>
            <a:off x="1042920" y="2143080"/>
            <a:ext cx="31971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32WaRGVNh5s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85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4167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water3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лгоритм окрашивания 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468360" y="1687680"/>
            <a:ext cx="86756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68896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6" name="Picture 4" descr="401-raskraska-tsvetok"/>
          <p:cNvPicPr/>
          <p:nvPr/>
        </p:nvPicPr>
        <p:blipFill>
          <a:blip r:embed="rId2"/>
          <a:stretch/>
        </p:blipFill>
        <p:spPr>
          <a:xfrm rot="20626800">
            <a:off x="77400" y="428760"/>
            <a:ext cx="3241800" cy="3456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5317b6799188715d5e00a638a4278901"/>
          <p:cNvPicPr/>
          <p:nvPr/>
        </p:nvPicPr>
        <p:blipFill>
          <a:blip r:embed="rId3"/>
          <a:stretch/>
        </p:blipFill>
        <p:spPr>
          <a:xfrm>
            <a:off x="2484360" y="333360"/>
            <a:ext cx="3311640" cy="3411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1230059942_raskraska_rssrrrjosr_05"/>
          <p:cNvPicPr/>
          <p:nvPr/>
        </p:nvPicPr>
        <p:blipFill>
          <a:blip r:embed="rId4"/>
          <a:stretch/>
        </p:blipFill>
        <p:spPr>
          <a:xfrm rot="963600">
            <a:off x="5501880" y="159840"/>
            <a:ext cx="3448080" cy="3816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chicken-1-coloring-page"/>
          <p:cNvPicPr/>
          <p:nvPr/>
        </p:nvPicPr>
        <p:blipFill>
          <a:blip r:embed="rId5"/>
          <a:stretch/>
        </p:blipFill>
        <p:spPr>
          <a:xfrm rot="20731800">
            <a:off x="1600200" y="3718080"/>
            <a:ext cx="2916360" cy="27860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raskraski-devochkam-3-goda5"/>
          <p:cNvPicPr/>
          <p:nvPr/>
        </p:nvPicPr>
        <p:blipFill>
          <a:blip r:embed="rId6"/>
          <a:stretch/>
        </p:blipFill>
        <p:spPr>
          <a:xfrm rot="777000">
            <a:off x="4500360" y="3500280"/>
            <a:ext cx="3311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туча"/>
          <p:cNvPicPr/>
          <p:nvPr/>
        </p:nvPicPr>
        <p:blipFill>
          <a:blip r:embed="rId1"/>
          <a:stretch/>
        </p:blipFill>
        <p:spPr>
          <a:xfrm>
            <a:off x="1758960" y="639720"/>
            <a:ext cx="56260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928800" y="1357200"/>
            <a:ext cx="7554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Copperplate Gothic Bold"/>
              </a:rPr>
              <a:t>Интернет ресур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images.clipartpanda.com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storm-clouds-clipart-rain-cloud-h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://previews.123rf.com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chudtsankov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/chudtsankov1207/chudtsankov120700010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14466450-Happy-Water-Drop-Looking-Around-A-Sign-Stock-Vector-raindro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nichosy.com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7"/>
              </a:rPr>
              <a:t>wp-content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8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upload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/2015/09/65084185_1286644433_2b67aa805364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cliparts.co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5"/>
              </a:rPr>
              <a:t>clipart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6"/>
              </a:rPr>
              <a:t>/6Tr/6Mz/6Tr6Mz6TK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7"/>
              </a:rPr>
              <a:t>http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29"/>
              </a:rPr>
              <a:t>i.incamp.ru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0"/>
              </a:rPr>
              <a:t>/u/1/128/delfin-58-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1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2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3"/>
              </a:rPr>
              <a:t>www.marykay.pl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5"/>
              </a:rPr>
              <a:t>pl-PL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6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7"/>
              </a:rPr>
              <a:t>TipsAndTrend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8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39"/>
              </a:rPr>
              <a:t>PublishingImage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0"/>
              </a:rPr>
              <a:t>/kropelka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1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2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3"/>
              </a:rPr>
              <a:t>kanalizaciyam.ru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4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5"/>
              </a:rPr>
              <a:t>wp-content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6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7"/>
              </a:rPr>
              <a:t>upload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8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49"/>
              </a:rPr>
              <a:t>kak-razobrat-kra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0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1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2"/>
              </a:rPr>
              <a:t>amber.ua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4"/>
              </a:rPr>
              <a:t>products_picture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5"/>
              </a:rPr>
              <a:t>/medium_big_btsmall_p3360_39666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6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7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8"/>
              </a:rPr>
              <a:t>www.cutleryandmore.com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0"/>
              </a:rPr>
              <a:t>content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2"/>
              </a:rPr>
              <a:t>product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3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4"/>
              </a:rPr>
              <a:t>large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5"/>
              </a:rPr>
              <a:t>/1148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6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7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8"/>
              </a:rPr>
              <a:t>img.mota.ru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69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0"/>
              </a:rPr>
              <a:t>upload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1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2"/>
              </a:rPr>
              <a:t>wallpaper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3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4"/>
              </a:rPr>
              <a:t>source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5"/>
              </a:rPr>
              <a:t>/2015/08/09/18/05/45210/mota.ru-2015080818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6"/>
              </a:rPr>
              <a:t>http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7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8"/>
              </a:rPr>
              <a:t>pp.vk.me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79"/>
              </a:rPr>
              <a:t>/c622031/v622031732/3f14f/32WaRGVNh5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0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1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2"/>
              </a:rPr>
              <a:t>rita.netnado.ru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3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4"/>
              </a:rPr>
              <a:t>umot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5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6"/>
              </a:rPr>
              <a:t>mi-zdoroveyu-skajem-da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7"/>
              </a:rPr>
              <a:t>/9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8"/>
              </a:rPr>
              <a:t>http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89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0"/>
              </a:rPr>
              <a:t>deti.mail.ru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1"/>
              </a:rPr>
              <a:t>/pre_square800_resize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2"/>
              </a:rPr>
              <a:t>pic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3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4"/>
              </a:rPr>
              <a:t>wysiwyg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5"/>
              </a:rPr>
              <a:t>/2015/08/12/3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6"/>
              </a:rPr>
              <a:t>http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7"/>
              </a:rPr>
              <a:t>:/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8"/>
              </a:rPr>
              <a:t>best-photos.ru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99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00"/>
              </a:rPr>
              <a:t>album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01"/>
              </a:rPr>
              <a:t>/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02"/>
              </a:rPr>
              <a:t>userpics</a:t>
            </a:r>
            <a:r>
              <a:rPr b="0" lang="ru-RU" sz="1200" spc="-1" strike="noStrike" u="sng">
                <a:solidFill>
                  <a:srgbClr val="6767ff"/>
                </a:solidFill>
                <a:uFillTx/>
                <a:latin typeface="Arial"/>
                <a:hlinkClick r:id="rId103"/>
              </a:rPr>
              <a:t>/10013/water306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s://ds03.infourok.ru/uploads/ex/0617/00002d26-239b6176/hello_html_m60e1944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dpol4.ru/img/picture/Jun/02/cf42a0105b8776fab53d0027ac1728e8/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legri.ru/images/photos/5317b6799188715d5e00a638a427890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coollady.ru/puc/ras/94/89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celysvet.cz/skin/omalovanky/k_vytisknuti/zvirata-ptaci-cap/049d1ad020e0ccf5edd27fafaa0dbd76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Peak"/>
          <p:cNvPicPr/>
          <p:nvPr/>
        </p:nvPicPr>
        <p:blipFill>
          <a:blip r:embed="rId1"/>
          <a:stretch/>
        </p:blipFill>
        <p:spPr>
          <a:xfrm>
            <a:off x="4427640" y="260280"/>
            <a:ext cx="44146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луж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луж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капля"/>
          <p:cNvPicPr/>
          <p:nvPr/>
        </p:nvPicPr>
        <p:blipFill>
          <a:blip r:embed="rId2"/>
          <a:stretch/>
        </p:blipFill>
        <p:spPr>
          <a:xfrm>
            <a:off x="4284720" y="2492280"/>
            <a:ext cx="2055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капля"/>
          <p:cNvPicPr/>
          <p:nvPr/>
        </p:nvPicPr>
        <p:blipFill>
          <a:blip r:embed="rId2"/>
          <a:stretch/>
        </p:blipFill>
        <p:spPr>
          <a:xfrm>
            <a:off x="6858000" y="4143240"/>
            <a:ext cx="2055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кр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кр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капля"/>
          <p:cNvPicPr/>
          <p:nvPr/>
        </p:nvPicPr>
        <p:blipFill>
          <a:blip r:embed="rId2"/>
          <a:stretch/>
        </p:blipFill>
        <p:spPr>
          <a:xfrm>
            <a:off x="1476360" y="4068720"/>
            <a:ext cx="32925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14:42:11Z</dcterms:created>
  <dc:creator>Яна</dc:creator>
  <dc:description/>
  <dc:language>en-US</dc:language>
  <cp:lastModifiedBy>Яна</cp:lastModifiedBy>
  <dcterms:modified xsi:type="dcterms:W3CDTF">2016-12-07T07:53:13Z</dcterms:modified>
  <cp:revision>6</cp:revision>
  <dc:subject/>
  <dc:title>Игры с водой</dc:title>
</cp:coreProperties>
</file>