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862-3A68-41BC-9877-3D152A95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77A-8173-4B50-96D2-41A57702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351-759F-4E17-88D7-20B03FDD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640-5315-460A-81E5-27F94FF9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E3DB3-43E6-4854-87F0-E17BBEBC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33020-D4FF-4B0C-979B-34E210A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1E53C-64B3-48F8-8666-0A269333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87F51-647E-4F2A-8C96-CD17BADF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C64CF-67E5-46D1-8718-727AEB23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74FB8-B1A9-47B5-96C7-2393E6E7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3C280-ED35-4DE8-ACBB-EB3D7DC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26A-DC45-4FD9-84A9-7D52AB6A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36F04-EBC7-4954-8F7A-B20C1A0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9E22-4858-406C-9C88-ED4B031C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93A73-F5E7-4C8A-BCB2-2EADCE9F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D3E93-19C5-48E8-9EB0-D341E788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AA993-6B97-4380-A2BF-D9B9D395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E86-50DB-4A45-A3DE-887B130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C09-E452-411E-B950-24DE9575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5EE-A075-41AC-A566-A023F0B6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D29-7FFA-411A-89A3-86AEE65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D50-8E0F-4760-A05F-5BF4184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189-1B8A-46B7-83C1-4316D67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B90-10F6-4313-A95F-FEDA87F1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B315-07D2-4070-8C2C-540E9C68B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663-00EB-47BF-8BB2-16C89E7C6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юль-макушка лет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ександр Твард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ли Каримова Назгу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житдинова Лиана, учащиеся 7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6:47Z</dcterms:created>
  <dc:creator>Зиля</dc:creator>
  <dc:description/>
  <dc:language>en-US</dc:language>
  <cp:lastModifiedBy>Флида Фагимовна</cp:lastModifiedBy>
  <dcterms:modified xsi:type="dcterms:W3CDTF">2011-03-24T07:07:29Z</dcterms:modified>
  <cp:revision>4</cp:revision>
  <dc:subject/>
  <dc:title>Слайд 1</dc:title>
</cp:coreProperties>
</file>