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F24-4BB4-4E8F-9A25-D17C6391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957-06C0-40AB-82EB-47B93C4A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621-B683-43BD-8B9C-36793201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AF6-E0E3-4531-A9FE-45E922CC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1FC4-923C-4E48-932A-987673EC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E1F6-9DD0-4E11-BC63-97008FA4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8A91-BDEA-4F3C-A45E-87E5B53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F8B7-C3B0-4938-9AC1-8BF3D0B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EC88-9B49-4D13-83A7-692B947C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E23F-B3E5-48E4-B436-D8C4CA1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65A6-5770-46A8-90E6-ADACC8D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891-0CB0-4BD8-8E18-149D48D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CDE8-97A3-4D25-B402-6B932476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F2B-856A-4A61-B842-2272343C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4C0E-ABB5-42EB-AB9E-91CFB618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147-0B14-47ED-8D2A-3877F575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232-E7C8-45A6-B66D-F85D8581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1FD-12B7-4913-A189-5330B78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472-A604-446E-9C85-445B6A99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055-7AFF-4834-8649-8C8E191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2EB-A67F-4A95-8D74-9144FA0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482-31FB-4525-B25B-1418C5F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5C5-059D-494D-A7CB-E9162C6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E2D-030C-4D92-8445-3650C448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73D2-A201-41E2-A166-95FFAF384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33C-8766-4116-B0AF-2EB7FE569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ФОРМИРОВАНИЕ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КОММУНИКАТИВНЫХ УУД </a:t>
            </a: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НА УРОКАХ В НАЧАЛЬНОЙ ШК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4295" t="0" r="0" b="0"/>
          <a:stretch/>
        </p:blipFill>
        <p:spPr>
          <a:xfrm rot="2445600">
            <a:off x="6960960" y="490320"/>
            <a:ext cx="1971720" cy="146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 rot="17408400">
            <a:off x="-102960" y="63000"/>
            <a:ext cx="2462040" cy="2116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4876920" y="4724280"/>
            <a:ext cx="380988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тор: Постнов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начальных классов ГБОУ лицей № 64 г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:\Новый точечный рисунок.jpg"/>
          <p:cNvPicPr/>
          <p:nvPr/>
        </p:nvPicPr>
        <p:blipFill>
          <a:blip r:embed="rId3"/>
          <a:stretch/>
        </p:blipFill>
        <p:spPr>
          <a:xfrm>
            <a:off x="463680" y="4846680"/>
            <a:ext cx="24318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-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учите ребенка высказывать свои мысли. Во время его ответа на вопрос задавайте ему наводящие вопросы, составьте 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ребенка самого задавать уточняющие вопросы по материалу, переспрашивать, уточ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-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Не бойтесь «нестандартных уроков», попробуйте, различные виды игр, дискуссий и групповой работы для освоения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8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ния, добываемые насильно, душат разу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А.Фр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«Успех зависит на 15 % от знани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и на 85%  - от умения общаться с людьми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«подать себ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Дейл Карне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ММУНИКАТИВНЫЕ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560" y="99072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 планирование учебного сотрудничества с учителем и сверстниками – определение цели, функций участников, способов взаимодейств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 постановка вопросов – инициативное сотрудничество в поиске и сборе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 разрешение конфликтов – выявление, идентификация проблемы, поиск и оценка альтернативных способов разрешения конфликта, принятие решения и его реализ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умения с достаточной полнотой и точностью выражать свои мысли в соответствии с задачами и условиями коммуник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умения работать в парах и малых групп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343400" y="990720"/>
            <a:ext cx="4595760" cy="73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 владение монологической и диалогической формами речи в соответствии с грамматическими и синтаксическими нормами родного язы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умения объяснять свой выбор, строить фразы, отвечать на поставленный вопрос, аргументирова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вербальных способов коммуникации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невербальных способов коммуникации – посредством контакта глаз, мимики, жестов, позы, интонации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опосредованной коммуникации (использование знаков и символ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ИТЕРИИ  СФОРМИРОВАННОСТИ 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7800" y="8377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лание вступать в контакт с окружающ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знание норм и правил, которым  необходимо следовать при общении с окружающ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 умение организовать общение, эмоционально сопереживать, умение решать конфликтные ситу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ФОРМЫ ОРГАНИЗАЦИИ КОММУНИКАТИВ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Ь – 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Ь - 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НИК- УЧЕ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                           ПАР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Прямая со стрелкой 4"/>
          <p:cNvCxnSpPr/>
          <p:nvPr/>
        </p:nvCxnSpPr>
        <p:spPr>
          <a:xfrm flipH="1">
            <a:off x="3000240" y="3786120"/>
            <a:ext cx="6433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Прямая со стрелкой 6"/>
          <p:cNvCxnSpPr/>
          <p:nvPr/>
        </p:nvCxnSpPr>
        <p:spPr>
          <a:xfrm>
            <a:off x="5714640" y="3786120"/>
            <a:ext cx="7866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ДЫ И ФОРМ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80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44120" indent="-42516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работа в группах , в па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викторины,  интеллектуальные     командные игры, кон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чтение по ролям, мини - инсцениров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екты  и мини – проекты,творческие         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«задания – интерв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ммуникация как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е к мнению собесе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чётко выражать свои мы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гументировать своё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ть позицию собесе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овать действия партн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ать собственное мнение и пози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35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Rounded MT Bold"/>
              </a:rPr>
              <a:t>Типовые задания, нацеленные на коммуникативные универсальные учебные действи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 задание партнер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зыв на работу товар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ая работа по составлению кроссвор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логовое слуш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дготовь рассказ», «опиши устно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бъясни...»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ебный предмет «Литерату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ое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ен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ение по полям : С. Маршак  «Сказка про коз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ый предмет «Русский язык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в группе: определение основного вопроса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Работа в паре: взаимопров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ый предмет "Окружающий мир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 в группах: решение кроссво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nn</cp:lastModifiedBy>
  <dcterms:modified xsi:type="dcterms:W3CDTF">2016-12-06T21:41:48Z</dcterms:modified>
  <cp:revision>57</cp:revision>
  <dc:subject>Коммуникативные УУД</dc:subject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