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FC5-AA99-4420-9867-93634A64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CF9-30EA-4DF8-95DC-0B524CE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894-DFB2-4198-B73F-248A9454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355-4C06-4D7D-96E6-AACE083A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1277-586F-47A1-BE6B-B1BC17CB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B52-9CDA-40FB-82EA-D91F367F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CF16-BAC3-4C12-B6B8-6159685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C9E4-026C-47FD-A365-CD1C3CF4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FA1-D713-4791-B5D3-81F6FFF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964E-BCA7-45B7-8A94-910E9433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6C0F-1773-450F-978E-545FEAEB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F12-7528-4B79-88CC-E4489F3B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8B66-3465-43F0-82A3-0BF2D864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F32-B63C-450A-9CDD-1AF6324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7F68-C666-4644-9E88-CFBB775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CB5C-1E85-4DD2-9862-36FAF261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A787-E19C-418D-A55F-6FD2A75D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ADD2-9C13-4B26-A559-70FE2634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7EE2-01F8-4CBE-B46D-C36C214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CAB1-585A-4B79-86DD-1A4123EA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A37F-CB43-4516-B6FB-CD2575F2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6DA0-5176-4D40-A6CE-810A0F2D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18C-71A4-447E-A1CB-C3E67EB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00FE-D05C-4B00-986F-D5E59505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93CA-B36A-463E-B19B-C08DE92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846C-534B-4A6E-932D-9B871B1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DFAA-4C87-4848-988B-00696EF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527E-73CF-4D1A-92F9-B3A3138F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F2E1-517D-406C-84EA-BC9F634F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94D9-DB8B-4EEC-A7E7-1D61389B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D626-1EB9-46DE-A4D6-F514F168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E5D5-99FE-40B2-A6AC-61514650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7290-B7D4-41C4-A50B-EA76339D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FBA-9EB1-4BC1-916F-A6D7562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4BEC-EC6F-4C27-9206-0D0D7D20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F74F-EB4E-46A6-B0C9-07A9756A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69CA-41E2-4312-AAC3-C2D021ED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5670-D5D9-49B8-AEEE-54377D0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28B9-8CB5-4D32-941E-8FF651C6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48B5-91C6-4399-998E-B447138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0774-B142-4383-92E9-9128A4A6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98E7-E0DD-4594-90AC-D9A06D76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A55B-7C52-4E1A-964D-3D9F86AC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F928-AC72-4A3D-B15E-E369095B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D2C-9882-4056-B6A1-21E5A920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C874-C7C5-481E-8313-B5978B6C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06DD-9695-4CA5-9D26-68C13442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4F448-16B6-4CCF-8BA2-897606A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40338-01E4-4F69-8D4E-77BEB341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E5059-BCF9-436B-A4C7-C46A364B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C2D3C-111E-47BA-8318-B01C795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F6073-2E92-44DE-8BAD-C66721E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CE2A1-8F71-43D2-8CBE-0289EC5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E27C-1863-4EB0-9FA6-6476BB7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3B4F-B308-4676-A2CD-59951EDE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745-FBA8-4CB0-BF1D-A9B401B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8A76-41B2-41C0-AA88-8F0DCF6E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A948-C694-4EC1-AFE1-6BABACF2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1087-491A-47A2-8B0D-07E4252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4742A-D131-4F4E-920E-5861706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A5BE9-DCDC-4ADE-B22A-3A851890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FB48-3562-4DA9-A4F3-AF4736D4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D50A-6888-459B-969A-B341AAE5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896E-66DA-4D92-B6B2-72D9ED45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51465-C3E4-4E25-B42A-1CD8CF6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368CE-2B11-4C69-A982-3E8236D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7EC-E24D-4C83-B53E-3211AE3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D1C4-599E-4706-83DD-7B882400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D886-3C21-444B-8E7C-75BDC045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7C4E-1889-46D9-9FE3-2D120E65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C42D-996D-40A9-8706-A8EE1C19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26EA0-9357-450B-AF25-74A0334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86296-337A-4DC0-89C0-9A80CDD5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E6A7-3E3D-4E9C-A2CA-8D49FD0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41BED-A490-4DE2-94F2-9465C75E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3D89-F26B-4DD0-9C12-2E1C9894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7330-E4B3-4B04-A339-F8A6C2E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BE4-7228-401D-9A23-9B80CAF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ABA3-0906-4F84-92ED-F1A4AB4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61DE-FBA1-4EE5-A59F-219EFE3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444F4-2995-441F-90CA-7E086C7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4AB9A-608D-4ACF-966D-402DBC97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A16B-5457-4C07-9E3F-E0140DDE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286-3585-4D90-BA36-7C1BCA93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2E27-019B-4706-B8F5-4E48CAFEA0F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2CF7-CFC6-4372-B72F-A76C2884707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8356-870D-40CF-96B3-BA171C8164D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38C-5E44-419B-AA42-52C3C7DCF90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0288-567C-4398-B380-BD3222803B6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BA8A-CCA8-4D4E-99D8-8ADA42EBB75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642-BD52-4B77-8A21-66847D96EF0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7900" spc="-1" strike="noStrike">
                <a:solidFill>
                  <a:srgbClr val="cdc8c4"/>
                </a:solidFill>
                <a:latin typeface="Franklin Gothic Book"/>
              </a:rPr>
              <a:t>Ҡылым</a:t>
            </a:r>
            <a:endParaRPr b="0" lang="en-US" sz="7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ba-RU" sz="3600" spc="-1" strike="noStrike">
                <a:solidFill>
                  <a:srgbClr val="ffffff"/>
                </a:solidFill>
                <a:latin typeface="Arial"/>
              </a:rPr>
              <a:t>Нимә(ни)эшләй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ba-RU" sz="3600" spc="-1" strike="noStrike">
                <a:solidFill>
                  <a:srgbClr val="ffffff"/>
                </a:solidFill>
                <a:latin typeface="Arial"/>
              </a:rPr>
              <a:t>нимә эшләргә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ba-RU" sz="3600" spc="-1" strike="noStrike">
                <a:solidFill>
                  <a:srgbClr val="ffffff"/>
                </a:solidFill>
                <a:latin typeface="Arial"/>
              </a:rPr>
              <a:t>нимә(ни)эшләгә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Мәҫәлән,эшлә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килгә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бары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cdc8c4"/>
                </a:solidFill>
                <a:latin typeface="Franklin Gothic Book"/>
              </a:rPr>
              <a:t>Өлгө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rial"/>
              </a:rPr>
              <a:t>Эштән һуң киске эңер ваҡытында ,күрше- күлән нигеҙ буйында әңгәмәләшеп  ултырғанда ,япон батшаһын әрләй -әрләй,сайҡалып был килеп сыҡ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rial"/>
              </a:rPr>
              <a:t>Килеп сыҡты-Ҡылым,башланғыс формаһы –килеп сыҡ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ba-RU" sz="2800" spc="-1" strike="noStrike">
                <a:solidFill>
                  <a:srgbClr val="ffffff"/>
                </a:solidFill>
                <a:latin typeface="Arial"/>
              </a:rPr>
              <a:t>ҡушма ҡылым,хәбәр һөйкәлеше ,төп ҡылым,хәҙерге заман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ba-RU" sz="2800" spc="-1" strike="noStrike">
                <a:solidFill>
                  <a:srgbClr val="ffffff"/>
                </a:solidFill>
                <a:latin typeface="Arial"/>
              </a:rPr>
              <a:t>сө затта,берлектә,барлыҡта,һөйләмдә хәбәр булып килгә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84360" y="333360"/>
          <a:ext cx="8229600" cy="6645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Ҡылым төркөмсәләр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Һорауҙар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ҫалда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өп ҡыл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 эшләй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 эшләгән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 эшләр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өхәррәм кистәрен Ғибаттарға килеп,оҙаҡ </a:t>
                      </a:r>
                      <a:r>
                        <a:rPr b="1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һөйләшеп ултырыр ине</a:t>
                      </a: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ем ҡыл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?(исем һорау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эшләү? (ҡылым һорау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ҙғы эштәр төрлө емеш-еләк ,йәшелсә </a:t>
                      </a:r>
                      <a:r>
                        <a:rPr b="1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тыртыу </a:t>
                      </a: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лһа,көҙгө эш-уларҙы юғалтыуһыҙ </a:t>
                      </a:r>
                      <a:r>
                        <a:rPr b="1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ыйып алыу</a:t>
                      </a: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фат ҡыл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ндәй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(ни)эшләгән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(ни)эшләр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 эшләйәсәк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оғайған көнөңдә </a:t>
                      </a:r>
                      <a:r>
                        <a:rPr b="1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рҙам итер</a:t>
                      </a: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ешең булғас,инәй,ҡайғырм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таҡ ҡыл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мә(ни)эшләргә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Ҡышҡы сессияны һәйбәт </a:t>
                      </a:r>
                      <a:r>
                        <a:rPr b="1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пшырырға </a:t>
                      </a: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 бер аҙ эшләп алырға ине у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әл ҡылы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эшләп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рәүешле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эшләгәс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 эшләгәнсе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сек ҡасан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Ҡасанға тиклем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ңә? ни өсөн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 </a:t>
                      </a:r>
                      <a:r>
                        <a:rPr b="1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ҡайтҡансы</a:t>
                      </a:r>
                      <a:r>
                        <a:rPr b="0" lang="ba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өйҙә көтөп ултырып тор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600" spc="-1" strike="noStrike">
                <a:solidFill>
                  <a:srgbClr val="cdc8c4"/>
                </a:solidFill>
                <a:latin typeface="Franklin Gothic Book"/>
              </a:rPr>
              <a:t>Ҡылым һөйкәлештәр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Хәбәр һөйкәлеше</a:t>
            </a:r>
            <a:r>
              <a:rPr b="0" lang="ba-RU" sz="1600" spc="-1" strike="noStrike">
                <a:solidFill>
                  <a:srgbClr val="ffffff"/>
                </a:solidFill>
                <a:latin typeface="Arial"/>
              </a:rPr>
              <a:t>(Зат,заман,һан менән үҙгәрә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Бойороҡ һөйкәлеше</a:t>
            </a:r>
            <a:r>
              <a:rPr b="0" lang="ba-RU" sz="1600" spc="-1" strike="noStrike">
                <a:solidFill>
                  <a:srgbClr val="ffffff"/>
                </a:solidFill>
                <a:latin typeface="Arial"/>
              </a:rPr>
              <a:t>(ҡылым һөйләүсенең  тыңлаусыға туранан –тура һәм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0" lang="ba-RU" sz="1600" spc="-1" strike="noStrike">
                <a:solidFill>
                  <a:srgbClr val="ffffff"/>
                </a:solidFill>
                <a:latin typeface="Arial"/>
              </a:rPr>
              <a:t>сө затҡа башҡа берәйһе аша эш-хәрәкәтте башҡарырға,үтәргә бойороуҙы белдер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Шарт һөйкәлеше</a:t>
            </a:r>
            <a:r>
              <a:rPr b="0" lang="ba-RU" sz="1600" spc="-1" strike="noStrike">
                <a:solidFill>
                  <a:srgbClr val="ffffff"/>
                </a:solidFill>
                <a:latin typeface="Arial"/>
              </a:rPr>
              <a:t>(ниндәй ҙә булһа берәй эш-хәрәкәтте башҡарыу өсөн икенсе бер эштең,хәлдең үтәлеүе шарт булыуын белдерә.Шарт һөйкәлешенең заманы юҡ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Теләк һөйкәлеше</a:t>
            </a:r>
            <a:r>
              <a:rPr b="0" lang="ba-RU" sz="1600" spc="-1" strike="noStrike">
                <a:solidFill>
                  <a:srgbClr val="ffffff"/>
                </a:solidFill>
                <a:latin typeface="Arial"/>
              </a:rPr>
              <a:t>(Һөйләүсенең теге йәки был эште эшләргә теләге,маҡсаты,ниәте барлығын белдерә,өндәүҙе сағылдыр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cdc8c4"/>
                </a:solidFill>
                <a:latin typeface="Franklin Gothic Book"/>
              </a:rPr>
              <a:t>Хәбәр һөйкәлешенең формалар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ctr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600" spc="-1" strike="noStrike">
                <a:solidFill>
                  <a:srgbClr val="ffffff"/>
                </a:solidFill>
                <a:latin typeface="Arial"/>
              </a:rPr>
              <a:t>Эш-хәрәкәттең  ваҡытҡа булған мөнәсәбәтенә ҡара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барҙы,кил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һеҙ 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барған,килгә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Тамамланмаған 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а 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ле күптән 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ғайны,ҡайтҡа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һеҙ күптән 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ған булғ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ле борон 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бара торға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а торған бул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ыр 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һеҙ борон үткән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а торған булғ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ba-RU" sz="1800" spc="-1" strike="noStrike">
                <a:solidFill>
                  <a:srgbClr val="ffffff"/>
                </a:solidFill>
                <a:latin typeface="Arial"/>
              </a:rPr>
              <a:t>алыр булғ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Хәҙерге заман формаһ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ала,кит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</a:t>
            </a: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ләсәк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ле киләсәк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буласа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1800" spc="-1" strike="noStrike">
                <a:solidFill>
                  <a:srgbClr val="ffffff"/>
                </a:solidFill>
                <a:latin typeface="Arial"/>
              </a:rPr>
              <a:t>Билдәһеҙ киләсәк зам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булы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cdc8c4"/>
                </a:solidFill>
                <a:latin typeface="Franklin Gothic Book"/>
              </a:rPr>
              <a:t>Теләк һөйкәлешендәге ҡылымдар ике төркөмгә бүленә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бай фор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айым,-әйем,-йым,-й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айыҡ,-әйек,-йыҡ,-й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Әле,инде,ҡана,-сы,-се,йә,-йәгеҙ ,-һа,-һә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Ҡушма фор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ә,ине,ҡайтҡым килә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cdc8c4"/>
                </a:solidFill>
                <a:latin typeface="Franklin Gothic Book"/>
              </a:rPr>
              <a:t>Ҡылым йүнәлештәре</a:t>
            </a:r>
            <a:br>
              <a:rPr sz="3600"/>
            </a:br>
            <a:r>
              <a:rPr b="0" lang="ba-RU" sz="3600" spc="-1" strike="noStrike">
                <a:solidFill>
                  <a:srgbClr val="cdc8c4"/>
                </a:solidFill>
                <a:latin typeface="Franklin Gothic Book"/>
              </a:rPr>
              <a:t>йүнәлеш категорияһ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0920" y="1082520"/>
          <a:ext cx="8136000" cy="5875560"/>
        </p:xfrm>
        <a:graphic>
          <a:graphicData uri="http://schemas.openxmlformats.org/drawingml/2006/table">
            <a:tbl>
              <a:tblPr/>
              <a:tblGrid>
                <a:gridCol w="4033800"/>
                <a:gridCol w="4102200"/>
              </a:tblGrid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өп йүнәле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дың бер күҙе юҡ,ҡолдоң ике күҙе лә юҡ,</a:t>
                      </a: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гәндәр</a:t>
                      </a: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Ҡайтым йүнәле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,ниндәйҙер көй </a:t>
                      </a: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һыҙғырына-һыҙғырына </a:t>
                      </a: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ҫҡыстан төшөп ,өйгә инд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өшөм йүнәле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л,-ыл,-ел,-ол,-өл,-ң,-ын,-ен,-он,-ө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таҡлыҡ йүнәле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ш,-ыш,-өш,ош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өкмәтеү йүнәлеш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дыр,-дөр,ҙыр,-ҙ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ҡыр,-кер,-ҡар,-кә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ар,-әр,-ор,-ө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a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ғыҙ,-геҙ,-ыҙ,-еҙ,-һә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0909440" y="6858000"/>
          <a:ext cx="4038480" cy="10256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600" spc="-1" strike="noStrike">
                <a:solidFill>
                  <a:srgbClr val="cdc8c4"/>
                </a:solidFill>
                <a:latin typeface="Franklin Gothic Book"/>
              </a:rPr>
              <a:t>Ҡылым күләмдәр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Арауыҡ һәм ваҡыт эсендә ҡылымдан аңлашылған эш-хәрәкәттең,тороштоң,хәлдең башҡарылыу дәрәжәһен күбәйтеү йәки әҙәйтеү йәһәтенән күрһәтеүсе ҡылым формаларын </a:t>
            </a:r>
            <a:r>
              <a:rPr b="1" lang="ba-RU" sz="3000" spc="-1" strike="noStrike">
                <a:solidFill>
                  <a:srgbClr val="ffffff"/>
                </a:solidFill>
                <a:latin typeface="Arial"/>
              </a:rPr>
              <a:t>ҡылым күләмдәре</a:t>
            </a: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 тип йөрөтәлә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600" spc="-1" strike="noStrike">
                <a:solidFill>
                  <a:srgbClr val="cdc8c4"/>
                </a:solidFill>
                <a:latin typeface="Franklin Gothic Book"/>
              </a:rPr>
              <a:t>Ҡылым рәүешлег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Ҡылым рәүешлеге категорияһы тип тел белемендә һөйләүсенең ысынбарлыҡта булып торған эш-хәрәкәткә ,төрлө хәл-ваҡиғаларға мөнәсәбәтен сағылдырыусы лексик –грамматик категорияға әйтәлә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6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cdc8c4"/>
                </a:solidFill>
                <a:latin typeface="Franklin Gothic Book"/>
              </a:rPr>
              <a:t>Ҡылымдарҙы грамматик тикшереү өлгөһө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ffffff"/>
                </a:solidFill>
                <a:latin typeface="Arial"/>
              </a:rPr>
              <a:t>Тикшереү тәртиб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ffffff"/>
                </a:solidFill>
                <a:latin typeface="Arial"/>
              </a:rPr>
              <a:t>Ҡылымдың башланғыс формаһы(бойороҡ һөйкәлешендәге тамыр,ниге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ffffff"/>
                </a:solidFill>
                <a:latin typeface="Arial"/>
              </a:rPr>
              <a:t>Һөйкәлеше(бойороҡ,хәбәр,шарт,телә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ffffff"/>
                </a:solidFill>
                <a:latin typeface="Arial"/>
              </a:rPr>
              <a:t>Төркөмсәһе(төп ҡылым,исем ҡылым,сифат ҡылым,хәл ҡылым,уртаҡ ҡылы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ffffff"/>
                </a:solidFill>
                <a:latin typeface="Arial"/>
              </a:rPr>
              <a:t>Заман формаһы(үткән,хәҙерге,киләсә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ffffff"/>
                </a:solidFill>
                <a:latin typeface="Arial"/>
              </a:rPr>
              <a:t>Үҙгәреше(заты,һаны(барлыҡ йәки юҡлығы),йүнәлеше,күләме,рәүешле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ffffff"/>
                </a:solidFill>
                <a:latin typeface="Arial"/>
              </a:rPr>
              <a:t>Һөйләмдең ниндәй киҫәге булып килә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3:59:02Z</dcterms:created>
  <dc:creator>Customer</dc:creator>
  <dc:description/>
  <dc:language>en-US</dc:language>
  <cp:lastModifiedBy>User</cp:lastModifiedBy>
  <dcterms:modified xsi:type="dcterms:W3CDTF">2015-04-09T03:57:45Z</dcterms:modified>
  <cp:revision>6</cp:revision>
  <dc:subject/>
  <dc:title>Ҡылым</dc:title>
</cp:coreProperties>
</file>