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E69-C89B-4798-BDE1-199E3D85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693-44C1-49AA-9268-A30802C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D2B-8E5B-4EBA-9E15-616DC7B0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2C4-D360-468E-8A4C-B0DE7121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545D-5F12-4537-90C2-32CE3FC9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CE9E-FAFC-42C4-9A64-0FE5623E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DB1D-E4E2-4EE5-A421-3EEF6A5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6C42-56A3-4E06-8388-587D9D20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10B-7B23-4C29-A325-FC375DB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DD08-3AF0-436C-963B-B5C47573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AD1-BBCB-4F3C-99DA-244C6A7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2A4-D0DD-48D9-A339-6DDD8BC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87F-7019-412F-8089-F4CB7744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F98-0BDC-42E5-9236-7F6E016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CE9E-56F5-4F05-B46E-88C491F5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647-6CE2-4AB0-9D3E-F505C96B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3EC-827E-499B-8BBF-C26C34C3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E60-082F-4030-9262-78BB2DC2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9A5-D593-42D4-A7AC-0CB0E534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B97-ADF6-40DA-9347-76B8B595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3DE-12E3-4A88-8FFE-96A72EF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8BA-7A17-4159-A7F5-0431774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EF4-7ADA-4CD0-A96A-69C19A9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DA9-4AFA-4652-A012-89CE28BC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4A04-FC19-4EFF-B80A-0C757B81BC6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DED1-AF3A-4CCE-995A-2AFE0922C02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ингвистическая иг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071800" y="2428920"/>
            <a:ext cx="6215040" cy="31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njoy T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36240"/>
            <a:ext cx="7543800" cy="100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Bookman Old Style"/>
              </a:rPr>
              <a:t>Station 8. 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Mistakes”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543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ind a spelling mistake in one word of each sent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. (max. 10 point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 have brekfast at eigh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Her mather and father are teacher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She is a dokto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ive plus seven is tvelv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y cat is fat and fann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he boy likes to sleep in a big ded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His sun is good at Spor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 like to drink koffe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arch, Aprel and May are spring month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Nick’s eyes are brou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Bookman Old Style"/>
              </a:rPr>
              <a:t>Statio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.      “Countries”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tch the country with its capital: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(max. 25 points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ssia, the UK, the USA, Germany, Italy, Spain, France, Brazil, Japan, Ukrai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Tokyo, Kiev, Rome, London, Moscow, Washington, Berlin, Paris, Brasilia, Madrid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lon03"/>
          <p:cNvPicPr/>
          <p:nvPr/>
        </p:nvPicPr>
        <p:blipFill>
          <a:blip r:embed="rId1"/>
          <a:stretch/>
        </p:blipFill>
        <p:spPr>
          <a:xfrm>
            <a:off x="539640" y="115920"/>
            <a:ext cx="1365480" cy="1557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Bookman Old Style"/>
              </a:rPr>
              <a:t>St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10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“5 Themes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me 10 words on the following them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max. 50 point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84360" y="2865600"/>
            <a:ext cx="7343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amily”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Food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port”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School”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imal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j0301252"/>
          <p:cNvPicPr/>
          <p:nvPr/>
        </p:nvPicPr>
        <p:blipFill>
          <a:blip r:embed="rId1"/>
          <a:stretch/>
        </p:blipFill>
        <p:spPr>
          <a:xfrm>
            <a:off x="7093080" y="486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j0301480"/>
          <p:cNvPicPr/>
          <p:nvPr/>
        </p:nvPicPr>
        <p:blipFill>
          <a:blip r:embed="rId2"/>
          <a:stretch/>
        </p:blipFill>
        <p:spPr>
          <a:xfrm>
            <a:off x="179280" y="2421000"/>
            <a:ext cx="1798920" cy="133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j0199283"/>
          <p:cNvPicPr/>
          <p:nvPr/>
        </p:nvPicPr>
        <p:blipFill>
          <a:blip r:embed="rId3"/>
          <a:stretch/>
        </p:blipFill>
        <p:spPr>
          <a:xfrm>
            <a:off x="7524720" y="2637000"/>
            <a:ext cx="1403280" cy="126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j0216724"/>
          <p:cNvPicPr/>
          <p:nvPr/>
        </p:nvPicPr>
        <p:blipFill>
          <a:blip r:embed="rId4"/>
          <a:stretch/>
        </p:blipFill>
        <p:spPr>
          <a:xfrm>
            <a:off x="684360" y="4653000"/>
            <a:ext cx="1450800" cy="182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Bookman Old Style"/>
              </a:rPr>
              <a:t>Station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11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. “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uzzle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e up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2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ntences from the words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x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20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int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256752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garden, playing, are, with, kittens, a bo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d, see, what, in the, zoo, animals,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24000" y="260280"/>
            <a:ext cx="1728360" cy="1700280"/>
            <a:chOff x="324000" y="260280"/>
            <a:chExt cx="1728360" cy="1700280"/>
          </a:xfrm>
        </p:grpSpPr>
        <p:sp>
          <p:nvSpPr>
            <p:cNvPr id="194" name="Puzzle3"/>
            <p:cNvSpPr/>
            <p:nvPr/>
          </p:nvSpPr>
          <p:spPr>
            <a:xfrm>
              <a:off x="1165680" y="260280"/>
              <a:ext cx="679320" cy="9036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Puzzle2"/>
            <p:cNvSpPr/>
            <p:nvPr/>
          </p:nvSpPr>
          <p:spPr>
            <a:xfrm>
              <a:off x="968040" y="918360"/>
              <a:ext cx="1084320" cy="8229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Puzzle4"/>
            <p:cNvSpPr/>
            <p:nvPr/>
          </p:nvSpPr>
          <p:spPr>
            <a:xfrm>
              <a:off x="548280" y="908280"/>
              <a:ext cx="653760" cy="10522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Puzzle1"/>
            <p:cNvSpPr/>
            <p:nvPr/>
          </p:nvSpPr>
          <p:spPr>
            <a:xfrm>
              <a:off x="324000" y="533520"/>
              <a:ext cx="1098000" cy="6271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Statio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Use of English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Open the brackets and put the verbs into the proper tense form</a:t>
            </a: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s Green was a teacher in a big school. She 1____(have) boys and girl in her class and always 2 ______(enjoy) teaching them, because they 3___(be) quick and the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_____(think) about everything carefull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day she 5_____(say) to the children, “People in some countries 6_____(wear) white then somebody 7_____(die) in their family, but in other countries people 8_____(wear) white when they 9_____(be) happy. What colour  10_____a woman ______(wear) when she 11_____(marry), Ann?”  Ann 12____(say), “White, Miss, because she 13_____(be) happy.” Mrs Green 14______(agree). But then one of the boys in the class 15______(put) his hand up. “Yes, Dick!” Mrs Robinson 16_____(say). “17____ you _____(want) to ask a question?” “Yes, please, Miss,” Dick 18______(ask). “Why 19_____ men_____(wear) black when they 20_____(marry)?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game is over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4" descr="Kensington"/>
          <p:cNvPicPr/>
          <p:nvPr/>
        </p:nvPicPr>
        <p:blipFill>
          <a:blip r:embed="rId1"/>
          <a:stretch/>
        </p:blipFill>
        <p:spPr>
          <a:xfrm>
            <a:off x="468360" y="1773360"/>
            <a:ext cx="842472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итие творческих способностей учащихся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ие интереса к изучению английского языка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ние навыков работы в коллективе при решении определённых задач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Bookman Old Style"/>
              </a:rPr>
              <a:t>Station1.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“Secret Letter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ame the words beginning wit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8800" spc="-1" strike="noStrike">
                <a:solidFill>
                  <a:srgbClr val="ffffff"/>
                </a:solidFill>
                <a:latin typeface="Verdana"/>
              </a:rPr>
              <a:t>b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Bookman Old Style"/>
              </a:rPr>
              <a:t>         </a:t>
            </a:r>
            <a:r>
              <a:rPr b="0" lang="en-US" sz="3200" spc="-1" strike="noStrike">
                <a:solidFill>
                  <a:srgbClr val="33cccc"/>
                </a:solidFill>
                <a:latin typeface="Bookman Old Style"/>
              </a:rPr>
              <a:t>Statio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Match these words with the transcriptions 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e                                               [kait]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                                                [ri:d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[lain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                                                [pensl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                                             [plei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ve                                              [keit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                                               [flai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                                               [sti:v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cil                                             [neim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t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[leit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MCj04343830000[1]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16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Bookman Old Style"/>
              </a:rPr>
              <a:t>Station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 Complete the conversa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_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Hello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_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My name is Tom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_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I’m twelve years ol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___________________________________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I’m from Great Britai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___________________________________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I’m in class 6 B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__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Yes, I d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__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It’s name is Rex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__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I feed my pet in the morning and in the evening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 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It like to eat meat, brea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: _________________________________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                         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: Bay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Bookman Old Style"/>
              </a:rPr>
              <a:t>Station4.</a:t>
            </a:r>
            <a:r>
              <a:rPr b="0" lang="en-US" sz="6600" spc="-1" strike="noStrike">
                <a:solidFill>
                  <a:srgbClr val="33cccc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“Words”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ke up the words using the letters of the wo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nowman”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1word – 1point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cc"/>
                </a:solidFill>
                <a:latin typeface="Bookman Old Style"/>
              </a:rPr>
              <a:t>Station 5.</a:t>
            </a:r>
            <a:r>
              <a:rPr b="1" lang="en-US" sz="3800" spc="-1" strike="noStrike">
                <a:solidFill>
                  <a:srgbClr val="ccecff"/>
                </a:solidFill>
                <a:latin typeface="Arial"/>
              </a:rPr>
              <a:t> “Sand glass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uess the words from the following letters: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39640" y="2987640"/>
            <a:ext cx="777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nrob, , yphap, tiser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khomewo, erfath, lowyel, waethre, palep,welvet, hante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1word – 1poin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tation 6.     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“10 Animals” 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find 10 animals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max. 10 point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71640" y="1484280"/>
          <a:ext cx="4176720" cy="5435640"/>
        </p:xfrm>
        <a:graphic>
          <a:graphicData uri="http://schemas.openxmlformats.org/drawingml/2006/table">
            <a:tbl>
              <a:tblPr/>
              <a:tblGrid>
                <a:gridCol w="471600"/>
                <a:gridCol w="468360"/>
                <a:gridCol w="471600"/>
                <a:gridCol w="471240"/>
                <a:gridCol w="465120"/>
                <a:gridCol w="471600"/>
                <a:gridCol w="471600"/>
                <a:gridCol w="471240"/>
                <a:gridCol w="41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78" descr="j0332364"/>
          <p:cNvPicPr/>
          <p:nvPr/>
        </p:nvPicPr>
        <p:blipFill>
          <a:blip r:embed="rId1"/>
          <a:stretch/>
        </p:blipFill>
        <p:spPr>
          <a:xfrm>
            <a:off x="684360" y="184464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79" descr="j0304933"/>
          <p:cNvPicPr/>
          <p:nvPr/>
        </p:nvPicPr>
        <p:blipFill>
          <a:blip r:embed="rId2"/>
          <a:stretch/>
        </p:blipFill>
        <p:spPr>
          <a:xfrm>
            <a:off x="7164360" y="4629240"/>
            <a:ext cx="1079640" cy="99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cccc"/>
                </a:solidFill>
                <a:latin typeface="Bookman Old Style"/>
              </a:rPr>
              <a:t>Station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cccc"/>
                </a:solidFill>
                <a:latin typeface="Arial"/>
              </a:rPr>
              <a:t>7.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“Odd Word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find one odd word in each 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max. 10 point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lue, black, pink, yellow, mel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ak, answer, sing, breakfast, trans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tato, tomato, carrot, pear, tre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ger, lion, bird, elephant, rabbi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summ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win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rai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spr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autum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rpet, sausage, apple,  juice, chee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acher, pupil, blackboard, manager, book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ther, sister, aunt, dad, doct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9.Englis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Russi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, Phone,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Spor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Mathema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ble, bathroom,  armchair, lamp, sof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7:58:04Z</dcterms:created>
  <dc:creator>User</dc:creator>
  <dc:description/>
  <dc:language>en-US</dc:language>
  <cp:lastModifiedBy>Селифонтова Ю.Г.</cp:lastModifiedBy>
  <dcterms:modified xsi:type="dcterms:W3CDTF">2012-01-06T12:50:17Z</dcterms:modified>
  <cp:revision>13</cp:revision>
  <dc:subject/>
  <dc:title>Лингвистическая игра </dc:title>
</cp:coreProperties>
</file>