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EAD-03A4-41DB-982C-B4197CB1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EC2-BC7E-4836-A1C9-10ED7E08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BB813-52CF-4816-AAC6-5D4460D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5DBE3-E02D-4A00-BB09-2FA88D4C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68E86-E840-494B-AF24-4FB23F9F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0A356-84CA-4063-80F8-1A34284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F2649-16E8-4F9E-9934-13684C2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AF890-F6E0-4CAA-9B23-D01F1D0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C67C3-9640-4A20-B942-8B8AC0D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F03A-064E-48BA-89F7-021E19A9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A715-7828-4881-97D5-A724498A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A1A4A-734B-43C5-B157-FE069E5A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7B-C6E4-4AF6-8E8E-4CCC23CF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E8FC1-6A2A-4AB8-A89D-17896FB2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FD47B-CE7B-44BB-84DF-B1B0409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92FC6-355D-4F34-A6D4-665E604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3AC43-817E-4A2A-9440-E5984ED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A2A4-342D-41F9-B35D-A121DB30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A4201-3FA6-4297-8DA4-4213C02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E9DC1-6154-47E8-A0A9-D56538C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64189-99BF-4778-A659-5B52EBD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8A0CC-79A0-4261-AC2E-321AB79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BB83-EE83-48A7-9911-BA25858C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3B5-254E-44CA-B887-7C11D653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1D85-086F-4799-A636-F12E11DD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7FAA-4F43-4CD1-9239-4A80798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E0A41-E129-4C38-9ADE-61B367F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8C79E-0DF2-41F3-8C96-66BAE4DC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08BFC-D391-451C-A474-AE0666A5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AE3BC-1C91-4609-8435-E0F8FDE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FA988-2210-4BBA-9B12-F29215FA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3535B-8CF9-46FE-A614-92B5A85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95690-C429-4324-8AD6-BE28AC51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748F8-2080-4CB8-8692-AC66BCB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9C8-1433-49F3-B650-16DCC718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32EF8-F6E1-457C-A571-36EAADD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25D7D-4D00-4D78-AE02-EBCA8FC2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1641B-FFB4-413F-B064-FDA92219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D381E-4699-4BD2-8282-211AAF74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357CF-5A55-4885-B0A4-4750041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F0C70-F405-452A-A7EA-C1853469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4649D-C46C-40E8-9575-89AFEF4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02840-2F9C-474E-83A2-95FAA72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12CF6-57DF-4244-84E4-4878CA8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2C53C-E071-417C-B272-DEBC0065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610-5C4E-493F-A7BB-CE516AB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E4667-3874-4DF2-87AF-AAA4A67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0297B-C442-4216-BF1D-EF53D61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F9CC0-15DE-4A16-B3CA-C1603BB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B5BB8-1239-4386-8DD3-F29AE5B2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D08C6-CAA3-477F-B8DA-092604E4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C0E-72B0-4ABA-9F27-ED0F479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3F7-EA97-44A4-976A-2711A073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EC5-D41F-4E3E-86D9-69F387A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1C4-A5EB-4322-8A69-60D8297E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8A22-9BE2-4BD0-9B72-81FABE22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F3E-AAA1-4E39-9E40-5F306A1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96A-D9ED-41DD-B127-FFCCF17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C0E2-E1F5-4E60-8B68-42F79A0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0330-9672-4C88-A103-FD241CAB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CDFB-9456-476F-8FAB-46AC2805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759-DC70-4317-B672-B9270950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955C-5F21-487E-83E5-2C714940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0A39-C22C-4373-A075-51DC539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2B95-3B12-4EFE-8CA8-E86A311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3B01-25B8-45EB-A17F-770FA33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4651-C6B0-43F5-AC0C-C908F958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E76-C500-4D6C-B82D-0B3688F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A71E-ABE9-4B6A-B225-959C78E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973C-932C-4F7B-AF46-1E36F4C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1D73-66DE-445A-B413-BB2C233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B83E-218D-400A-A4B5-E987DD9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6390-5728-45FD-9E78-EFBFC0E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1836-5382-4844-BD76-603A0F19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3252-730E-45B6-968E-1A4EEFD0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B8A3-6A27-47DB-A6B5-A5659AFE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7B22-D185-4F0B-8FB6-9696FF0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96B4-17FD-4F6C-BBAE-A22D735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4AC-1AB4-4BB3-8C79-05508FF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40AF-8882-4B74-A238-1C00360D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A287-CE7E-460B-BE69-666BCBA2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B940-0755-4108-872E-F9DDE03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7C34-CABD-4788-86BB-8929EDF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3D04-BF7F-4B29-9519-244A5E5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88C8-7C59-48FA-8292-D8D853C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F199-041A-4F3D-AB4E-459122C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2821-8271-4CE8-A9A4-DDBA40E1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D2A2-4AC6-4334-A020-80101C0F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91806-9FF7-4CE5-B383-F44C0C38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6B-4BC0-49A9-ACD7-F797ACD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6525-3C93-4E22-B775-772A35A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240B-61D2-4BC5-8CEB-5B3BF710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C665-1090-4089-B54F-4D3E0FA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C36E-B17B-4DD9-A563-6DE010E7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661B-1C28-4749-BCC3-F35DCC6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18F7-34ED-4488-9338-5998919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459E-BC81-4ED9-9382-96E5490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B7C3C-365E-4A7B-860C-2140EE3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669A-9BFB-4E66-BD9A-DA7B20B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937C-511E-4EBA-ABAD-58B3BB88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416-22AA-404F-A079-F381D72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5A02-C15A-4B64-B794-C6F862F3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D35E-C312-4C36-9B10-19EB51E1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3764-CFAD-4BB8-8585-96C8714C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E464-DC93-4A49-BE0C-A2E990C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A1EF-6702-48C0-8AA0-918238E9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3DD9-2681-4398-970D-944E09D1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ECBB-F9B2-41DC-AAAB-D29C9773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037F-CFB0-46F7-B439-D00789B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A1D6-EDA6-441B-8C14-3BDDA1EB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8D4CD-D0A7-4FFB-803A-3B78B36D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2CF-2A41-4E49-8893-46F904E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BA02-D3CA-4298-8A71-A2AC01D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B493-20BB-4EE5-BFCA-C8FF7A9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8770-8EFE-4183-9358-512CF42B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2A8C4-01CF-438D-B21B-4E55D70B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80B7-E531-4E00-B589-6A3AD642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EC22-F093-41D9-9C92-2B557C1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7141-3CA3-470E-B180-C7B314F9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B61F-0779-4124-B44A-7B12D7C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06E2-4F4F-4F0B-97F4-75B7BFE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8D874-EC5A-4EF3-9F11-C5B969E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E7F-B3BC-4FDB-B431-B90C640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1FF9-A946-4168-A42D-F897410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7D25-E686-47CE-B7FC-4322BE9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B556-F96C-46D5-9C4B-C986F0E9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06F89-DF68-49F1-B0F1-6B8BF1FC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14D8-9656-4C7B-9092-A750D52D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AF88-2378-461F-BF24-EC9A6227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2085-9834-4160-8241-1BC5991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11F00-4062-44E6-B718-F690110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229F-8A37-450B-BEFF-234E79E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AEFA-BEB5-4A1E-B4A4-07F1282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46A-AE58-4BEB-A51E-42CE54B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E1ED-B9AD-4103-8C66-951DA0E3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4AC9-391E-4265-9959-882131F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BF3F-08B5-4CF4-8196-832EB2A2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E3A0-757A-41FB-977F-56C52DF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7D82-7A36-4D4B-8B28-3C1341E9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84250-4E9E-4D3E-A5F9-A55C31E1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A21C-D71A-48D0-B0B5-AEABB87A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B4125-0BCF-465D-9852-8165D624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9D654-6656-4CA2-9587-A5271CB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5C398-42BD-40CD-AFF4-12A6396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7A0-9E53-4A77-B0CC-6C21F0B0601D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421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25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429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B6A-0A4C-48DD-8CEF-1AC36139ECBA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DC6B-9128-4FBC-88F9-4967815946C2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EBD5-97E6-4DD8-AF63-4670949A5182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E00-8738-4D70-B5F5-D4ABFB00924D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496-F61E-4301-8168-07F824512E52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B40A-6A21-4CB6-BB04-841BE543D747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E8D-47CD-4758-9BB8-08D439F5843C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1FF5-0D94-4975-8D1E-C66249C38842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A8C-5F04-4E05-B1AB-1E850552B8AC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A1D-1F4F-4FC6-A6F4-9FDD0333B70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9B4-4FF6-466A-8E1A-0CA21F123D28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 по математике 4 класс</a:t>
            </a:r>
            <a:endParaRPr b="0" lang="en-US" sz="6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112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ка к итоговой аттестации в начальной школе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9. Что не является единицей измерения массы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227628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рам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илограм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центнер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ктар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978120" y="55166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10. Сколько нулей в значении произведения 3500 × 40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3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1122480" y="566100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olas"/>
              </a:rPr>
              <a:t>Использованные печатные источн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900000" y="3068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 Типовые тестовые задания за курс начальной школы /Сост. С. В. Кутявина. – М.: ВАКО, 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1708200" y="1628640"/>
            <a:ext cx="510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1. В каком разряде в числе 254678 стоит цифра 5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91440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тен тысяч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есятков тысяч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единиц тысяч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иц миллион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1122840" y="515772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. Что не является единицей измерения времени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2204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екунд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дел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гектар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сяц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1049760" y="5661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3. Выбери верную запись: разность чисел 345 и 125 увеличили на 34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2349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(345 + 125)× 3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(345 – 125)× 3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(345 – 125)+ 3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45 + 125) + 3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1049760" y="580536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4.Выбери правильное решение задачи: На 4 страницах 60 наклеек. Сколько таких наклеек на 6 страницах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263700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 : 4 × 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60 : 4 : 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60 × 4 : 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× 4 × 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978120" y="558972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5. Вычисли: 7км 70 м + 5 км 30 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14400" y="1784520"/>
            <a:ext cx="777240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2 км 100 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3 км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2 км 40 м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км 100 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1193760" y="551664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6. В какой записи допущена ошибка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2205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 ц = 500 кг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0 000 г = 70 кг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3 кг 60 г = 3060г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т 4 кг = 3040кг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1123200" y="530064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7.Укажи число восемьсот двадцать тысяч четыреста пятьдесят восем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14400" y="2349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82 45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20 45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8 024 45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24 05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TextBox 3"/>
          <p:cNvSpPr/>
          <p:nvPr/>
        </p:nvSpPr>
        <p:spPr>
          <a:xfrm>
            <a:off x="1266480" y="5661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8</a:t>
            </a:r>
            <a:r>
              <a:rPr b="0" lang="ru-RU" sz="4000" spc="-1" strike="noStrike">
                <a:solidFill>
                  <a:srgbClr val="3e587f"/>
                </a:solidFill>
                <a:latin typeface="Times New Roman"/>
                <a:ea typeface="Times New Roman"/>
              </a:rPr>
              <a:t>. Выбери верное решение задачи. В библиотеку записаны 100 детей, а взролслых в 4 раза больше. Сколько всего человек записаны в библиотеку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292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00 × 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0 × 4 + 4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00 × 4 + 1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 100 × 4 - 1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834120" y="602136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8:33:23Z</dcterms:created>
  <dc:creator>User</dc:creator>
  <dc:description/>
  <dc:language>en-US</dc:language>
  <cp:lastModifiedBy>Алексей</cp:lastModifiedBy>
  <dcterms:modified xsi:type="dcterms:W3CDTF">2016-12-07T14:24:12Z</dcterms:modified>
  <cp:revision>13</cp:revision>
  <dc:subject/>
  <dc:title>В каком разряде в числе 254678 стоит цифра 5?</dc:title>
</cp:coreProperties>
</file>