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E57-2B72-449A-A9A0-20E3D078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A4F-2C6B-4D12-A82A-84648FC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0D1-B37D-4F2E-9E71-BFDC553C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953-39A7-43EA-A817-6C9AE523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F4726-704D-44C4-B3B2-24325061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3DD7E-0B17-4C12-99A7-8684FBF3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F24AB-8073-4EE9-BCC9-102773E0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E162E-BD0B-4E88-BD8D-163CEF5F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AB8B1-9DAD-4658-9E9E-46AE90CB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E1DD2-AF39-4A51-8459-E9AA31C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B4162-9F47-4207-B324-FF5A8A6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63F-AE22-4BD5-9829-B6A63269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671EB-E76B-4473-B508-1795C16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573DC-03DB-4C13-A7F0-F79F528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7D915-0DBD-42D0-AA37-E57D0E50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E1E8F-7F39-4300-8577-E9C265E9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43A9F-1F5A-4916-9F45-EC0D0CF3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A0F-7050-4E4A-A740-414E395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CB7-EC05-4B50-9AEF-2C8B3669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A53-2BEA-4BE9-A16B-88374EBC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B52-D42C-41B4-90DF-D1BAEC2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A73-4A8A-4CF3-BD81-903B691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EB4-4F6C-4BD8-A320-1D0A404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996-B1E7-48DE-A4C6-1285AB60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0372-411D-404E-AD04-8E83DC204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304A-A083-4D69-BE0B-EE644A3278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603720"/>
            <a:ext cx="82296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Тема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8920" y="1125360"/>
            <a:ext cx="6400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появился человек н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мл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858000" cy="4437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86520" y="58762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ин Илья 2 «А»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ория 2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рлз Дарв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ория 3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инопланетя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067280" y="2000160"/>
            <a:ext cx="48574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ория 4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Н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6443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зультаты анкетирования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уда появился челове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обезья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Адама и Ев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инопланетя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Неопознанного Летающего Объек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 результатам анкетировани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обезьяны - 7ч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Адама и Евы - 10 ч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инопланетян - 2 ч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НЛО   - 7 ч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ходя из всех теорий и анкетирова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 Откуда появился человек на Земл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 выводы таков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и не удалось расшифровать тайну возникновения и существования человека. Некоторые люди думают, что человек произошел от обезьяны, другие от Адама и Евы, а так же от инопланетян или НЛО. Но есть гипотеза, что внешне человек может быть очень похож на представителя внеземной цивилизации, потому как все бактерии и микроорганизмы во всей вселенной одинаковы. Поэтому все таки признаки первой жизни появились от микроорганизмов и дошли до челове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!!!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подтверждает моя гипотеза, которая говорит о том, что признаки первой жизни появились от организмов и дошли до человечества!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давно бьются над вопросом, откуда появился на земле человек, кто его создал. Многим людям этот вопрос не дает спать, но большинство людей разделилось на несколько частей, одни верят в бога, другие в Дарв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так же в инопланетян и Н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блемы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предположение, что человечество было завезено на Землю с другой планеты ,а так же, что человек произошел от обезьяны или Адама и Е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851280" cy="2781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835280" cy="2781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11280" y="4076640"/>
            <a:ext cx="23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ипотеза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 думаю, что признаки первой жизни появились от микроорганизмов и дошли до челов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4032000" cy="273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395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бъек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5905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ъект исследования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человечество, человек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а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5761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признаки первой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38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а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ить литерат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осить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95640" y="2900520"/>
            <a:ext cx="59767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ория 1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а создал Бо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48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2:24:10Z</dcterms:created>
  <dc:creator>admip</dc:creator>
  <dc:description/>
  <dc:language>en-US</dc:language>
  <cp:lastModifiedBy>учитель</cp:lastModifiedBy>
  <dcterms:modified xsi:type="dcterms:W3CDTF">2014-02-14T05:44:34Z</dcterms:modified>
  <cp:revision>13</cp:revision>
  <dc:subject/>
  <dc:title>Тема:</dc:title>
</cp:coreProperties>
</file>