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303-FCCA-4F32-BC0A-DED06DFAD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2955-35B0-4B6D-A81A-B545270C7C9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1726-34D1-45A1-9A86-BC7D36054A1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CE4-E70A-4632-A533-E82293EE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3B4-482A-4BDD-A4A2-0F02090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1D3-667D-4F1E-992C-C1758A84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9FE-CF8B-4752-BE1F-B2C2F97D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681-5CB5-4BB6-99C6-C8097CDF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31A6-61E2-4AE0-9395-C7C7B56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A898-F107-4900-AAD7-141B058C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34C-DF99-4208-B040-A0A253B6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99E0-9A4D-4FBE-B16D-7B8AFAD7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E6D0-4F1C-499E-BFF5-E506282A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83B-DBBA-43C4-820F-943BD9B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041-FC8E-4C9B-972E-293BE35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326-8C23-4503-9527-0E3565A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BA15-B350-49F1-8478-1D91E84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13F9-213C-43FC-AFBC-72EDB887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6BB1-0D30-463D-BBD1-05747DFE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F04-2752-4DA8-B2A8-BD84F25A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ED8-BB8E-4465-AAD6-B916BC4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3C4-EB41-4CBE-BD1A-7F15B4FE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250-7CB1-4243-A495-5896307F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4C5-0B0E-4FDD-80C4-75A0EE0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CA7-939C-4A90-B420-BE8B80A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335-FAF4-4EE0-8AC9-8DBCC99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43E-9ADA-4D18-AC78-2E35BB1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12F-2C5C-4821-8C1C-F3BD5EA71B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9B8-0AB4-4DA5-8B68-593DAA75D5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37.xml"/><Relationship Id="rId7" Type="http://schemas.openxmlformats.org/officeDocument/2006/relationships/slide" Target="slide44.xml"/><Relationship Id="rId8" Type="http://schemas.openxmlformats.org/officeDocument/2006/relationships/slide" Target="slide51.xml"/><Relationship Id="rId9" Type="http://schemas.openxmlformats.org/officeDocument/2006/relationships/slide" Target="slide58.xml"/><Relationship Id="rId10" Type="http://schemas.openxmlformats.org/officeDocument/2006/relationships/slide" Target="slide65.xml"/><Relationship Id="rId11" Type="http://schemas.openxmlformats.org/officeDocument/2006/relationships/slide" Target="slide3.xml"/><Relationship Id="rId12" Type="http://schemas.openxmlformats.org/officeDocument/2006/relationships/slide" Target="slide10.xml"/><Relationship Id="rId13" Type="http://schemas.openxmlformats.org/officeDocument/2006/relationships/slide" Target="slide17.xml"/><Relationship Id="rId14" Type="http://schemas.openxmlformats.org/officeDocument/2006/relationships/slide" Target="slide24.xml"/><Relationship Id="rId15" Type="http://schemas.openxmlformats.org/officeDocument/2006/relationships/slide" Target="slide30.xml"/><Relationship Id="rId16" Type="http://schemas.openxmlformats.org/officeDocument/2006/relationships/slide" Target="slide38.xml"/><Relationship Id="rId17" Type="http://schemas.openxmlformats.org/officeDocument/2006/relationships/slide" Target="slide45.xml"/><Relationship Id="rId18" Type="http://schemas.openxmlformats.org/officeDocument/2006/relationships/slide" Target="slide52.xml"/><Relationship Id="rId19" Type="http://schemas.openxmlformats.org/officeDocument/2006/relationships/slide" Target="slide59.xml"/><Relationship Id="rId20" Type="http://schemas.openxmlformats.org/officeDocument/2006/relationships/slide" Target="slide66.xml"/><Relationship Id="rId21" Type="http://schemas.openxmlformats.org/officeDocument/2006/relationships/slide" Target="slide4.xml"/><Relationship Id="rId22" Type="http://schemas.openxmlformats.org/officeDocument/2006/relationships/slide" Target="slide11.xml"/><Relationship Id="rId23" Type="http://schemas.openxmlformats.org/officeDocument/2006/relationships/slide" Target="slide18.xml"/><Relationship Id="rId24" Type="http://schemas.openxmlformats.org/officeDocument/2006/relationships/slide" Target="slide25.xml"/><Relationship Id="rId25" Type="http://schemas.openxmlformats.org/officeDocument/2006/relationships/slide" Target="slide32.xml"/><Relationship Id="rId26" Type="http://schemas.openxmlformats.org/officeDocument/2006/relationships/slide" Target="slide39.xml"/><Relationship Id="rId27" Type="http://schemas.openxmlformats.org/officeDocument/2006/relationships/slide" Target="slide46.xml"/><Relationship Id="rId28" Type="http://schemas.openxmlformats.org/officeDocument/2006/relationships/slide" Target="slide53.xml"/><Relationship Id="rId29" Type="http://schemas.openxmlformats.org/officeDocument/2006/relationships/slide" Target="slide60.xml"/><Relationship Id="rId30" Type="http://schemas.openxmlformats.org/officeDocument/2006/relationships/slide" Target="slide67.xml"/><Relationship Id="rId31" Type="http://schemas.openxmlformats.org/officeDocument/2006/relationships/slide" Target="slide5.xml"/><Relationship Id="rId32" Type="http://schemas.openxmlformats.org/officeDocument/2006/relationships/slide" Target="slide12.xml"/><Relationship Id="rId33" Type="http://schemas.openxmlformats.org/officeDocument/2006/relationships/slide" Target="slide19.xml"/><Relationship Id="rId34" Type="http://schemas.openxmlformats.org/officeDocument/2006/relationships/slide" Target="slide26.xml"/><Relationship Id="rId35" Type="http://schemas.openxmlformats.org/officeDocument/2006/relationships/slide" Target="slide33.xml"/><Relationship Id="rId36" Type="http://schemas.openxmlformats.org/officeDocument/2006/relationships/slide" Target="slide40.xml"/><Relationship Id="rId37" Type="http://schemas.openxmlformats.org/officeDocument/2006/relationships/slide" Target="slide47.xml"/><Relationship Id="rId38" Type="http://schemas.openxmlformats.org/officeDocument/2006/relationships/slide" Target="slide54.xml"/><Relationship Id="rId39" Type="http://schemas.openxmlformats.org/officeDocument/2006/relationships/slide" Target="slide61.xml"/><Relationship Id="rId40" Type="http://schemas.openxmlformats.org/officeDocument/2006/relationships/slide" Target="slide68.xml"/><Relationship Id="rId41" Type="http://schemas.openxmlformats.org/officeDocument/2006/relationships/slide" Target="slide6.xml"/><Relationship Id="rId42" Type="http://schemas.openxmlformats.org/officeDocument/2006/relationships/slide" Target="slide13.xml"/><Relationship Id="rId43" Type="http://schemas.openxmlformats.org/officeDocument/2006/relationships/slide" Target="slide20.xml"/><Relationship Id="rId44" Type="http://schemas.openxmlformats.org/officeDocument/2006/relationships/slide" Target="slide27.xml"/><Relationship Id="rId45" Type="http://schemas.openxmlformats.org/officeDocument/2006/relationships/slide" Target="slide34.xml"/><Relationship Id="rId46" Type="http://schemas.openxmlformats.org/officeDocument/2006/relationships/slide" Target="slide41.xml"/><Relationship Id="rId47" Type="http://schemas.openxmlformats.org/officeDocument/2006/relationships/slide" Target="slide48.xml"/><Relationship Id="rId48" Type="http://schemas.openxmlformats.org/officeDocument/2006/relationships/slide" Target="slide55.xml"/><Relationship Id="rId49" Type="http://schemas.openxmlformats.org/officeDocument/2006/relationships/slide" Target="slide62.xml"/><Relationship Id="rId50" Type="http://schemas.openxmlformats.org/officeDocument/2006/relationships/slide" Target="slide69.xml"/><Relationship Id="rId51" Type="http://schemas.openxmlformats.org/officeDocument/2006/relationships/slide" Target="slide7.xml"/><Relationship Id="rId52" Type="http://schemas.openxmlformats.org/officeDocument/2006/relationships/slide" Target="slide14.xml"/><Relationship Id="rId53" Type="http://schemas.openxmlformats.org/officeDocument/2006/relationships/slide" Target="slide21.xml"/><Relationship Id="rId54" Type="http://schemas.openxmlformats.org/officeDocument/2006/relationships/slide" Target="slide28.xml"/><Relationship Id="rId55" Type="http://schemas.openxmlformats.org/officeDocument/2006/relationships/slide" Target="slide35.xml"/><Relationship Id="rId56" Type="http://schemas.openxmlformats.org/officeDocument/2006/relationships/slide" Target="slide42.xml"/><Relationship Id="rId57" Type="http://schemas.openxmlformats.org/officeDocument/2006/relationships/slide" Target="slide49.xml"/><Relationship Id="rId58" Type="http://schemas.openxmlformats.org/officeDocument/2006/relationships/slide" Target="slide56.xml"/><Relationship Id="rId59" Type="http://schemas.openxmlformats.org/officeDocument/2006/relationships/slide" Target="slide63.xml"/><Relationship Id="rId60" Type="http://schemas.openxmlformats.org/officeDocument/2006/relationships/slide" Target="slide70.xml"/><Relationship Id="rId61" Type="http://schemas.openxmlformats.org/officeDocument/2006/relationships/slide" Target="slide8.xml"/><Relationship Id="rId62" Type="http://schemas.openxmlformats.org/officeDocument/2006/relationships/slide" Target="slide15.xml"/><Relationship Id="rId63" Type="http://schemas.openxmlformats.org/officeDocument/2006/relationships/slide" Target="slide22.xml"/><Relationship Id="rId64" Type="http://schemas.openxmlformats.org/officeDocument/2006/relationships/slide" Target="slide29.xml"/><Relationship Id="rId65" Type="http://schemas.openxmlformats.org/officeDocument/2006/relationships/slide" Target="slide36.xml"/><Relationship Id="rId66" Type="http://schemas.openxmlformats.org/officeDocument/2006/relationships/slide" Target="slide43.xml"/><Relationship Id="rId67" Type="http://schemas.openxmlformats.org/officeDocument/2006/relationships/slide" Target="slide50.xml"/><Relationship Id="rId68" Type="http://schemas.openxmlformats.org/officeDocument/2006/relationships/slide" Target="slide57.xml"/><Relationship Id="rId69" Type="http://schemas.openxmlformats.org/officeDocument/2006/relationships/slide" Target="slide64.xml"/><Relationship Id="rId70" Type="http://schemas.openxmlformats.org/officeDocument/2006/relationships/slide" Target="slide71.xml"/><Relationship Id="rId7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2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2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2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2.xml"/><Relationship Id="rId4" Type="http://schemas.openxmlformats.org/officeDocument/2006/relationships/slide" Target="slide72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75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76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72.xml"/><Relationship Id="rId5" Type="http://schemas.openxmlformats.org/officeDocument/2006/relationships/slide" Target="slide73.xml"/><Relationship Id="rId6" Type="http://schemas.openxmlformats.org/officeDocument/2006/relationships/slide" Target="slide74.xml"/><Relationship Id="rId7" Type="http://schemas.openxmlformats.org/officeDocument/2006/relationships/slide" Target="slide75.xml"/><Relationship Id="rId8" Type="http://schemas.openxmlformats.org/officeDocument/2006/relationships/slide" Target="slide76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5.xml"/><Relationship Id="rId6" Type="http://schemas.openxmlformats.org/officeDocument/2006/relationships/slide" Target="slide7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2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74.xml"/><Relationship Id="rId5" Type="http://schemas.openxmlformats.org/officeDocument/2006/relationships/slide" Target="slide75.xml"/><Relationship Id="rId6" Type="http://schemas.openxmlformats.org/officeDocument/2006/relationships/slide" Target="slide76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75.xml"/><Relationship Id="rId8" Type="http://schemas.openxmlformats.org/officeDocument/2006/relationships/slide" Target="slide75.xml"/><Relationship Id="rId9" Type="http://schemas.openxmlformats.org/officeDocument/2006/relationships/slide" Target="slide75.xml"/><Relationship Id="rId10" Type="http://schemas.openxmlformats.org/officeDocument/2006/relationships/slide" Target="slide72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76.xml"/><Relationship Id="rId14" Type="http://schemas.openxmlformats.org/officeDocument/2006/relationships/slide" Target="slide76.xml"/><Relationship Id="rId15" Type="http://schemas.openxmlformats.org/officeDocument/2006/relationships/slide" Target="slide76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2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2.xml"/><Relationship Id="rId6" Type="http://schemas.openxmlformats.org/officeDocument/2006/relationships/slide" Target="slide75.xml"/><Relationship Id="rId7" Type="http://schemas.openxmlformats.org/officeDocument/2006/relationships/slide" Target="slide76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slide" Target="slide73.xml"/><Relationship Id="rId6" Type="http://schemas.openxmlformats.org/officeDocument/2006/relationships/slide" Target="slide73.xml"/><Relationship Id="rId7" Type="http://schemas.openxmlformats.org/officeDocument/2006/relationships/slide" Target="slide74.xml"/><Relationship Id="rId8" Type="http://schemas.openxmlformats.org/officeDocument/2006/relationships/slide" Target="slide74.xml"/><Relationship Id="rId9" Type="http://schemas.openxmlformats.org/officeDocument/2006/relationships/slide" Target="slide74.xml"/><Relationship Id="rId10" Type="http://schemas.openxmlformats.org/officeDocument/2006/relationships/slide" Target="slide75.xml"/><Relationship Id="rId11" Type="http://schemas.openxmlformats.org/officeDocument/2006/relationships/slide" Target="slide75.xml"/><Relationship Id="rId12" Type="http://schemas.openxmlformats.org/officeDocument/2006/relationships/slide" Target="slide75.xml"/><Relationship Id="rId13" Type="http://schemas.openxmlformats.org/officeDocument/2006/relationships/slide" Target="slide76.xml"/><Relationship Id="rId14" Type="http://schemas.openxmlformats.org/officeDocument/2006/relationships/slide" Target="slide76.xml"/><Relationship Id="rId15" Type="http://schemas.openxmlformats.org/officeDocument/2006/relationships/slide" Target="slide76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slide" Target="slide7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4.xml"/><Relationship Id="rId4" Type="http://schemas.openxmlformats.org/officeDocument/2006/relationships/slide" Target="slide74.xml"/><Relationship Id="rId5" Type="http://schemas.openxmlformats.org/officeDocument/2006/relationships/slide" Target="slide75.xml"/><Relationship Id="rId6" Type="http://schemas.openxmlformats.org/officeDocument/2006/relationships/slide" Target="slide76.xml"/><Relationship Id="rId7" Type="http://schemas.openxmlformats.org/officeDocument/2006/relationships/slide" Target="slide72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2.xml"/><Relationship Id="rId4" Type="http://schemas.openxmlformats.org/officeDocument/2006/relationships/slide" Target="slide72.xml"/><Relationship Id="rId5" Type="http://schemas.openxmlformats.org/officeDocument/2006/relationships/slide" Target="slide72.xml"/><Relationship Id="rId6" Type="http://schemas.openxmlformats.org/officeDocument/2006/relationships/slide" Target="slide73.xml"/><Relationship Id="rId7" Type="http://schemas.openxmlformats.org/officeDocument/2006/relationships/slide" Target="slide73.xml"/><Relationship Id="rId8" Type="http://schemas.openxmlformats.org/officeDocument/2006/relationships/slide" Target="slide73.xml"/><Relationship Id="rId9" Type="http://schemas.openxmlformats.org/officeDocument/2006/relationships/slide" Target="slide73.xml"/><Relationship Id="rId10" Type="http://schemas.openxmlformats.org/officeDocument/2006/relationships/slide" Target="slide73.xml"/><Relationship Id="rId11" Type="http://schemas.openxmlformats.org/officeDocument/2006/relationships/slide" Target="slide74.xml"/><Relationship Id="rId12" Type="http://schemas.openxmlformats.org/officeDocument/2006/relationships/slide" Target="slide74.xml"/><Relationship Id="rId13" Type="http://schemas.openxmlformats.org/officeDocument/2006/relationships/slide" Target="slide74.xml"/><Relationship Id="rId14" Type="http://schemas.openxmlformats.org/officeDocument/2006/relationships/slide" Target="slide74.xml"/><Relationship Id="rId15" Type="http://schemas.openxmlformats.org/officeDocument/2006/relationships/slide" Target="slide74.xml"/><Relationship Id="rId16" Type="http://schemas.openxmlformats.org/officeDocument/2006/relationships/slide" Target="slide75.xml"/><Relationship Id="rId17" Type="http://schemas.openxmlformats.org/officeDocument/2006/relationships/slide" Target="slide75.xml"/><Relationship Id="rId18" Type="http://schemas.openxmlformats.org/officeDocument/2006/relationships/slide" Target="slide75.xml"/><Relationship Id="rId19" Type="http://schemas.openxmlformats.org/officeDocument/2006/relationships/slide" Target="slide75.xml"/><Relationship Id="rId20" Type="http://schemas.openxmlformats.org/officeDocument/2006/relationships/slide" Target="slide75.xml"/><Relationship Id="rId21" Type="http://schemas.openxmlformats.org/officeDocument/2006/relationships/slide" Target="slide76.xml"/><Relationship Id="rId22" Type="http://schemas.openxmlformats.org/officeDocument/2006/relationships/slide" Target="slide76.xml"/><Relationship Id="rId23" Type="http://schemas.openxmlformats.org/officeDocument/2006/relationships/slide" Target="slide76.xml"/><Relationship Id="rId24" Type="http://schemas.openxmlformats.org/officeDocument/2006/relationships/slide" Target="slide76.xml"/><Relationship Id="rId25" Type="http://schemas.openxmlformats.org/officeDocument/2006/relationships/slide" Target="slide76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3.xml"/><Relationship Id="rId5" Type="http://schemas.openxmlformats.org/officeDocument/2006/relationships/slide" Target="slide73.xml"/><Relationship Id="rId6" Type="http://schemas.openxmlformats.org/officeDocument/2006/relationships/slide" Target="slide74.xml"/><Relationship Id="rId7" Type="http://schemas.openxmlformats.org/officeDocument/2006/relationships/slide" Target="slide74.xml"/><Relationship Id="rId8" Type="http://schemas.openxmlformats.org/officeDocument/2006/relationships/slide" Target="slide74.xml"/><Relationship Id="rId9" Type="http://schemas.openxmlformats.org/officeDocument/2006/relationships/slide" Target="slide75.xml"/><Relationship Id="rId10" Type="http://schemas.openxmlformats.org/officeDocument/2006/relationships/slide" Target="slide75.xml"/><Relationship Id="rId11" Type="http://schemas.openxmlformats.org/officeDocument/2006/relationships/slide" Target="slide75.xml"/><Relationship Id="rId12" Type="http://schemas.openxmlformats.org/officeDocument/2006/relationships/slide" Target="slide76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7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73.xml"/><Relationship Id="rId5" Type="http://schemas.openxmlformats.org/officeDocument/2006/relationships/slide" Target="slide7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3.xml"/><Relationship Id="rId4" Type="http://schemas.openxmlformats.org/officeDocument/2006/relationships/slide" Target="slide73.xml"/><Relationship Id="rId5" Type="http://schemas.openxmlformats.org/officeDocument/2006/relationships/slide" Target="slide72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74.xml"/><Relationship Id="rId9" Type="http://schemas.openxmlformats.org/officeDocument/2006/relationships/slide" Target="slide74.xml"/><Relationship Id="rId10" Type="http://schemas.openxmlformats.org/officeDocument/2006/relationships/slide" Target="slide74.xml"/><Relationship Id="rId11" Type="http://schemas.openxmlformats.org/officeDocument/2006/relationships/slide" Target="slide75.xml"/><Relationship Id="rId12" Type="http://schemas.openxmlformats.org/officeDocument/2006/relationships/slide" Target="slide75.xml"/><Relationship Id="rId13" Type="http://schemas.openxmlformats.org/officeDocument/2006/relationships/slide" Target="slide75.xml"/><Relationship Id="rId14" Type="http://schemas.openxmlformats.org/officeDocument/2006/relationships/slide" Target="slide76.xml"/><Relationship Id="rId15" Type="http://schemas.openxmlformats.org/officeDocument/2006/relationships/slide" Target="slide76.xml"/><Relationship Id="rId16" Type="http://schemas.openxmlformats.org/officeDocument/2006/relationships/slide" Target="slide76.xml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73.xml"/><Relationship Id="rId3" Type="http://schemas.openxmlformats.org/officeDocument/2006/relationships/slide" Target="slide74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slide" Target="slide75.xml"/><Relationship Id="rId8" Type="http://schemas.openxmlformats.org/officeDocument/2006/relationships/slide" Target="slide75.xml"/><Relationship Id="rId9" Type="http://schemas.openxmlformats.org/officeDocument/2006/relationships/slide" Target="slide76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2.xml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3.xml"/><Relationship Id="rId3" Type="http://schemas.openxmlformats.org/officeDocument/2006/relationships/slide" Target="slide73.xml"/><Relationship Id="rId4" Type="http://schemas.openxmlformats.org/officeDocument/2006/relationships/slide" Target="slide73.xml"/><Relationship Id="rId5" Type="http://schemas.openxmlformats.org/officeDocument/2006/relationships/slide" Target="slide73.xml"/><Relationship Id="rId6" Type="http://schemas.openxmlformats.org/officeDocument/2006/relationships/slide" Target="slide73.xml"/><Relationship Id="rId7" Type="http://schemas.openxmlformats.org/officeDocument/2006/relationships/slide" Target="slide73.xml"/><Relationship Id="rId8" Type="http://schemas.openxmlformats.org/officeDocument/2006/relationships/slide" Target="slide73.xml"/><Relationship Id="rId9" Type="http://schemas.openxmlformats.org/officeDocument/2006/relationships/slide" Target="slide74.xml"/><Relationship Id="rId10" Type="http://schemas.openxmlformats.org/officeDocument/2006/relationships/slide" Target="slide74.xml"/><Relationship Id="rId11" Type="http://schemas.openxmlformats.org/officeDocument/2006/relationships/slide" Target="slide74.xml"/><Relationship Id="rId12" Type="http://schemas.openxmlformats.org/officeDocument/2006/relationships/slide" Target="slide74.xml"/><Relationship Id="rId13" Type="http://schemas.openxmlformats.org/officeDocument/2006/relationships/slide" Target="slide74.xml"/><Relationship Id="rId14" Type="http://schemas.openxmlformats.org/officeDocument/2006/relationships/slide" Target="slide74.xml"/><Relationship Id="rId15" Type="http://schemas.openxmlformats.org/officeDocument/2006/relationships/slide" Target="slide74.xml"/><Relationship Id="rId16" Type="http://schemas.openxmlformats.org/officeDocument/2006/relationships/slide" Target="slide74.xml"/><Relationship Id="rId17" Type="http://schemas.openxmlformats.org/officeDocument/2006/relationships/slide" Target="slide75.xml"/><Relationship Id="rId18" Type="http://schemas.openxmlformats.org/officeDocument/2006/relationships/slide" Target="slide75.xml"/><Relationship Id="rId19" Type="http://schemas.openxmlformats.org/officeDocument/2006/relationships/slide" Target="slide75.xml"/><Relationship Id="rId20" Type="http://schemas.openxmlformats.org/officeDocument/2006/relationships/slide" Target="slide75.xml"/><Relationship Id="rId21" Type="http://schemas.openxmlformats.org/officeDocument/2006/relationships/slide" Target="slide75.xml"/><Relationship Id="rId22" Type="http://schemas.openxmlformats.org/officeDocument/2006/relationships/slide" Target="slide75.xml"/><Relationship Id="rId23" Type="http://schemas.openxmlformats.org/officeDocument/2006/relationships/slide" Target="slide75.xml"/><Relationship Id="rId24" Type="http://schemas.openxmlformats.org/officeDocument/2006/relationships/slide" Target="slide75.xml"/><Relationship Id="rId25" Type="http://schemas.openxmlformats.org/officeDocument/2006/relationships/slide" Target="slide76.xml"/><Relationship Id="rId26" Type="http://schemas.openxmlformats.org/officeDocument/2006/relationships/slide" Target="slide76.xml"/><Relationship Id="rId27" Type="http://schemas.openxmlformats.org/officeDocument/2006/relationships/slide" Target="slide76.xml"/><Relationship Id="rId28" Type="http://schemas.openxmlformats.org/officeDocument/2006/relationships/slide" Target="slide76.xml"/><Relationship Id="rId29" Type="http://schemas.openxmlformats.org/officeDocument/2006/relationships/slide" Target="slide76.xml"/><Relationship Id="rId30" Type="http://schemas.openxmlformats.org/officeDocument/2006/relationships/slide" Target="slide76.xml"/><Relationship Id="rId31" Type="http://schemas.openxmlformats.org/officeDocument/2006/relationships/slide" Target="slide76.xml"/><Relationship Id="rId32" Type="http://schemas.openxmlformats.org/officeDocument/2006/relationships/slide" Target="slide76.xml"/><Relationship Id="rId33" Type="http://schemas.openxmlformats.org/officeDocument/2006/relationships/slide" Target="slide72.xml"/><Relationship Id="rId34" Type="http://schemas.openxmlformats.org/officeDocument/2006/relationships/slide" Target="slide72.xml"/><Relationship Id="rId35" Type="http://schemas.openxmlformats.org/officeDocument/2006/relationships/slide" Target="slide72.xml"/><Relationship Id="rId36" Type="http://schemas.openxmlformats.org/officeDocument/2006/relationships/slide" Target="slide72.xml"/><Relationship Id="rId37" Type="http://schemas.openxmlformats.org/officeDocument/2006/relationships/slide" Target="slide72.xml"/><Relationship Id="rId38" Type="http://schemas.openxmlformats.org/officeDocument/2006/relationships/slide" Target="slide72.xml"/><Relationship Id="rId39" Type="http://schemas.openxmlformats.org/officeDocument/2006/relationships/slide" Target="slide72.xml"/><Relationship Id="rId40" Type="http://schemas.openxmlformats.org/officeDocument/2006/relationships/slide" Target="slide72.xml"/><Relationship Id="rId41" Type="http://schemas.openxmlformats.org/officeDocument/2006/relationships/slide" Target="slide1.xml"/><Relationship Id="rId4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2.xml"/><Relationship Id="rId4" Type="http://schemas.openxmlformats.org/officeDocument/2006/relationships/slide" Target="slide75.xml"/><Relationship Id="rId5" Type="http://schemas.openxmlformats.org/officeDocument/2006/relationships/slide" Target="slide7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готовка к ОГЭ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по математик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3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4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5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5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64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1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2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3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3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7" action="ppaction://hlinksldjump"/>
              </a:rPr>
              <a:t>4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8" action="ppaction://hlinksldjump"/>
              </a:rPr>
              <a:t>5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19" action="ppaction://hlinksldjump"/>
              </a:rPr>
              <a:t>5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0" action="ppaction://hlinksldjump"/>
              </a:rPr>
              <a:t>65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1" action="ppaction://hlinksldjump"/>
              </a:rPr>
              <a:t>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2" action="ppaction://hlinksldjump"/>
              </a:rPr>
              <a:t>1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3" action="ppaction://hlinksldjump"/>
              </a:rPr>
              <a:t>1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4" action="ppaction://hlinksldjump"/>
              </a:rPr>
              <a:t>2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5" action="ppaction://hlinksldjump"/>
              </a:rPr>
              <a:t>3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6" action="ppaction://hlinksldjump"/>
              </a:rPr>
              <a:t>3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7" action="ppaction://hlinksldjump"/>
              </a:rPr>
              <a:t>4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8" action="ppaction://hlinksldjump"/>
              </a:rPr>
              <a:t>5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29" action="ppaction://hlinksldjump"/>
              </a:rPr>
              <a:t>5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0" action="ppaction://hlinksldjump"/>
              </a:rPr>
              <a:t>66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1" action="ppaction://hlinksldjump"/>
              </a:rPr>
              <a:t>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2" action="ppaction://hlinksldjump"/>
              </a:rPr>
              <a:t>1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3" action="ppaction://hlinksldjump"/>
              </a:rPr>
              <a:t>1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4" action="ppaction://hlinksldjump"/>
              </a:rPr>
              <a:t>2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5" action="ppaction://hlinksldjump"/>
              </a:rPr>
              <a:t>3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6" action="ppaction://hlinksldjump"/>
              </a:rPr>
              <a:t>3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7" action="ppaction://hlinksldjump"/>
              </a:rPr>
              <a:t>4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8" action="ppaction://hlinksldjump"/>
              </a:rPr>
              <a:t>5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39" action="ppaction://hlinksldjump"/>
              </a:rPr>
              <a:t>6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0" action="ppaction://hlinksldjump"/>
              </a:rPr>
              <a:t>67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1" action="ppaction://hlinksldjump"/>
              </a:rPr>
              <a:t>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2" action="ppaction://hlinksldjump"/>
              </a:rPr>
              <a:t>1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3" action="ppaction://hlinksldjump"/>
              </a:rPr>
              <a:t>1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4" action="ppaction://hlinksldjump"/>
              </a:rPr>
              <a:t>2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5" action="ppaction://hlinksldjump"/>
              </a:rPr>
              <a:t>3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6" action="ppaction://hlinksldjump"/>
              </a:rPr>
              <a:t>4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7" action="ppaction://hlinksldjump"/>
              </a:rPr>
              <a:t>4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8" action="ppaction://hlinksldjump"/>
              </a:rPr>
              <a:t>5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49" action="ppaction://hlinksldjump"/>
              </a:rPr>
              <a:t>6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0" action="ppaction://hlinksldjump"/>
              </a:rPr>
              <a:t>68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1" action="ppaction://hlinksldjump"/>
              </a:rPr>
              <a:t>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2" action="ppaction://hlinksldjump"/>
              </a:rPr>
              <a:t>1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3" action="ppaction://hlinksldjump"/>
              </a:rPr>
              <a:t>20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4" action="ppaction://hlinksldjump"/>
              </a:rPr>
              <a:t>2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5" action="ppaction://hlinksldjump"/>
              </a:rPr>
              <a:t>3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6" action="ppaction://hlinksldjump"/>
              </a:rPr>
              <a:t>4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7" action="ppaction://hlinksldjump"/>
              </a:rPr>
              <a:t>4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8" action="ppaction://hlinksldjump"/>
              </a:rPr>
              <a:t>5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59" action="ppaction://hlinksldjump"/>
              </a:rPr>
              <a:t>6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0" action="ppaction://hlinksldjump"/>
              </a:rPr>
              <a:t>69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4374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1" action="ppaction://hlinksldjump"/>
              </a:rPr>
              <a:t>7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2" action="ppaction://hlinksldjump"/>
              </a:rPr>
              <a:t>14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3" action="ppaction://hlinksldjump"/>
              </a:rPr>
              <a:t>21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4" action="ppaction://hlinksldjump"/>
              </a:rPr>
              <a:t>28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5" action="ppaction://hlinksldjump"/>
              </a:rPr>
              <a:t>35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6" action="ppaction://hlinksldjump"/>
              </a:rPr>
              <a:t>42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7" action="ppaction://hlinksldjump"/>
              </a:rPr>
              <a:t>49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8" action="ppaction://hlinksldjump"/>
              </a:rPr>
              <a:t>56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69" action="ppaction://hlinksldjump"/>
              </a:rPr>
              <a:t>63</a:t>
            </a:r>
            <a:r>
              <a:rPr b="0" lang="ru-RU" sz="35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3500" spc="-1" strike="noStrike" u="sng">
                <a:solidFill>
                  <a:srgbClr val="003366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классе 35 учащихся, из них 40% составляют мальчики. Сколько девочек в класс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2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905960" y="61815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ложите многочлен на множители: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ax+bx-2ay-b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(2a+b)(x-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(2a-b)(x-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(2a+b)(x+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(2a-b)(x+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(b-2a)(x-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a-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a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a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простите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a-(a-1)+(2a-5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е уравнение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2)(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x+7)=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2;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; -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2; -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;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2;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йдите первый член арифметической прогрессии, есл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+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=26: 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+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=18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всех натуральных чисел, кратных 4. и не превосходящих 300.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14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146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143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14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ординат точек пересечения графиков функции: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+y</a:t>
            </a:r>
            <a:r>
              <a:rPr b="1" lang="en-US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=16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x-y=4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йдите 35% от 6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2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858080" y="6089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простите выражение: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3(2x+12)-4x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 найдите его значение пр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x=125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8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6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е уравнение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x-14=3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3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нет реш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процентное содержание масла, если в составе 5,4 ц семян конопли содержится 1,62 ц конопляного масла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3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7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5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4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е уравнение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(184-x)-45=18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3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нет реш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 каких значениях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число 17*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будет просты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таких н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т мотка проволоки отрезали 122,4 м, что составило 40% всей длины мотка. Сколько метров проволоки осталось в мотк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8,96 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83,6 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354,96 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306 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00 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о время автопробега спортсмены преодолели 1800 км пути. В І день -40%, во ІІ -140% того, что пройдена за І день. Сколько км спортсмены проехали за ІІІ  день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60 к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440 к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728 к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72 к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70 к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лина юбки на чертеже, сделанном в масштабе 1:4, равна 21,3 см. Чему равна длина этой юбки на чертеже с масштабам 2:1?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2,6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70,4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0,65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85,2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80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значение выражения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-1)</a:t>
            </a:r>
            <a:r>
              <a:rPr b="1" lang="ru-RU" sz="2800" spc="-1" strike="noStrike" baseline="30000">
                <a:solidFill>
                  <a:srgbClr val="0066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8,4-2,7/(-0,3)</a:t>
            </a:r>
            <a:r>
              <a:rPr b="1" lang="ru-RU" sz="2800" spc="-1" strike="noStrike" baseline="30000">
                <a:solidFill>
                  <a:srgbClr val="006666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18,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81,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118,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81,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81,6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Решите неравенство: 2(7х+3)&lt;2x-21 и найдите наибольше целое число, удовлетворяющее этому неравенству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координаты точки пересечения графиков функции: у=3х+9, у=5+2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(-4; -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(2,8; 10,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(4; 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(14; 3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(1; 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 арифметической прогрессии (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)  a</a:t>
            </a:r>
            <a:r>
              <a:rPr b="1" lang="en-US" sz="2000" spc="-1" strike="noStrike" baseline="-25000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=6, a</a:t>
            </a:r>
            <a:r>
              <a:rPr b="1" lang="en-US" sz="2000" spc="-1" strike="noStrike" baseline="-25000">
                <a:solidFill>
                  <a:srgbClr val="0066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=33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. Найдите сумму первых пятнадцати членов прогрессии.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3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3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43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всех натуральных чисел, кратных 7 и не превосходящих 130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1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1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1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19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1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45280" y="845280"/>
            <a:ext cx="775764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 ауле имеются 2 школы: начальная и средняя. В начальной школе обучается 320 учащихся, что составляет 64% от количества учащихся средней школы. Сколько учащихся учится в средней школе?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6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7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88200" y="54579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 треугольнике 2 внешних угла равны 100</a:t>
            </a:r>
            <a:r>
              <a:rPr b="1" lang="ru-RU" sz="2800" spc="-1" strike="noStrike" baseline="3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и 150</a:t>
            </a:r>
            <a:r>
              <a:rPr b="1" lang="ru-RU" sz="2800" spc="-1" strike="noStrike" baseline="3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. найдите величину третьего внешнего угла треугольника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20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10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30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105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90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дин штукатур может выполнить задание на 5 часов быстрее другого. Оба вместе они выполнят это задание за 6 часов. За сколько каждый из них выполнит задание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5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ч;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 10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4ч; 9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12ч; 8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16ч; 12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15ч; 12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мма трех последовательных чисел составляет 24. Найдите среднее число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7832880" y="6226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ычислите значения выражения: 3m+n+m</a:t>
            </a:r>
            <a:r>
              <a:rPr b="1" lang="ru-RU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, где m=4, n=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ысота параллелограмма равна 12 см и 16 см, а его площадь 96 см</a:t>
            </a:r>
            <a:r>
              <a:rPr b="1" lang="ru-RU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, тогда большая сторона параллелограмма равн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8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4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2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6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0 с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е уравнение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23-(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x+37,11)=4,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65,0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80,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55,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90,7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90,8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ловянная руда содержит 0,2 % олова. Сколько олова содержит 150 т руды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0,3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0,02 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30 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53 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150 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первых шести членов геометрической прогрессии,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если b1=-9, q=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5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5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2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4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8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ложите на простые множители число 42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20=4*3*5*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420=2*2*3*5*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20=2*3*7*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420=2*3*5*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420=2*5*6*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изведение двух последовательных натуральных чисел равно 182.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этих чисел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ешить уравнение: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|x-1|+|x+2|-|x-3|=4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8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;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;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713720" y="60483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первый член и знаменатель геометрической прогрессии, если: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8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 128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:2; -1: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:1; -2: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:1; 2: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:0; 3: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:0; 2: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ите первый член и разность арифметической прогрессии, если                         а</a:t>
            </a:r>
            <a:r>
              <a:rPr b="1" lang="ru-RU" sz="3200" spc="-1" strike="noStrike" baseline="-25000">
                <a:solidFill>
                  <a:srgbClr val="0066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=8,  а</a:t>
            </a:r>
            <a:r>
              <a:rPr b="1" lang="ru-RU" sz="3200" spc="-1" strike="noStrike" baseline="-25000">
                <a:solidFill>
                  <a:srgbClr val="006666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=16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12;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0;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;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6;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10; 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остите: 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(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-1)</a:t>
            </a:r>
            <a:r>
              <a:rPr b="1" lang="en-US" sz="36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+ 8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4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+18x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4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числите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75+(1000-375):25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3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числите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17,31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12,69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-(29,81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0,19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7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7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8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8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Разделите число 45 прямо пропорционально числам 4; 5 и 6. Найдите меньшее число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ычислите: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6-4,5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0,00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ь уравнение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25(1-2х)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=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0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умма двух чисел равно 120, а их разность 5. Найдите  эти числа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63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и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 5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80 и 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62,5 и 57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68 и 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105,5 и 14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остите выражение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а-3)</a:t>
            </a:r>
            <a:r>
              <a:rPr b="1" lang="ru-RU" sz="36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+а(а+9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+3a+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-3a+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-3a-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+3a+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+3a-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йдите значение многочлена: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x-2)(x-3)+(x+6)(x-5)-2(x</a:t>
            </a:r>
            <a:r>
              <a:rPr b="1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-7x+13)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, при х=5,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551720" y="59738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. Разложите на множители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а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3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(b-a)(3+a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(a-b)(3+a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(a-b)(3-a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(b-a)(3-a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(b-a)(ab-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простите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49-(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7)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14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7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14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ложите на множители: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8х+15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(x-3)(x-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(x+3)(x+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(x-3)(x+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(x+3)(x-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(x-1)(x-1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едставьте в виде многочлен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а-1)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-(а-2)(а+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a-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2a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-2a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-2a+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едставьте в виде многочлена (х+у+2)(х+у-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+2xy+y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-2xy+y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-2xy+y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8" action="ppaction://hlinksldjump"/>
              </a:rPr>
              <a:t>+2xy+y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9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0" action="ppaction://hlinksldjump"/>
              </a:rPr>
              <a:t>+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1" action="ppaction://hlinksldjump"/>
              </a:rPr>
              <a:t>x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2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3" action="ppaction://hlinksldjump"/>
              </a:rPr>
              <a:t>+y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5" action="ppaction://hlinksldjump"/>
              </a:rPr>
              <a:t>-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2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простите выраж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3-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(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+9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7-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2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-2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(27-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3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2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ти седьмой член арифметической прогрессии:        8; 6,5; 5…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йдите девятый член арифметической прогрессии, если : а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126;  а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14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3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3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В арифметической прогрессии: S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-28  S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57. Найдите S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47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47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47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147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первый член и разность арифметической прогрессии, если: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8;  а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16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d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=-4, a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=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d=-3, a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1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=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d=-4, a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1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=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d=-4, a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1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=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d=-4, a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1</a:t>
            </a:r>
            <a:r>
              <a:rPr b="0" lang="en-US" sz="2800" spc="-1" strike="noStrike" u="sng" baseline="-25000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=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7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простите: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a-4)</a:t>
            </a:r>
            <a:r>
              <a:rPr b="1" lang="en-US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-(a-1)(a+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17-8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16-8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8a+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2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+8a-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8a+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729560" y="59896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всех положительных членов арифметической прогрессии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8,2; 7,4…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46,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46,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6,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46,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46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йдите пятый член геометрической прогрессии, в которой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36,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18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7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геометрической прогрессии со знаменателем q=2 сумма первых семи членов равна 635. Найдите шестой член этой прогресси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сумму бесконечной геометрической прогрессии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12; 6;…..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йдите знаменатель геометрической прогрессии, если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-18,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6666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=144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=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=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=-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=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=-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йдите сумму первых десяти членов арифметической прогрессии,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если а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11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23, а</a:t>
            </a:r>
            <a:r>
              <a:rPr b="1" lang="ru-RU" sz="2400" spc="-1" strike="noStrike" baseline="-25000">
                <a:solidFill>
                  <a:srgbClr val="006666"/>
                </a:solidFill>
                <a:latin typeface="Arial"/>
              </a:rPr>
              <a:t>21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=43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оизведение цифр натурального двузначного числа равно 12, а сумма квадратов цифр этого числа равна 40. Найдите сумму таких чисел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 135 тенге Асель купила 3 банана и 2 булочки, 1 банан на 20 тенге дороже 1 булочки. Сколько стоит 1 банан? Сколько стоит 1 булочк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т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8 т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0 т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6 т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умма квадратов двух последовательных натуральных чисел больше произведения этих чисел на 57. Найдите эти числ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; 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;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;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;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; 8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метр трапеции равен 36, а сумма непараллельных сторон равна 12, тогда средняя линия трапеции равн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арифметической прогрессии (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)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=-5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6666"/>
                </a:solidFill>
                <a:latin typeface="Arial"/>
              </a:rPr>
              <a:t>19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=59. Найдите первый член и разность арифметической прогрессии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-13;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13;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3;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13;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-13;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4800" y="59151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тороны прямоугольника 6,4 дм и  2,1дм. Периметр квадрата составляет 80% от периметра прямоугольника, тогда сторона квадрата равна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  Свежие грибы содержат по массе 90%, а сухие 12% воды. Сколько получится сухих грибов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з 22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г свежих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,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,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,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,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7832880" y="6211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МОЛОДЕЦ!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7643880" y="5675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4" name="Picture 7" descr="616766649"/>
          <p:cNvPicPr/>
          <p:nvPr/>
        </p:nvPicPr>
        <p:blipFill>
          <a:blip r:embed="rId1"/>
          <a:stretch/>
        </p:blipFill>
        <p:spPr>
          <a:xfrm>
            <a:off x="0" y="2357280"/>
            <a:ext cx="4424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ВЫ НЕПРАВЫ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729560" y="57466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ОПРОБУЙ ЕЩЁ РАЗ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7572600" y="57466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НЕ СОВСЕМ ТОЧНО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7586640" y="5661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ОШИБКА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586640" y="5661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зведите в степень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5a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-9b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25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+90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m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+81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9" action="ppaction://hlinksldjump"/>
              </a:rPr>
              <a:t>5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0" action="ppaction://hlinksldjump"/>
              </a:rPr>
              <a:t>2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1" action="ppaction://hlinksldjump"/>
              </a:rPr>
              <a:t>-90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2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3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4" action="ppaction://hlinksldjump"/>
              </a:rPr>
              <a:t>m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5" action="ppaction://hlinksldjump"/>
              </a:rPr>
              <a:t>+9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6" action="ppaction://hlinksldjump"/>
              </a:rPr>
              <a:t>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7" action="ppaction://hlinksldjump"/>
              </a:rPr>
              <a:t>25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8" action="ppaction://hlinksldjump"/>
              </a:rPr>
              <a:t>2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19" action="ppaction://hlinksldjump"/>
              </a:rPr>
              <a:t>+90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0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1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2" action="ppaction://hlinksldjump"/>
              </a:rPr>
              <a:t>m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3" action="ppaction://hlinksldjump"/>
              </a:rPr>
              <a:t>+81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4" action="ppaction://hlinksldjump"/>
              </a:rPr>
              <a:t>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5" action="ppaction://hlinksldjump"/>
              </a:rPr>
              <a:t>5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6" action="ppaction://hlinksldjump"/>
              </a:rPr>
              <a:t>2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7" action="ppaction://hlinksldjump"/>
              </a:rPr>
              <a:t>+90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8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29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0" action="ppaction://hlinksldjump"/>
              </a:rPr>
              <a:t>m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1" action="ppaction://hlinksldjump"/>
              </a:rPr>
              <a:t>+9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2" action="ppaction://hlinksldjump"/>
              </a:rPr>
              <a:t>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3" action="ppaction://hlinksldjump"/>
              </a:rPr>
              <a:t>25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4" action="ppaction://hlinksldjump"/>
              </a:rPr>
              <a:t>2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5" action="ppaction://hlinksldjump"/>
              </a:rPr>
              <a:t>-90a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6" action="ppaction://hlinksldjump"/>
              </a:rPr>
              <a:t>n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7" action="ppaction://hlinksldjump"/>
              </a:rPr>
              <a:t>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8" action="ppaction://hlinksldjump"/>
              </a:rPr>
              <a:t>m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39" action="ppaction://hlinksldjump"/>
              </a:rPr>
              <a:t>+81b</a:t>
            </a:r>
            <a:r>
              <a:rPr b="0" lang="en-US" sz="2800" spc="-1" strike="noStrike" u="sng" baseline="30000">
                <a:solidFill>
                  <a:srgbClr val="003366"/>
                </a:solidFill>
                <a:uFillTx/>
                <a:latin typeface="Arial"/>
                <a:hlinkClick r:id="rId40" action="ppaction://hlinksldjump"/>
              </a:rPr>
              <a:t>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758360" y="61516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1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шите уравнение: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6x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-8x+1=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0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0,2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0,2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-0,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нет реше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905960" y="61372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43:28Z</dcterms:created>
  <dc:creator>Школа</dc:creator>
  <dc:description/>
  <dc:language>en-US</dc:language>
  <cp:lastModifiedBy>СВВ</cp:lastModifiedBy>
  <dcterms:modified xsi:type="dcterms:W3CDTF">2016-12-06T19:40:55Z</dcterms:modified>
  <cp:revision>76</cp:revision>
  <dc:subject/>
  <dc:title>Подготовка к ГИА  по русскому языку</dc:title>
</cp:coreProperties>
</file>