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1.xml.rels" ContentType="application/vnd.openxmlformats-package.relationships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2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DC587-9CA7-4D63-829D-19D0F98901F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2E3A8-DE64-4B83-8DAF-1D95510F41D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AA7E2-E2B9-479F-9A8C-3A5C782AB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EE883-ACEF-4AC7-A044-317C2D739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36433-F7C7-4B8C-A04B-7568A1A89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B55AC-03A6-471F-A61E-6DD4D1F96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19D1B-09CE-422D-B50D-94E36F513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0F14C-5089-4854-8245-BC8347E0A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53D44-D913-4FDA-81B6-8FE2BFBD8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3328E-017C-4185-A328-98BF63DF1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5E216-952D-4949-8135-73BCACB95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F426B-BEF5-45C9-B331-69CE296C2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71BCB-F802-4A11-9002-C918D114C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8E612-A62D-4179-9C71-5333746BF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B9037-E6AC-4798-AB55-21BD11529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78AEE-C6C2-48EA-95DC-BAF2B5673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43906-FE51-476E-B0AD-C238FCF67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A693E-17AB-48D0-85A2-03E52FDBA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97C3A-C573-4BBB-8CD7-D277D3C35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1E877E-D386-4D3F-A7E5-C563262BA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6309B5-5EA9-444A-9833-A89982464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366DA1-4E75-4F5F-A196-8E4B7373C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769A53-9639-4A9B-8E7F-AAA11207C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F647A3-EC4F-4E9D-8D77-A2FB4706B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100DB-60B1-4190-B8B5-30B215838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86FC0C-3E54-403D-80A8-A611AF1CC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07308C-2967-4D8B-A6EF-4599C7149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5110EC-96D3-4D0D-9472-1D3471E23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F8E6AC-1B03-487A-AD35-9DA96AB36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00073F-C1F9-4A42-8C05-4B26574AE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AD519E-75B9-46BF-8371-AFF2D5B12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4A38D8-439F-4FBB-B596-5FB376B09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5843FC-8C41-41F4-910B-61D5C6060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F7BEBF-C0E3-463C-98AF-35CAF2759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650433-2C7B-4FF4-8828-D41C257A6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3D7D4-6870-4F85-9782-92C81A33C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EE4847-7960-4A49-B4AF-1CCBA07E1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0B6E78-30B2-4003-859C-05979132A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9C3DFC-1912-45C3-936A-E6968B07E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C74CE2-5F56-4CAB-BC78-D68D5A36F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AB8173-075B-43AE-B719-036509E8C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E4871A-108F-4326-A47F-2CBC12E77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445454-C2D2-4744-9EFB-7BC1A64A0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E3E3AA-CC01-4F54-96FF-D06BD993B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C9D171-3BB5-48F7-A128-F939005CC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C5B55D-C5B3-4A39-97F1-6F269E168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EF11F-A753-486D-AB7D-97BD909E6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32C853-FC1E-4BB1-959A-D7FF737B8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ED5148-542E-4A28-81FA-3F3A3D4A2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F0B5FA-D3D7-460E-8D91-11C842EBA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B2758E-032D-4FDA-AF92-A28ACEBE2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9248A9-61EC-4D6C-93B6-C691B3967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0F8B50-7EC5-43FF-8A24-54046D677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C0A0A1-231D-4384-9252-A35FAFD49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FCEA34-9EFD-4EA0-8E92-9F9F039E2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8D58CE-8507-4627-AB5C-9FE8EE62B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7403C7-557C-49E5-9F07-F840981F5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9DF97-CE19-4883-A90A-D3EC3989A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25AC29-38A0-4C63-BED8-EB152AB39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FB624A-A607-4B49-9CB2-A6A2AF659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CEF8DB-8227-4CC1-BC2A-E7417C25E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B60CE0-1A52-48EE-A964-38A75050C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5489C7-0C13-46C1-B6DA-E4AA240A1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B08E2C-8355-4802-8FF1-D38D3B013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C28C82-4E21-4D18-A64F-3F436D652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53AD2F-50DA-4918-959B-496C207FC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BA4E47-1559-40C4-8F43-62A26F87A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517308-29C5-41CF-BBB3-C8DD63C82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9F4CB-B451-4A24-AEC9-901D885D0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4B1CD9-FFEB-4C53-9A67-DFF72CA20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630915-08EA-4637-956E-036D94AB9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E957CA-E620-46FD-B61F-7F2F193A6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D1DEA6-72B0-4B6D-A634-554EFC271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551275-7DC8-49C0-933F-98A4B20B5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664B66-BC24-4C08-A205-6D9415034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6D9628-F226-4594-859E-CD4DA3721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7BD7C6-1E87-4D11-A929-E2FA77391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FE585D-F201-4DB4-9606-254207554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C036CE-0821-46E7-8088-572BA9660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953CC-2D7C-4327-B75C-442674B40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9126D0-1099-4344-8FC9-480AA96C5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299EE5-55A5-4663-A04B-0E033F994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CD409E-2E71-4FE5-ACC3-1E0034928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6A37C2-DEEC-495E-9354-14A5B8A23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23C40D-E6B1-4F3F-A278-D9039BCE4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A75ACC-53EE-4C9D-B1AF-9CE93BC45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B62D87-EB45-4B5E-9097-0DB8ABA85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828317-EB1D-466A-AAD7-5F260A13F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27024C-844A-4F15-87A1-FADB8EF2E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76D9D9-30CE-4AA8-A0E6-B3E5AC85C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AB73F-9897-4CF9-8A81-B106B8D5D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6E763F-20FB-49EC-8DA6-F1E8AB7C9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52AF6B-38E2-4EF5-B318-0DC0001FD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72CCA5-BB55-4AC1-9ACD-838D91C20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71CDC6-CAFB-4C08-BCE2-9E7465A37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860DF3-A654-4FE8-AFB9-9714C70BB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1CED6F-E8DE-43EA-877A-D71BF6B94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FF6ABE-8F4F-4593-8548-CC6A50613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E188D-3AA1-4807-8B08-C874B46DFD51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16"/>
            <p:cNvSpPr/>
            <p:nvPr/>
          </p:nvSpPr>
          <p:spPr>
            <a:xfrm>
              <a:off x="1693440" y="4952880"/>
              <a:ext cx="7444440" cy="48672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720"/>
                <a:gd name="textAreaBottom" fmla="*/ 487080 h 48672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4280" y="5236560"/>
              <a:ext cx="9093600" cy="786240"/>
            </a:xfrm>
            <a:custGeom>
              <a:avLst/>
              <a:gdLst>
                <a:gd name="textAreaLeft" fmla="*/ 0 w 9093600"/>
                <a:gd name="textAreaRight" fmla="*/ 9093960 w 9093600"/>
                <a:gd name="textAreaTop" fmla="*/ 0 h 786240"/>
                <a:gd name="textAreaBottom" fmla="*/ 786600 h 78624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Полилиния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Полилиния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828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Прямая соединительная линия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40F75-E47F-43FB-8EC0-B1B783F91F97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Нашивка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BCDE1-68D9-45FD-97CA-5011F214E468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63B7C-E713-4BA6-86E2-CB92FE5282D9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B0A53-9875-4EF6-A75F-087EB1FFBC76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976FF-5937-47B1-8F89-0615F2905125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D2F1D-CE43-44EB-90E3-F6D4FC62A1B5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олилиния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Полилиния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Прямоугольный треугольник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Прямоугольный треугольник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Прямая соединительная линия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Нашивка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Нашивка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4EA18-C088-4FC1-A2E9-87363646023F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6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Заголовок 1" descr=""/>
          <p:cNvPicPr/>
          <p:nvPr/>
        </p:nvPicPr>
        <p:blipFill>
          <a:blip r:embed="rId1"/>
          <a:stretch/>
        </p:blipFill>
        <p:spPr>
          <a:xfrm>
            <a:off x="682560" y="725400"/>
            <a:ext cx="8199360" cy="286560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7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1"/>
          <p:cNvSpPr/>
          <p:nvPr/>
        </p:nvSpPr>
        <p:spPr>
          <a:xfrm>
            <a:off x="539640" y="315360"/>
            <a:ext cx="806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этапе проверки домашнего задания, а также при защите проектных работ, в конце урока </a:t>
            </a:r>
            <a:r>
              <a:rPr b="1" i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 </a:t>
            </a:r>
            <a:r>
              <a:rPr b="1" i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ефлексия деятельности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казатель  этого этапа -  осмысление способов и приёмов работы с учебным материалом, поиск более рациональных приёмов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1"/>
          <p:cNvSpPr/>
          <p:nvPr/>
        </p:nvSpPr>
        <p:spPr>
          <a:xfrm>
            <a:off x="611280" y="429480"/>
            <a:ext cx="806436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ем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Поезд».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ети опускают «веселое личико» в вагончик, с самым интересным заданием, а «грустное личико» в тот, который символизирует менее интересное зада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Волшебный мешочек».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обираем в этот волшебный мешочек все самое интересное, что было на сегодняшнем уроке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Поляна».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 доске – поляна из цветов, над каждым цветком – этап урока – (работа с текстом, фонетическая зарядка и т. д.). Перед каждым ребенком - бабочка. Прикрепляем свою бабочку на тот цветок, какой вид деятельности ему понравился больше всего. (математ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Корзина идей».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чащиеся записывают на листочках свое мнение об уроке, все листочки кладутся в корзину (коробку, мешок), затем выборочно учителем зачитываются мнения и обсуждаются ответы. Учащиеся мнение на листочках высказывают анонимно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Дерево».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чащиеся записывают свое мнение об уроке на бумаге в форме листьев дерева, можно предложить ряд вопросов, затем прикрепляют их на заготовку дерева на плакат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1" name="Picture 2" descr="F:\МО\slide_1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1"/>
          <p:cNvSpPr/>
          <p:nvPr/>
        </p:nvSpPr>
        <p:spPr>
          <a:xfrm>
            <a:off x="324000" y="385200"/>
            <a:ext cx="842472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этапе изучения учебного материала - </a:t>
            </a: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ефлексия содержания учебного материала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казателем которой  является - уровень осознания содержания пройденного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 txBox="1"/>
          <p:nvPr/>
        </p:nvSpPr>
        <p:spPr>
          <a:xfrm>
            <a:off x="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годня я узнал…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547560" indent="-41112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ыло интересно…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547560" indent="-41112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ыло трудно…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547560" indent="-41112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понял, что…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547560" indent="-41112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перь я могу…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547560" indent="-41112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почувствовал, что…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547560" indent="-41112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приобрел…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547560" indent="-41112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научился…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547560" indent="-41112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меня получилось …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547560" indent="-41112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смог…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547560" indent="-41112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попробую…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547560" indent="-41112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ня удивило…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547560" indent="-41112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ок дал мне для жизни…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547560" indent="-41112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е захотелось…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4" name="Text Box 4"/>
          <p:cNvSpPr/>
          <p:nvPr/>
        </p:nvSpPr>
        <p:spPr>
          <a:xfrm>
            <a:off x="179280" y="0"/>
            <a:ext cx="8640720" cy="764280"/>
          </a:xfrm>
          <a:prstGeom prst="rect">
            <a:avLst/>
          </a:prstGeom>
          <a:solidFill>
            <a:srgbClr val="eb64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«Незаконченное предложение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5" name="Picture 4" descr="globus"/>
          <p:cNvPicPr/>
          <p:nvPr/>
        </p:nvPicPr>
        <p:blipFill>
          <a:blip r:embed="rId1"/>
          <a:stretch/>
        </p:blipFill>
        <p:spPr>
          <a:xfrm>
            <a:off x="4859280" y="2205000"/>
            <a:ext cx="3708360" cy="370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 txBox="1"/>
          <p:nvPr/>
        </p:nvSpPr>
        <p:spPr>
          <a:xfrm>
            <a:off x="457200" y="121428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Lucida Sans Unicode"/>
              </a:rPr>
              <a:t>1.  </a:t>
            </a:r>
            <a:r>
              <a:rPr b="1" i="1" lang="ru-RU" sz="2000" spc="-1" strike="noStrike">
                <a:solidFill>
                  <a:srgbClr val="000000"/>
                </a:solidFill>
                <a:latin typeface="Lucida Sans Unicode"/>
              </a:rPr>
              <a:t>сегодня   я     узнал…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Lucida Sans Unicode"/>
              </a:rPr>
              <a:t>2.  </a:t>
            </a:r>
            <a:r>
              <a:rPr b="1" i="1" lang="ru-RU" sz="2000" spc="-1" strike="noStrike">
                <a:solidFill>
                  <a:srgbClr val="000000"/>
                </a:solidFill>
                <a:latin typeface="Lucida Sans Unicode"/>
              </a:rPr>
              <a:t>было  интересно…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Lucida Sans Unicode"/>
              </a:rPr>
              <a:t>3.  </a:t>
            </a:r>
            <a:r>
              <a:rPr b="1" i="1" lang="ru-RU" sz="2000" spc="-1" strike="noStrike">
                <a:solidFill>
                  <a:srgbClr val="000000"/>
                </a:solidFill>
                <a:latin typeface="Lucida Sans Unicode"/>
              </a:rPr>
              <a:t>было   трудно…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Lucida Sans Unicode"/>
              </a:rPr>
              <a:t>4.  </a:t>
            </a:r>
            <a:r>
              <a:rPr b="1" i="1" lang="ru-RU" sz="2000" spc="-1" strike="noStrike">
                <a:solidFill>
                  <a:srgbClr val="000000"/>
                </a:solidFill>
                <a:latin typeface="Lucida Sans Unicode"/>
              </a:rPr>
              <a:t>я   выполнял   задания…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Lucida Sans Unicode"/>
              </a:rPr>
              <a:t>5.  </a:t>
            </a:r>
            <a:r>
              <a:rPr b="1" i="1" lang="ru-RU" sz="2000" spc="-1" strike="noStrike">
                <a:solidFill>
                  <a:srgbClr val="000000"/>
                </a:solidFill>
                <a:latin typeface="Lucida Sans Unicode"/>
              </a:rPr>
              <a:t>я понял,   что…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Lucida Sans Unicode"/>
              </a:rPr>
              <a:t>6.  </a:t>
            </a:r>
            <a:r>
              <a:rPr b="1" i="1" lang="ru-RU" sz="2000" spc="-1" strike="noStrike">
                <a:solidFill>
                  <a:srgbClr val="000000"/>
                </a:solidFill>
                <a:latin typeface="Lucida Sans Unicode"/>
              </a:rPr>
              <a:t>теперь я   могу…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Lucida Sans Unicode"/>
              </a:rPr>
              <a:t>7.  </a:t>
            </a:r>
            <a:r>
              <a:rPr b="1" i="1" lang="ru-RU" sz="2000" spc="-1" strike="noStrike">
                <a:solidFill>
                  <a:srgbClr val="000000"/>
                </a:solidFill>
                <a:latin typeface="Lucida Sans Unicode"/>
              </a:rPr>
              <a:t>я   почувствовал,  что…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Lucida Sans Unicode"/>
              </a:rPr>
              <a:t>8.  </a:t>
            </a:r>
            <a:r>
              <a:rPr b="1" i="1" lang="ru-RU" sz="2000" spc="-1" strike="noStrike">
                <a:solidFill>
                  <a:srgbClr val="000000"/>
                </a:solidFill>
                <a:latin typeface="Lucida Sans Unicode"/>
              </a:rPr>
              <a:t>я   приобрел…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Lucida Sans Unicode"/>
              </a:rPr>
              <a:t>9.  </a:t>
            </a:r>
            <a:r>
              <a:rPr b="1" i="1" lang="ru-RU" sz="2000" spc="-1" strike="noStrike">
                <a:solidFill>
                  <a:srgbClr val="000000"/>
                </a:solidFill>
                <a:latin typeface="Lucida Sans Unicode"/>
              </a:rPr>
              <a:t>я   научился…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Lucida Sans Unicode"/>
              </a:rPr>
              <a:t>10.  </a:t>
            </a:r>
            <a:r>
              <a:rPr b="1" i="1" lang="ru-RU" sz="2000" spc="-1" strike="noStrike">
                <a:solidFill>
                  <a:srgbClr val="000000"/>
                </a:solidFill>
                <a:latin typeface="Lucida Sans Unicode"/>
              </a:rPr>
              <a:t>у   меня   получилось …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Lucida Sans Unicode"/>
              </a:rPr>
              <a:t>11.  </a:t>
            </a:r>
            <a:r>
              <a:rPr b="1" i="1" lang="ru-RU" sz="2000" spc="-1" strike="noStrike">
                <a:solidFill>
                  <a:srgbClr val="000000"/>
                </a:solidFill>
                <a:latin typeface="Lucida Sans Unicode"/>
              </a:rPr>
              <a:t>я   смог…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Lucida Sans Unicode"/>
              </a:rPr>
              <a:t>12.  </a:t>
            </a:r>
            <a:r>
              <a:rPr b="1" i="1" lang="ru-RU" sz="2000" spc="-1" strike="noStrike">
                <a:solidFill>
                  <a:srgbClr val="000000"/>
                </a:solidFill>
                <a:latin typeface="Lucida Sans Unicode"/>
              </a:rPr>
              <a:t>я   попробую…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Lucida Sans Unicode"/>
              </a:rPr>
              <a:t>13.  </a:t>
            </a:r>
            <a:r>
              <a:rPr b="1" i="1" lang="ru-RU" sz="2000" spc="-1" strike="noStrike">
                <a:solidFill>
                  <a:srgbClr val="000000"/>
                </a:solidFill>
                <a:latin typeface="Lucida Sans Unicode"/>
              </a:rPr>
              <a:t>меня   удивило…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Lucida Sans Unicode"/>
              </a:rPr>
              <a:t>14.   </a:t>
            </a:r>
            <a:r>
              <a:rPr b="1" i="1" lang="ru-RU" sz="2000" spc="-1" strike="noStrike">
                <a:solidFill>
                  <a:srgbClr val="000000"/>
                </a:solidFill>
                <a:latin typeface="Lucida Sans Unicode"/>
              </a:rPr>
              <a:t>урок  дал   мне   для   жизни…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Lucida Sans Unicode"/>
              </a:rPr>
              <a:t>15.  </a:t>
            </a:r>
            <a:r>
              <a:rPr b="1" i="1" lang="ru-RU" sz="2000" spc="-1" strike="noStrike">
                <a:solidFill>
                  <a:srgbClr val="000000"/>
                </a:solidFill>
                <a:latin typeface="Lucida Sans Unicode"/>
              </a:rPr>
              <a:t>мне   захотелось…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7" name="Заголовок 1" descr=""/>
          <p:cNvPicPr/>
          <p:nvPr/>
        </p:nvPicPr>
        <p:blipFill>
          <a:blip r:embed="rId1"/>
          <a:stretch/>
        </p:blipFill>
        <p:spPr>
          <a:xfrm>
            <a:off x="225360" y="-152280"/>
            <a:ext cx="852804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Text Box 4"/>
          <p:cNvSpPr/>
          <p:nvPr/>
        </p:nvSpPr>
        <p:spPr>
          <a:xfrm>
            <a:off x="395280" y="1484280"/>
            <a:ext cx="8280360" cy="51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узнал(а) много ново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е это пригодится в жизн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5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уроке было над чем подум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5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все вопросы, возникающие в ходе урока, я получил(а) ответ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уроке я работал(а) добросовестно и цели урока достиг(ла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6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solidFill>
            <a:srgbClr val="eb64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«Утверждение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 txBox="1"/>
          <p:nvPr/>
        </p:nvSpPr>
        <p:spPr>
          <a:xfrm>
            <a:off x="0" y="785520"/>
            <a:ext cx="9144000" cy="60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d1014"/>
                </a:solidFill>
                <a:latin typeface="Lucida Sans Unicode"/>
              </a:rPr>
              <a:t>Разработала американская поэтесса Аделаида Крэпси под влиянием японских миниатюр хайку и танка. В России дидактический синквейн используется с 1997 года как заключительное задание по пройденному материалу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Lucida Sans Unicode"/>
              </a:rPr>
              <a:t>первая строка – название темы (одно существительное)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Lucida Sans Unicode"/>
              </a:rPr>
              <a:t>- вторая – описание темы в двух словах, два прилагательных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Lucida Sans Unicode"/>
              </a:rPr>
              <a:t>- третья строка -  описание действия в рамках этой темы тремя глаголами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Lucida Sans Unicode"/>
              </a:rPr>
              <a:t>- четвёртая строка – это фраза из четырёх слов, показывает отношение к теме (целое предложение)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Lucida Sans Unicode"/>
              </a:rPr>
              <a:t>- последняя строка – синоним, который повторяет суть темы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1" name="Заголовок 1" descr=""/>
          <p:cNvPicPr/>
          <p:nvPr/>
        </p:nvPicPr>
        <p:blipFill>
          <a:blip r:embed="rId1"/>
          <a:stretch/>
        </p:blipFill>
        <p:spPr>
          <a:xfrm>
            <a:off x="-60480" y="-6480"/>
            <a:ext cx="905832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Заголовок 1" descr=""/>
          <p:cNvPicPr/>
          <p:nvPr/>
        </p:nvPicPr>
        <p:blipFill>
          <a:blip r:embed="rId1"/>
          <a:stretch/>
        </p:blipFill>
        <p:spPr>
          <a:xfrm>
            <a:off x="225360" y="122400"/>
            <a:ext cx="8467920" cy="1341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03" name=""/>
          <p:cNvGraphicFramePr/>
          <p:nvPr/>
        </p:nvGraphicFramePr>
        <p:xfrm>
          <a:off x="142920" y="1857240"/>
          <a:ext cx="9001080" cy="4594320"/>
        </p:xfrm>
        <a:graphic>
          <a:graphicData uri="http://schemas.openxmlformats.org/drawingml/2006/table">
            <a:tbl>
              <a:tblPr/>
              <a:tblGrid>
                <a:gridCol w="2462040"/>
                <a:gridCol w="2073240"/>
                <a:gridCol w="2233800"/>
                <a:gridCol w="2232000"/>
              </a:tblGrid>
              <a:tr h="1649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Понятие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нал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знал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Хочу узнать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44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Например: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Имя существительно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Часть реч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Вопросы кто? что?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Изменяется по числа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Бывает женского, мужского, среднего род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Как еще изменяются существи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тельные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Заголовок 1" descr=""/>
          <p:cNvPicPr/>
          <p:nvPr/>
        </p:nvPicPr>
        <p:blipFill>
          <a:blip r:embed="rId1"/>
          <a:stretch/>
        </p:blipFill>
        <p:spPr>
          <a:xfrm>
            <a:off x="85680" y="-6480"/>
            <a:ext cx="8893080" cy="1231920"/>
          </a:xfrm>
          <a:prstGeom prst="rect">
            <a:avLst/>
          </a:prstGeom>
          <a:ln w="0">
            <a:noFill/>
          </a:ln>
        </p:spPr>
      </p:pic>
      <p:sp>
        <p:nvSpPr>
          <p:cNvPr id="405" name="Овал 3"/>
          <p:cNvSpPr/>
          <p:nvPr/>
        </p:nvSpPr>
        <p:spPr>
          <a:xfrm>
            <a:off x="3571920" y="1428840"/>
            <a:ext cx="1785960" cy="1000080"/>
          </a:xfrm>
          <a:prstGeom prst="ellipse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d1014"/>
                </a:solidFill>
                <a:latin typeface="Lucida Sans Unicode"/>
              </a:rPr>
              <a:t>понят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Овал 4"/>
          <p:cNvSpPr/>
          <p:nvPr/>
        </p:nvSpPr>
        <p:spPr>
          <a:xfrm>
            <a:off x="5286240" y="2571840"/>
            <a:ext cx="1785960" cy="1000080"/>
          </a:xfrm>
          <a:prstGeom prst="ellipse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Овал 5"/>
          <p:cNvSpPr/>
          <p:nvPr/>
        </p:nvSpPr>
        <p:spPr>
          <a:xfrm>
            <a:off x="2286000" y="2643120"/>
            <a:ext cx="1785960" cy="857160"/>
          </a:xfrm>
          <a:prstGeom prst="ellipse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Овал 6"/>
          <p:cNvSpPr/>
          <p:nvPr/>
        </p:nvSpPr>
        <p:spPr>
          <a:xfrm>
            <a:off x="2286000" y="4214880"/>
            <a:ext cx="1785960" cy="1000080"/>
          </a:xfrm>
          <a:prstGeom prst="ellipse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Овал 9"/>
          <p:cNvSpPr/>
          <p:nvPr/>
        </p:nvSpPr>
        <p:spPr>
          <a:xfrm>
            <a:off x="5429160" y="4214880"/>
            <a:ext cx="1785960" cy="1000080"/>
          </a:xfrm>
          <a:prstGeom prst="ellipse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Прямая соединительная линия 13"/>
          <p:cNvSpPr/>
          <p:nvPr/>
        </p:nvSpPr>
        <p:spPr>
          <a:xfrm>
            <a:off x="5214960" y="2214720"/>
            <a:ext cx="642960" cy="4284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Прямая соединительная линия 15"/>
          <p:cNvSpPr/>
          <p:nvPr/>
        </p:nvSpPr>
        <p:spPr>
          <a:xfrm flipH="1">
            <a:off x="3214440" y="2214000"/>
            <a:ext cx="785880" cy="57132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Прямая соединительная линия 17"/>
          <p:cNvSpPr/>
          <p:nvPr/>
        </p:nvSpPr>
        <p:spPr>
          <a:xfrm flipH="1">
            <a:off x="3142800" y="3500280"/>
            <a:ext cx="34920" cy="150048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Прямая соединительная линия 19"/>
          <p:cNvSpPr/>
          <p:nvPr/>
        </p:nvSpPr>
        <p:spPr>
          <a:xfrm>
            <a:off x="6179400" y="3571920"/>
            <a:ext cx="34920" cy="121428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Овал 20"/>
          <p:cNvSpPr/>
          <p:nvPr/>
        </p:nvSpPr>
        <p:spPr>
          <a:xfrm>
            <a:off x="3714840" y="5429160"/>
            <a:ext cx="1785960" cy="928800"/>
          </a:xfrm>
          <a:prstGeom prst="ellipse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Овал 21"/>
          <p:cNvSpPr/>
          <p:nvPr/>
        </p:nvSpPr>
        <p:spPr>
          <a:xfrm>
            <a:off x="642960" y="5429160"/>
            <a:ext cx="1785960" cy="928800"/>
          </a:xfrm>
          <a:prstGeom prst="ellipse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Прямая соединительная линия 25"/>
          <p:cNvSpPr/>
          <p:nvPr/>
        </p:nvSpPr>
        <p:spPr>
          <a:xfrm flipH="1">
            <a:off x="1785600" y="5068800"/>
            <a:ext cx="762120" cy="57492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Прямая соединительная линия 27"/>
          <p:cNvSpPr/>
          <p:nvPr/>
        </p:nvSpPr>
        <p:spPr>
          <a:xfrm>
            <a:off x="3809880" y="5068800"/>
            <a:ext cx="976320" cy="100332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8" name=""/>
          <p:cNvGraphicFramePr/>
          <p:nvPr/>
        </p:nvGraphicFramePr>
        <p:xfrm>
          <a:off x="611280" y="907920"/>
          <a:ext cx="8353440" cy="4792680"/>
        </p:xfrm>
        <a:graphic>
          <a:graphicData uri="http://schemas.openxmlformats.org/drawingml/2006/table">
            <a:tbl>
              <a:tblPr/>
              <a:tblGrid>
                <a:gridCol w="5184720"/>
                <a:gridCol w="3168720"/>
              </a:tblGrid>
              <a:tr h="7318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то я умею делать на урока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 учеников (в %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ределяю цель работы на уроке с помощью учителя и самостоятельн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хожу и формулирую проблему вместе с учителе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анирую работу на урок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сказываю свою версию, предлагаю способ ее проверк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ботая по плану, использую учебник, простейшие приборы и инструмент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ределяю, успешно ли выполнено задание (в диалоге с учителем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9" name="Rectangle 1"/>
          <p:cNvSpPr/>
          <p:nvPr/>
        </p:nvSpPr>
        <p:spPr>
          <a:xfrm>
            <a:off x="900000" y="-125640"/>
            <a:ext cx="7848720" cy="106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езультативность опыта работ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Rectangle 2" descr=""/>
          <p:cNvPicPr/>
          <p:nvPr/>
        </p:nvPicPr>
        <p:blipFill>
          <a:blip r:embed="rId1"/>
          <a:stretch/>
        </p:blipFill>
        <p:spPr>
          <a:xfrm>
            <a:off x="695160" y="-19080"/>
            <a:ext cx="7607520" cy="585720"/>
          </a:xfrm>
          <a:prstGeom prst="rect">
            <a:avLst/>
          </a:prstGeom>
          <a:ln w="0">
            <a:noFill/>
          </a:ln>
        </p:spPr>
      </p:pic>
      <p:pic>
        <p:nvPicPr>
          <p:cNvPr id="380" name="Схема 3" descr=""/>
          <p:cNvPicPr/>
          <p:nvPr/>
        </p:nvPicPr>
        <p:blipFill>
          <a:blip r:embed="rId2"/>
          <a:stretch/>
        </p:blipFill>
        <p:spPr>
          <a:xfrm>
            <a:off x="195120" y="476280"/>
            <a:ext cx="8888400" cy="62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"/>
          <p:cNvSpPr/>
          <p:nvPr/>
        </p:nvSpPr>
        <p:spPr>
          <a:xfrm>
            <a:off x="684360" y="186120"/>
            <a:ext cx="7848360" cy="58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езультаты исследования показали, что уровень формирования рефлексивных умений повысилс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Кроме того, ученики стали более сознательно относятся к учебе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ктивно участвуют в учебной и внеурочной деятельност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чащиеся не боятся высказывать свое мнение, даже если оно ошибочно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ктивно включаются в учебную деятельнос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1"/>
          <p:cNvSpPr/>
          <p:nvPr/>
        </p:nvSpPr>
        <p:spPr>
          <a:xfrm>
            <a:off x="468360" y="394200"/>
            <a:ext cx="8496360" cy="399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206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декватно воспринимать себ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тавить цель деятельност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пределять результаты деятельност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оотносить результаты с целью деятельност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определять наличие ошибок в собственном поведени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Rectangle 2"/>
          <p:cNvSpPr/>
          <p:nvPr/>
        </p:nvSpPr>
        <p:spPr>
          <a:xfrm>
            <a:off x="468360" y="4250880"/>
            <a:ext cx="81709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критически мыслить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аргументировать свое мнение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оценивать свою деятельность и деятельность своих одноклассник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1"/>
          <p:cNvSpPr/>
          <p:nvPr/>
        </p:nvSpPr>
        <p:spPr>
          <a:xfrm>
            <a:off x="539640" y="546480"/>
            <a:ext cx="7920000" cy="503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 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амостоятельность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учитель отвечает за ученика, а ученик, анализируя, осознаёт свои возможности, сам делает свой собственный выбор. Определяет меру активности и ответственности в своей деятель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 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едприимчивость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ник осознает, что он может предпринять здесь и сейчас, чтобы стало лучше. В случае ошибки или неудачи не отчаивается, а оценивает ситуацию и, исходя из новых условий, ставит перед собой новые цели и задачи и успешно решает и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 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онкурентоспособность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ет делать что-то лучше других, действует в любых ситуациях более эффектив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 txBox="1"/>
          <p:nvPr/>
        </p:nvSpPr>
        <p:spPr>
          <a:xfrm>
            <a:off x="324000" y="260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 u="sng">
                <a:solidFill>
                  <a:srgbClr val="002060"/>
                </a:solidFill>
                <a:uFillTx/>
                <a:latin typeface="Lucida Sans Unicode"/>
              </a:rPr>
              <a:t>Приём «Следуй за нами»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Алгоритм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5" name="Схема 2" descr=""/>
          <p:cNvPicPr/>
          <p:nvPr/>
        </p:nvPicPr>
        <p:blipFill>
          <a:blip r:embed="rId1"/>
          <a:stretch/>
        </p:blipFill>
        <p:spPr>
          <a:xfrm>
            <a:off x="249120" y="1189080"/>
            <a:ext cx="8418600" cy="54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Схема 3" descr=""/>
          <p:cNvPicPr/>
          <p:nvPr/>
        </p:nvPicPr>
        <p:blipFill>
          <a:blip r:embed="rId1"/>
          <a:stretch/>
        </p:blipFill>
        <p:spPr>
          <a:xfrm>
            <a:off x="291960" y="328680"/>
            <a:ext cx="8491680" cy="613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Rectangle 5" descr=""/>
          <p:cNvPicPr/>
          <p:nvPr/>
        </p:nvPicPr>
        <p:blipFill>
          <a:blip r:embed="rId1"/>
          <a:stretch/>
        </p:blipFill>
        <p:spPr>
          <a:xfrm>
            <a:off x="201600" y="268200"/>
            <a:ext cx="8697960" cy="1158840"/>
          </a:xfrm>
          <a:prstGeom prst="rect">
            <a:avLst/>
          </a:prstGeom>
          <a:ln w="0">
            <a:noFill/>
          </a:ln>
        </p:spPr>
      </p:pic>
      <p:sp>
        <p:nvSpPr>
          <p:cNvPr id="428" name=""/>
          <p:cNvSpPr txBox="1"/>
          <p:nvPr/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364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Lucida Sans Unicode"/>
              </a:rPr>
              <a:t> </a:t>
            </a:r>
            <a:endParaRPr b="0" lang="en-US" sz="1700" spc="-1" strike="noStrike">
              <a:solidFill>
                <a:srgbClr val="ffffff"/>
              </a:solidFill>
              <a:latin typeface="Lucida Sans Unicode"/>
            </a:endParaRPr>
          </a:p>
          <a:p>
            <a:pPr marL="1364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На уроке я работал……..потому что………</a:t>
            </a:r>
            <a:endParaRPr b="0" lang="en-US" sz="3600" spc="-1" strike="noStrike">
              <a:solidFill>
                <a:srgbClr val="ffffff"/>
              </a:solidFill>
              <a:latin typeface="Lucida Sans Unicode"/>
            </a:endParaRPr>
          </a:p>
          <a:p>
            <a:pPr marL="1364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Своей работой на уроке я………</a:t>
            </a:r>
            <a:endParaRPr b="0" lang="en-US" sz="3600" spc="-1" strike="noStrike">
              <a:solidFill>
                <a:srgbClr val="ffffff"/>
              </a:solidFill>
              <a:latin typeface="Lucida Sans Unicode"/>
            </a:endParaRPr>
          </a:p>
          <a:p>
            <a:pPr marL="1364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Урок для меня показался…….</a:t>
            </a:r>
            <a:endParaRPr b="0" lang="en-US" sz="3600" spc="-1" strike="noStrike">
              <a:solidFill>
                <a:srgbClr val="ffffff"/>
              </a:solidFill>
              <a:latin typeface="Lucida Sans Unicode"/>
            </a:endParaRPr>
          </a:p>
          <a:p>
            <a:pPr marL="1364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За урок я…..</a:t>
            </a:r>
            <a:endParaRPr b="0" lang="en-US" sz="3600" spc="-1" strike="noStrike">
              <a:solidFill>
                <a:srgbClr val="ffffff"/>
              </a:solidFill>
              <a:latin typeface="Lucida Sans Unicode"/>
            </a:endParaRPr>
          </a:p>
          <a:p>
            <a:pPr marL="1364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.Мое настроение……..</a:t>
            </a:r>
            <a:endParaRPr b="0" lang="en-US" sz="3600" spc="-1" strike="noStrike">
              <a:solidFill>
                <a:srgbClr val="ffffff"/>
              </a:solidFill>
              <a:latin typeface="Lucida Sans Unicode"/>
            </a:endParaRPr>
          </a:p>
          <a:p>
            <a:pPr marL="1364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.Материал урока мне был………</a:t>
            </a:r>
            <a:endParaRPr b="0" lang="en-US" sz="3600" spc="-1" strike="noStrike">
              <a:solidFill>
                <a:srgbClr val="ffffff"/>
              </a:solidFill>
              <a:latin typeface="Lucida Sans Unicode"/>
            </a:endParaRPr>
          </a:p>
          <a:p>
            <a:pPr marL="13644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  <a:p>
            <a:pPr marL="13644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  <a:p>
            <a:pPr marL="13644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 txBox="1"/>
          <p:nvPr/>
        </p:nvSpPr>
        <p:spPr>
          <a:xfrm>
            <a:off x="285840" y="1600200"/>
            <a:ext cx="8501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азатели выполнения образовательных задач на этапе рефлексии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крытость учащихся в осмыслении своих действий, поведения и эмоционального состояния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нозирование способов саморегуляции и сотрудничества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ловия выполнения образовательных задач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способности учащихся к рефлексии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имулирование учащихся к осмыслению того, как другие (учителя, учащиеся) знают и понимают его личностные особенности, эмоциональные реакции и когнитивные представления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лизация рефлексивного алгоритма: «Я», «МЫ», «ДЕЛО»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0" name="Заголовок 1" descr=""/>
          <p:cNvPicPr/>
          <p:nvPr/>
        </p:nvPicPr>
        <p:blipFill>
          <a:blip r:embed="rId1"/>
          <a:stretch/>
        </p:blipFill>
        <p:spPr>
          <a:xfrm>
            <a:off x="225360" y="115920"/>
            <a:ext cx="8467920" cy="1347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надеюсь, что этот урок будет…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ожидаю, что…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буду разочарован, если…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2" name="Заголовок 1" descr=""/>
          <p:cNvPicPr/>
          <p:nvPr/>
        </p:nvPicPr>
        <p:blipFill>
          <a:blip r:embed="rId1"/>
          <a:stretch/>
        </p:blipFill>
        <p:spPr>
          <a:xfrm>
            <a:off x="176040" y="268200"/>
            <a:ext cx="8517240" cy="115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"/>
          <p:cNvSpPr txBox="1"/>
          <p:nvPr/>
        </p:nvSpPr>
        <p:spPr>
          <a:xfrm>
            <a:off x="428760" y="856800"/>
            <a:ext cx="8229600" cy="48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50280" indent="-245160"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ru-RU" sz="3000" spc="-1" strike="noStrike" u="sng">
                <a:solidFill>
                  <a:srgbClr val="000000"/>
                </a:solidFill>
                <a:uFillTx/>
                <a:latin typeface="Lucida Sans Unicode"/>
              </a:rPr>
              <a:t>Ситуация</a:t>
            </a:r>
            <a:r>
              <a:rPr b="0" lang="ru-RU" sz="3000" spc="-1" strike="noStrike">
                <a:solidFill>
                  <a:srgbClr val="000000"/>
                </a:solidFill>
                <a:latin typeface="Lucida Sans Unicode"/>
              </a:rPr>
              <a:t> – это сочетание условий, которые обеспечивают успех, а сам </a:t>
            </a:r>
            <a:r>
              <a:rPr b="1" lang="ru-RU" sz="3000" spc="-1" strike="noStrike" u="sng">
                <a:solidFill>
                  <a:srgbClr val="000000"/>
                </a:solidFill>
                <a:uFillTx/>
                <a:latin typeface="Lucida Sans Unicode"/>
              </a:rPr>
              <a:t>успех</a:t>
            </a:r>
            <a:r>
              <a:rPr b="0" lang="ru-RU" sz="3000" spc="-1" strike="noStrike">
                <a:solidFill>
                  <a:srgbClr val="000000"/>
                </a:solidFill>
                <a:latin typeface="Lucida Sans Unicode"/>
              </a:rPr>
              <a:t> – результат подобной ситуации. Ситуация это то, что способен организовать учитель. 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6600"/>
                </a:solidFill>
                <a:latin typeface="Lucida Sans Unicode"/>
              </a:rPr>
              <a:t> </a:t>
            </a:r>
            <a:r>
              <a:rPr b="1" i="1" lang="ru-RU" sz="3000" spc="-1" strike="noStrike">
                <a:solidFill>
                  <a:srgbClr val="006600"/>
                </a:solidFill>
                <a:latin typeface="Lucida Sans Unicode"/>
              </a:rPr>
              <a:t>Задача учителя в том и состоит, чтобы дать каждому из своих воспитанников возможность пережить радость достижения, осознать свои возможности, поверить в себя.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Picture 2" descr=""/>
          <p:cNvPicPr/>
          <p:nvPr/>
        </p:nvPicPr>
        <p:blipFill>
          <a:blip r:embed="rId1"/>
          <a:stretch/>
        </p:blipFill>
        <p:spPr>
          <a:xfrm>
            <a:off x="0" y="260280"/>
            <a:ext cx="899172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1"/>
          <p:cNvSpPr/>
          <p:nvPr/>
        </p:nvSpPr>
        <p:spPr>
          <a:xfrm>
            <a:off x="395280" y="749880"/>
            <a:ext cx="8353440" cy="521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Новые образовательные стандарты начального общего образования нацеливают деятельность педагога на формирование у младшего школьника основ умения учиться и способностей к организации своей деятельности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нимать, сохранять цели и следовать им в учебной деятельности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планировать свою деятельность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осуществлять её контроль и оценк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Этого можно достичь, если у ребенка будут сформированы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рефлексивные умения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1"/>
          <p:cNvSpPr/>
          <p:nvPr/>
        </p:nvSpPr>
        <p:spPr>
          <a:xfrm>
            <a:off x="468360" y="628200"/>
            <a:ext cx="8351640" cy="5456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нение технологии рефлексии будет способствовать  формированию самоконтроля, самооценки, осознанного отношения к своей деятельности, развитию критического мышления учащихся, есл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будет организована рефлексивная деятельность на различных этапах урока не эпизодично, а постоянно из урока в урок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приёмы рефлексии на уроках будут разнообразными, вариативными и нестандартными, а также будут соответствовать возрастным и индивидуальным особенностям ребен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4" name=""/>
          <p:cNvGraphicFramePr/>
          <p:nvPr/>
        </p:nvGraphicFramePr>
        <p:xfrm>
          <a:off x="468360" y="765000"/>
          <a:ext cx="8064360" cy="4141800"/>
        </p:xfrm>
        <a:graphic>
          <a:graphicData uri="http://schemas.openxmlformats.org/drawingml/2006/table">
            <a:tbl>
              <a:tblPr/>
              <a:tblGrid>
                <a:gridCol w="4680000"/>
                <a:gridCol w="3384360"/>
              </a:tblGrid>
              <a:tr h="317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Что я умею делать на урока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Количество учеников (в 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8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Определяю цель работы на уроке с помощью учителя и самостоятельн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5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6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Нахожу и формулирую проблему вместе с учителе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5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9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Планирую работу на урок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6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6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Высказываю свою версию, предлагаю способ ее провер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6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5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Работая по плану, использую учебник, простейшие приборы и инструмент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5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7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Определяю, успешно ли выполнено задание (в диалоге с учителем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6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85" name="Прямоугольник 3"/>
          <p:cNvSpPr/>
          <p:nvPr/>
        </p:nvSpPr>
        <p:spPr>
          <a:xfrm>
            <a:off x="826920" y="189000"/>
            <a:ext cx="712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езультаты входной диагностики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1"/>
          <p:cNvSpPr/>
          <p:nvPr/>
        </p:nvSpPr>
        <p:spPr>
          <a:xfrm>
            <a:off x="468360" y="808560"/>
            <a:ext cx="7235640" cy="44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азатели  говорят о том, что дети испытывают трудност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планировании своей работы на уроке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ысказывании своей версии, предложении способа ее проверки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и работе по плану не все умеют использовать учебник, простейшие приборы и инструменты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определении успешности выполненного зад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1"/>
          <p:cNvSpPr/>
          <p:nvPr/>
        </p:nvSpPr>
        <p:spPr>
          <a:xfrm>
            <a:off x="611280" y="488520"/>
            <a:ext cx="77058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начале и в конце урока использовала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флексию настроения и эмоционального состояния.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начале урока - установление эмоционального контакта,  в конце урока - выявление эмоционального состояни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казатель этого этапа- степень удовлетворенности работой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1"/>
          <p:cNvSpPr/>
          <p:nvPr/>
        </p:nvSpPr>
        <p:spPr>
          <a:xfrm>
            <a:off x="324000" y="-205920"/>
            <a:ext cx="795636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емы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«Смайлики», «Цветочки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Использование различных изображений: «Букет настроения», «Дерево чувств» и т.д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« Солнышко и тучка»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Эмоционально-художественное оформлени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Оценка своего эмоционального состояния: учащиеся отвечают на вопрос «Какие эмоции ты испытываешь?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1-17T14:56:44Z</dcterms:created>
  <dc:creator>Рома</dc:creator>
  <dc:description/>
  <dc:language>en-US</dc:language>
  <cp:lastModifiedBy>Рома</cp:lastModifiedBy>
  <dcterms:modified xsi:type="dcterms:W3CDTF">2016-11-27T20:19:34Z</dcterms:modified>
  <cp:revision>31</cp:revision>
  <dc:subject/>
  <dc:title>Показатели для анализа учебной деятельности учащихся</dc:title>
</cp:coreProperties>
</file>