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967-626A-4A59-98EC-BC6FA0DA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FC5-794C-42AE-82C5-33819B3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47D-8A63-4460-B665-A6FBC3B9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8A4-8203-4C1C-B672-C71BBC59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F9B-B2BC-4FDB-BCCF-5114BE8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F79-7353-4630-92F2-E92EFBD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6BD-87D9-456B-86DD-04511960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487-A62E-4E58-B3F1-AD35C77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DF0-BA7F-4E2C-BCD4-5DE5589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C25-1AF9-41AC-BDB9-8A5204E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0E1-6A1E-4BFA-A030-9BC273E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274-A925-4F7E-BCF2-5DFAF0D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5E8-93C8-4A8D-A424-62966C73E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60;&#1077;&#1076;&#1077;&#1088;&#1072;&#1083;&#1100;&#1085;&#1086;&#1077;%20&#1055;&#1086;&#1083;&#1086;&#1078;&#1077;&#1085;&#1080;&#1077;%20&#1086;&#1073;%20&#1072;&#1090;&#1090;&#1077;&#1089;&#1090;&#1072;&#1094;&#1080;&#1080;%202010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_&#1072;&#1090;&#1090;&#1077;&#1089;&#1090;&#1072;&#1094;&#1080;&#1103;.doc" TargetMode="External"/><Relationship Id="rId2" Type="http://schemas.openxmlformats.org/officeDocument/2006/relationships/hyperlink" Target="file:///&#1055;&#1088;_&#1084;&#1077;&#1090;&#1086;&#1076;%20&#1088;&#1077;&#1082;&#1086;&#1084;&#1077;&#1085;&#1076;&#1072;&#1094;&#1080;&#1080;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2;&#1072;&#1079;%20&#1052;&#1080;&#1085;&#1089;&#1086;&#1094;&#1088;&#1072;&#1079;&#1074;&#1080;&#1090;&#1080;&#1103;%20&#1086;%20&#1082;&#1074;&#1072;&#1083;&#1080;&#1092;.&#1089;&#1087;&#1088;&#1072;&#1074;&#1086;&#1095;&#1085;&#1080;&#1082;&#1077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2;&#1077;&#1090;&#1086;&#1076;&#1080;&#1082;&#1072;%20&#1054;&#1089;&#1085;&#1086;&#1074;&#1085;&#1086;&#1081;%20&#1076;&#1086;&#1082;&#1091;&#1084;&#1077;&#1085;&#1090;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ядок аттестации педагогических работ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4285800"/>
            <a:ext cx="35575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мативные основы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О порядке аттестации педагогических работников государственных и муниципальных образовательных учреждений» Приказ министерства образования и науки РФ от 24 марта 2010 года № 2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Об утверждении региональных нормативных  документов по аттестации педагогических работников». Приказ Министерства общего и профессионального образования Ростовской области от 17.01 2011 года № 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Об утверждении методических рекомендации по проведению аттестации педагогических работников государственных и муниципальных образовательных учреждений Ростовской области Приказ Министерства общего и профессионального образования Ростовской области от 30 12. 2010 года № 102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ИКАЗ МИНИСТЕРСТВА ЗДРАВООХРАНЕНИЯ И СОЦИАЛЬНОГО РАЗВИТИЯ РОССИЙСКОЙ ФЕДЕРАЦИИ_x000b_от 26 августа 2010 г. N 761н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«ОБ УТВЕРЖДЕНИИ ЕДИНОГО КВАЛИФИКАЦИОННОГО СПРАВОЧНИКА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ОЛЖНОСТЕЙ РУКОВОДИТЕЛЕЙ, СПЕЦИАЛИСТОВ И СЛУЖАЩИХ, РАЗДЕЛ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"КВАЛИФИКАЦИОННЫЕ ХАРАКТЕРИСТИКИ ДОЛЖНОСТЕ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БОТНИКОВ ОБРАЗОВАНИЯ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ТОДИКА ОЦЕНКИ УРОВНЯ КВАЛИФИКАЦИИ 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ный л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ые источники для эксперти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овая таблица и крите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22440" y="268200"/>
            <a:ext cx="81975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7T15:40:23Z</dcterms:modified>
  <cp:revision>10</cp:revision>
  <dc:subject/>
  <dc:title>Порядок аттестации педагогических работников</dc:title>
</cp:coreProperties>
</file>