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35B-A55E-4093-A71C-953B8322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096-2DCF-4F20-918D-803983B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43A-7099-43FC-9200-B380B427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431-80EB-40A7-A1F5-24E2FE35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90B-8B6B-44E7-86CB-709BF100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810-8281-4295-BB42-BAD8D138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D8F-047F-48F7-BDE7-F30EBAFF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B0F-4A2E-4711-B756-E1ED8DC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FAE-A727-45FD-8D04-D28DC8A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D3A-2BCA-42DD-908B-85FBC704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7EE-D7B7-4DED-9FA3-90437834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729-F6EB-49B4-A98E-5C2ED21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DE57-EEE6-40F6-8887-369BE17CA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60;&#1077;&#1076;&#1077;&#1088;&#1072;&#1083;&#1100;&#1085;&#1086;&#1077;%20&#1055;&#1086;&#1083;&#1086;&#1078;&#1077;&#1085;&#1080;&#1077;%20&#1086;&#1073;%20&#1072;&#1090;&#1090;&#1077;&#1089;&#1090;&#1072;&#1094;&#1080;&#1080;%202010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_&#1072;&#1090;&#1090;&#1077;&#1089;&#1090;&#1072;&#1094;&#1080;&#1103;.doc" TargetMode="External"/><Relationship Id="rId2" Type="http://schemas.openxmlformats.org/officeDocument/2006/relationships/hyperlink" Target="file:///&#1055;&#1088;_&#1084;&#1077;&#1090;&#1086;&#1076;%20&#1088;&#1077;&#1082;&#1086;&#1084;&#1077;&#1085;&#1076;&#1072;&#1094;&#1080;&#1080;.doc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2;&#1072;&#1079;%20&#1052;&#1080;&#1085;&#1089;&#1086;&#1094;&#1088;&#1072;&#1079;&#1074;&#1080;&#1090;&#1080;&#1103;%20&#1086;%20&#1082;&#1074;&#1072;&#1083;&#1080;&#1092;.&#1089;&#1087;&#1088;&#1072;&#1074;&#1086;&#1095;&#1085;&#1080;&#1082;&#1077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80;&#1082;&#1072;%20&#1054;&#1089;&#1085;&#1086;&#1074;&#1085;&#1086;&#1081;%20&#1076;&#1086;&#1082;&#1091;&#1084;&#1077;&#1085;&#1090;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рядок аттестации педагогических работ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4285800"/>
            <a:ext cx="35575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рмативные основы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О порядке аттестации педагогических работников государственных и муниципальных образовательных учреждений» Приказ министерства образования и науки РФ от 24 марта 2010 года № 2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Об утверждении региональных нормативных  документов по аттестации педагогических работников». Приказ Министерства общего и профессионального образования Ростовской области от 17.01 2011 года № 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Об утверждении методических рекомендации по проведению аттестации педагогических работников государственных и муниципальных образовательных учреждений Ростовской области Приказ Министерства общего и профессионального образования Ростовской области от 30 12. 2010 года № 102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ИКАЗ МИНИСТЕРСТВА ЗДРАВООХРАНЕНИЯ И СОЦИАЛЬНОГО РАЗВИТИЯ РОССИЙСКОЙ ФЕДЕРАЦИИ_x000b_от 26 августа 2010 г. N 761н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«ОБ УТВЕРЖДЕНИИ ЕДИНОГО КВАЛИФИКАЦИОННОГО СПРАВОЧНИ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ОЛЖНОСТЕЙ РУКОВОДИТЕЛЕЙ, СПЕЦИАЛИСТОВ И СЛУЖАЩИХ, РАЗДЕЛ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"КВАЛИФИКАЦИОННЫЕ ХАРАКТЕРИСТИКИ ДОЛЖНОСТЕ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БОТНИКОВ ОБРАЗОВАНИЯ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ТОДИКА ОЦЕНКИ УРОВНЯ КВАЛИФИКАЦИИ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тный л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ые источники для эксперти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овая таблица и крите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ценка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ценк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622440" y="268200"/>
            <a:ext cx="81975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7T15:40:23Z</dcterms:modified>
  <cp:revision>10</cp:revision>
  <dc:subject/>
  <dc:title>Порядок аттестации педагогических работников</dc:title>
</cp:coreProperties>
</file>