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ADE-7AF4-4E2F-9ECF-EB4A859E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D66-81E2-4710-A9B5-4CE1F8A7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A34-130D-417D-BA58-2292EC35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C3F-646F-4126-8499-75062480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25C-A14B-4585-8A90-6DDD12C2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452-3994-46A4-8205-590D3B76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FCF-4A9E-404C-8C59-F1645491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714-0807-438E-B1F9-30942DD3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57DF-05E8-471F-A23D-74D0B675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3BB-28E1-4503-8059-CFB777BB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C6E-27E3-45FF-BE5A-971B0BE0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7BC-BD51-4E67-954E-9B60C19B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CD8B-E16B-407A-B75F-F0746C12DEC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В гости к сказке»  Методическая разработка в виде проекта по теме: «Устное народное творчество в развитии речи детей мл. дошк. возраста.»  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7T14:02:55Z</dcterms:created>
  <dc:creator>Пользователь</dc:creator>
  <dc:description/>
  <dc:language>en-US</dc:language>
  <cp:lastModifiedBy>Пользователь</cp:lastModifiedBy>
  <dcterms:modified xsi:type="dcterms:W3CDTF">2016-12-07T14:08:41Z</dcterms:modified>
  <cp:revision>3</cp:revision>
  <dc:subject/>
  <dc:title>«В гости к сказке»  Методическая разработка в виде проекта по теме: «Устное народное творчество в развитии речи детей мл. дошк. возраста.»</dc:title>
</cp:coreProperties>
</file>