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475-358E-4AAF-8B67-DB70F595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16AC-AE15-47DD-802A-9E508093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976-462E-4405-AD7A-42E5BE3F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C326-F4D1-4001-8586-33496C92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785-CF8B-437D-8255-F21993ED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119-0B07-4B4D-A68D-8764DCC3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9856-9F63-41E2-8D13-701E91A5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C1E-5B60-47DB-9DFE-B842E9AF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B2B-AF07-440B-8FE7-02BFD38C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FA8-E6F3-46EA-BFF4-8328AA12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297-9EEC-4842-B0EE-6F247E5D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20A-A924-4A4A-BB9D-A348739E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0137-9CBC-46B3-B36E-E721612FC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920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Arial Unicode MS"/>
              </a:rPr>
              <a:t>Развитие</a:t>
            </a:r>
            <a:r>
              <a:rPr b="0" i="1" lang="en-US" sz="4800" spc="-1" strike="noStrike">
                <a:solidFill>
                  <a:srgbClr val="000066"/>
                </a:solidFill>
                <a:latin typeface="Arial Unicode MS"/>
              </a:rPr>
              <a:t> </a:t>
            </a:r>
            <a:r>
              <a:rPr b="1" i="1" lang="en-US" sz="4800" spc="-1" strike="noStrike">
                <a:solidFill>
                  <a:srgbClr val="000066"/>
                </a:solidFill>
                <a:latin typeface="Arial Unicode MS"/>
              </a:rPr>
              <a:t>творческих способностей у детей в дошкольном возрас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19280" y="4869000"/>
            <a:ext cx="356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ыполн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воспит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Коновалова А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3280" y="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БДОУ детский сад № 37 г. Бе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Креативные</a:t>
            </a: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методы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обучения ориентированы на создание детьми личного образовательного продукта. Познание при этом возможно, но оно происходит «по ходу» собственно творческой деятельности. Главным результатом является получение проду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1. Метод придумывания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озволяет детям создать ранее неизвестный продукт в результате их определенных умственных действий. Данный метод реализуется при помощи следующих прием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а) замещение качеств одного объекта качествами другого с целью создания нового объ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б) отыскивание свойств объекта в иной сред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в) изменение элемента изучаемого объекта и описание свойств нового, измененного объекта.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Метод «Если бы…»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Детям предлагается пофантазировать, что бы могло быть, если бы, например, животные умели разговаривать или д2инозавры ожили, или люди переселились на Луну. Выполнение подобных заданий не только развивает их воображение, но и позволяет лучше понять устройство реального мира, взаимосвязь его составляющ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708280"/>
            <a:ext cx="814716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Метод гипербо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редполагает увеличение или уменьшение объекта познания, его отдельных частей или кач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Метод агглютин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Ребятам предлагается соединить несоединимые в реальности качества, свойства, части объектов и изобраз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496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Педагогические формы развития творческих способностей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7354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1. Экскурсия на природу с последующим рассказом об их впечатл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. Работа с текстами сказок: чтение, пересказ, творческая переработка сюж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. Театрализованные игры и детские спектак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. Литературные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5.Встречи с интересны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1.Экскур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241280"/>
            <a:ext cx="741672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Дошкольный период жизни  - время постижения окружающего мира во всем его многообразии, а природа является для ребенка самой доступной в восприятии и поним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Экскурсии помогают формировать эмоциональные качества детей: чувство прекрасного, ощущение радости познания, желание быть полезным обществу. Экскурсия на природу – эффективная форма обучения, требующая систематического применения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. 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На данном этапе происходит заметное обогащение внутреннего мира ребенка, развивается наблюдательность, память, эмоциональность восприятия, обогащается словарный запас, увеличивается образность и метафоричность речи. А главное, достигаемый путем познания природы душевный подъем, наполненность мыслями, чувствами, стимулирует ребенка к попытке выражения их креативным пу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2. Работа с текстами сказ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Работа над сказками должна осуществляться по двум направлениям: над содержанием и над языком. После прочтения сказки с детьми необходимо провести беседу по осмыслению содерж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Работа над языком включает в себя следующие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Какие сказочные выражения вы заметили в текс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В каких еще сказках были похожие выра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Какие слова используются для описания героя и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Почему сказка так называе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Как бы вы назвали ее по-друго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Следующим важным этапом являются творческие задания. Детям дошкольного возраста (с помощью педагога) для самостоятельной работы предлагаются такие творческие зад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продолжить сказ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переработать сюж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придумать другой конец ска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Данные задания творческого характера у дошкольников находят продолжение в детских рисунках, аппликациях и подел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3.Театрализованные игры и детские спектак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Здесь можно не ограничиваться в качестве материала сказочными сюжетами, а выходить на несложные, в том числе предусмотренные программой, рассказы, стихотворения. Целесообразно использовать такие виды иг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разыгрывание в творческих театральных, режиссерских играх и играх - драматизациях сюжетов литературных произведений, внесение в них и придумывание новых сюжетных линий, введение новых персонажей, дей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разыгрывание театральных спектаклей с куклами, игрушками- самоделками; пальчиковый театр, театр марионет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Важно, чтобы подготовка к детскому спектаклю велась по следующим направлениям: знакомство со сказкой, беседы о театр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распределение ролей, репетиции, изготовление пригласительных билетов, афиши, подготовка выставки детского рисунка по сюжету ска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Основное достоинство данной формы приобщения детей к творчеству - развитие способности духовного перевоплощения, наблюдательности и умения в объекте наблюдения отметить и изобразить существеннейшие, знаковые особ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4. Литературные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сякое искусство питает душу ребенка, одно из первых, с которым встречается дошкольник, - это поэзия. Прибаутки, потешки, игровые песенки наполнены ароматом родного языка, тепла, домашнего ую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Эти поэтические образы имеют большое значение. Они не всегда осознаются ребенком, но, проникая в область подсознательного, они готовят ребенка к восприятию поэзии в будущем. Приобщаемый к поэзии дошкольник лучше обогащает свой лексический запас, более глубоко чувствует аромат родного языка, богаче формируется духовно и творче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ольшое значение для творческого развития ребенка имеют литературные игры в словосложение, метафору, ударение, игры–фантазии, бури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Любовь к поэзии и «сочинительство» просыпаются у детей в дошкольном возра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 развитии поэтического творчества ребенка большую роль играет эмоциональное отношение к окружающему, чувствительность к богатству языка и его возможнос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5. Встречи с интересными людь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Главные методические принципы организации «Встречи с интересными людьми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. Гость во время встречи рассказывает о всех разновидностях трудовой деятельности взрослого человека: профессиональный труд, домашний труд, хобби и увлечения, но подробно останавливается только на одном вид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. Выбранный вид трудовой деятельности преподносится как можно ярче и эмоциональ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. Обязательно демонстрируются результаты труда, некоторые трудовые действия и предметы-помощ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4. Во время встреч необходимо разнообразить демонстрируемые детям виды трудов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После таких встреч, дети долго остаются под впечатлением увиденного, услышанного. Свои впечатления они отражают в рисунках, в сюжетных играх, делятся впечатл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«Ребенок- это не сосуд, который надо наполнить, а огонь, который надо зажечь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                       </a:t>
            </a:r>
            <a:r>
              <a:rPr b="0" i="1" lang="en-US" sz="4400" spc="-1" strike="noStrike">
                <a:solidFill>
                  <a:srgbClr val="000066"/>
                </a:solidFill>
                <a:latin typeface="Arial"/>
              </a:rPr>
              <a:t>Франсуа Раб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71640" y="4005360"/>
            <a:ext cx="77515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42788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Творчество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ступень развития возможностей человека или его потенциал.</a:t>
            </a:r>
            <a:br>
              <a:rPr sz="2200"/>
            </a:br>
            <a:br>
              <a:rPr sz="22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Творческая деятельность-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деятельность человека, в результате которой им создается нечто новое, которое приводит к новым знаниям о мире, отражает новое отражение к действительности.</a:t>
            </a:r>
            <a:br>
              <a:rPr sz="2200"/>
            </a:br>
            <a:br>
              <a:rPr sz="22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Способности-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индивидуальные не врожденные качества личности, которые обеспечивают высокую степень овладения определенной деятельностью.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Творческие способности-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индивидуальные особенности качества человека, необходимые для выполнения им творческой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Условия для развития творческих способн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обеспечение благоприятной атмо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доброжелательность со стороны взрослого, его отказ от критики в адрес ребё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обогащение окружающей ребёнка среды самыми разнообразными новыми для него предметами и стимулами с целью развития его любозна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оощрение высказывания оригинальных и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обеспечение возможностей для прак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использование личного примера творческого подхода к решению пробл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редоставление детям возможности активно задавать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Виды деятельности, влияющие на развитие творческих спосо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431000" y="1343160"/>
            <a:ext cx="6710760" cy="5398200"/>
            <a:chOff x="1431000" y="1343160"/>
            <a:chExt cx="6710760" cy="5398200"/>
          </a:xfrm>
        </p:grpSpPr>
        <p:sp>
          <p:nvSpPr>
            <p:cNvPr id="49" name="_s5173"/>
            <p:cNvSpPr/>
            <p:nvPr/>
          </p:nvSpPr>
          <p:spPr>
            <a:xfrm flipV="1">
              <a:off x="4786200" y="2744280"/>
              <a:ext cx="0" cy="7027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39"/>
            <p:cNvSpPr/>
            <p:nvPr/>
          </p:nvSpPr>
          <p:spPr>
            <a:xfrm>
              <a:off x="3931920" y="1343160"/>
              <a:ext cx="1708920" cy="1401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кружающ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и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72"/>
            <p:cNvSpPr/>
            <p:nvPr/>
          </p:nvSpPr>
          <p:spPr>
            <a:xfrm flipV="1">
              <a:off x="5452560" y="3270600"/>
              <a:ext cx="670320" cy="4381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137"/>
            <p:cNvSpPr/>
            <p:nvPr/>
          </p:nvSpPr>
          <p:spPr>
            <a:xfrm>
              <a:off x="5936760" y="2134080"/>
              <a:ext cx="1708920" cy="140112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г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71"/>
            <p:cNvSpPr/>
            <p:nvPr/>
          </p:nvSpPr>
          <p:spPr>
            <a:xfrm>
              <a:off x="5617080" y="4300200"/>
              <a:ext cx="836280" cy="1566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5135"/>
            <p:cNvSpPr/>
            <p:nvPr/>
          </p:nvSpPr>
          <p:spPr>
            <a:xfrm>
              <a:off x="6432840" y="3913200"/>
              <a:ext cx="1708920" cy="14011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ис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170"/>
            <p:cNvSpPr/>
            <p:nvPr/>
          </p:nvSpPr>
          <p:spPr>
            <a:xfrm>
              <a:off x="5158800" y="4775400"/>
              <a:ext cx="369000" cy="6332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33"/>
            <p:cNvSpPr/>
            <p:nvPr/>
          </p:nvSpPr>
          <p:spPr>
            <a:xfrm>
              <a:off x="5045760" y="5340240"/>
              <a:ext cx="1708920" cy="140112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Леп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5169"/>
            <p:cNvSpPr/>
            <p:nvPr/>
          </p:nvSpPr>
          <p:spPr>
            <a:xfrm flipH="1">
              <a:off x="4043880" y="4777560"/>
              <a:ext cx="374760" cy="6314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31"/>
            <p:cNvSpPr/>
            <p:nvPr/>
          </p:nvSpPr>
          <p:spPr>
            <a:xfrm>
              <a:off x="2820240" y="5340240"/>
              <a:ext cx="1708920" cy="140112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Чт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5168"/>
            <p:cNvSpPr/>
            <p:nvPr/>
          </p:nvSpPr>
          <p:spPr>
            <a:xfrm flipH="1">
              <a:off x="3118680" y="4304880"/>
              <a:ext cx="836280" cy="1522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5129"/>
            <p:cNvSpPr/>
            <p:nvPr/>
          </p:nvSpPr>
          <p:spPr>
            <a:xfrm>
              <a:off x="1431000" y="3913200"/>
              <a:ext cx="1708920" cy="1401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узы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167"/>
            <p:cNvSpPr/>
            <p:nvPr/>
          </p:nvSpPr>
          <p:spPr>
            <a:xfrm flipH="1" flipV="1">
              <a:off x="3448800" y="3270600"/>
              <a:ext cx="668520" cy="4402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41"/>
            <p:cNvSpPr/>
            <p:nvPr/>
          </p:nvSpPr>
          <p:spPr>
            <a:xfrm>
              <a:off x="1926000" y="2134080"/>
              <a:ext cx="1709640" cy="140112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Апплик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5128"/>
            <p:cNvSpPr/>
            <p:nvPr/>
          </p:nvSpPr>
          <p:spPr>
            <a:xfrm>
              <a:off x="3931920" y="3447000"/>
              <a:ext cx="1708920" cy="140148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Творче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Методы развития творческих способностей (А.В. Хуторско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55640" y="1628640"/>
          <a:ext cx="8229600" cy="4959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3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етод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гнитив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познание объек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реатив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получение образовательного продук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 Метод эмпатии (вживан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 Метод придумы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 Метод образного ви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 Метод «Если бы…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 Метод эврестического наблю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 Метод гипербо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 Метод исслед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 Метод агглютин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Когнитивные методы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 обучения (методы учебного познания). Особенностью познавательных методов является то, что их применение приводит к созданию образовательной продукции, то есть креативному результату. Поэтому методы познания являются также и креативными. Однако первичной целью использования данных методов является познание объекта,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оэтому их основная специфика связана с когнитивными, а не с креативными процес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3284280"/>
            <a:ext cx="8002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1. Метод эмпатии (вжива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значает «вчувствование» человека в состояние другого объекта. Ребенок пытается «переселиться» в изучаемый объект, почувствовать и понять его изнут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Главное – это воспитание эмпатии, т.е. умения перевоплотиться в другой образ и посмотреть на мир его глазами. Вживаться в сущность образовательных объектов помогает применение словесных предписаний. В моменты наилучшего вживания ребенок задает вопросы объекту – себе, пытается на чувственном уровне воспринять, понять, увидеть ответы. Рождающиеся при этом мысли, чувства и ощущения являются образовательным продуктом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2. Метод образного видения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Эмоционально-образное исследование объекта. Ребятам предлагается глядя на фигуру, знак, реальный объект, нарисовать увиденные в них образы, описать на что они похожи. Или, например, детям предлагается послушать музыкальное классическое произведение. После прослушивания педагог задает вопросы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Что хотел выразить композитор, создавая мелодию?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Что представил ребенок, когда слушал ее? Какого цвета эта музыка?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редлагается ребятам нарисовать образ, который возник в их воображении при прослушивании музы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3. Метод эвристического наблюдения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19664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Цель данного метода – научить детей добывать и конструировать знания с помощью наблю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Наблюдение как целенаправленное личностное восприятие ребенком различных объектов является подготовительным этапом в формировании его теоретических знаний. Наблюдение есть источник знаний, способ их добывания из реальности бытия. Ребята, осуществляющие наблюдение, получают собственный результат, включающий: информационный результат наблюдения, комплекс личных действий и ощущений, сопровождавших наблюдение. Степень творчества ребенка в ходе его наблюдения определяется новизной полученных результатов по сравнению с уже имеющимися у него. Одновременно с получением заданной педагогом информации многие дети во время наблюдения видят и другие особенности наблюдаемого объекта, то есть добывают новую информацию и конструируют знания с помощью наблюд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4. Метод исследования</a:t>
            </a: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Выбирается объект исследования природный, культурный, словесный или иной (сказка, поговорка, лист дерева, одежда, небо или другое). Ребятам предлагается по заданному плану исследовать объек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Цели исследования - план работы - факты об объекте – опыты, рисунки опытов, новые факты - возникшие вопросы и проблемы – версии ответов, гипотезы – рефлексивные суждения, осознанные способы деятельности и результаты – 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Подобная алгоритмизация нисколько не умаляет их творчества. Напротив, выполнив последовательно все перечисленные шаги, практически любой ребенок неизбежно получает свой собственный образовательный продукт. Педагог помогает детям увеличивать объем и качество такого результата. Достигается это путем систематического повторения алгоритмических этапов исслед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5T09:44:35Z</dcterms:created>
  <dc:creator>User</dc:creator>
  <dc:description/>
  <dc:language>en-US</dc:language>
  <cp:lastModifiedBy>User</cp:lastModifiedBy>
  <dcterms:modified xsi:type="dcterms:W3CDTF">2016-12-07T11:29:41Z</dcterms:modified>
  <cp:revision>7</cp:revision>
  <dc:subject/>
  <dc:title>Развитие творческих способностей детей</dc:title>
</cp:coreProperties>
</file>