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10D-40B8-46FD-AF85-3BF5D650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D63-0E11-44BE-BA80-702F2741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EB49-BA91-4282-B896-AF796F57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82F-4D74-429C-A7D4-B2506A79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6E1B-3CA3-48AF-8343-C8EA511B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7AD0-339B-4ACE-8A01-E9E60ADC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C419-9C37-4092-A304-E3AC64AD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B0F3-56C6-4835-B8DB-A2835D50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0936-397F-41C2-BFBA-5607EADE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AFF-30CF-4EC0-BC42-CD6BDB8C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77A6-6A44-4A24-AB92-1E33417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089-BC43-4E48-A4F0-8C8661CC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E921-1E41-4340-9938-24A9629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25B-31A2-4FD3-A9F6-6A6512A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9BF2-F5FD-45B6-8784-6C85D09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F694-7893-4D33-823B-4F8F4C4E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65D8-1BFC-4E07-B856-83604D87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CE4-8DD3-4A04-A313-7E56795F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9B1-38C4-4FD1-9A47-B2EC056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785-7E7A-427B-BF47-55715CA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1E2-A8E1-423D-BED0-F6AD187D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C0C-AD7A-4B2F-84CB-7E45DC7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880-FA3B-442B-9BFE-B9486A9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FBD-2137-4338-9194-EB999145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36D-9B16-49CA-BB88-5A59B7FC16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DAFB-4A7E-4B74-A2C8-D58807179F1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ИЗГОТОВЛЕНИЕ </a:t>
            </a:r>
            <a:br>
              <a:rPr sz="4000"/>
            </a:br>
            <a:r>
              <a:rPr b="1" lang="ru-RU" sz="4000" spc="-1" strike="noStrike">
                <a:solidFill>
                  <a:srgbClr val="f7d47d"/>
                </a:solidFill>
                <a:latin typeface="Comic Sans MS"/>
              </a:rPr>
              <a:t>СКВОРЕЧН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готовил: учитель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технологии МОУ «Береговская СОШ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Жемалетдинов И.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916360" y="249228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1778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4-p"/>
          <p:cNvPicPr/>
          <p:nvPr/>
        </p:nvPicPr>
        <p:blipFill>
          <a:blip r:embed="rId1"/>
          <a:stretch/>
        </p:blipFill>
        <p:spPr>
          <a:xfrm>
            <a:off x="1547640" y="1197000"/>
            <a:ext cx="453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15-p"/>
          <p:cNvPicPr/>
          <p:nvPr/>
        </p:nvPicPr>
        <p:blipFill>
          <a:blip r:embed="rId1"/>
          <a:stretch/>
        </p:blipFill>
        <p:spPr>
          <a:xfrm>
            <a:off x="1763640" y="1341360"/>
            <a:ext cx="446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24-p"/>
          <p:cNvPicPr/>
          <p:nvPr/>
        </p:nvPicPr>
        <p:blipFill>
          <a:blip r:embed="rId1"/>
          <a:stretch/>
        </p:blipFill>
        <p:spPr>
          <a:xfrm>
            <a:off x="1763640" y="1268280"/>
            <a:ext cx="432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28-p"/>
          <p:cNvPicPr/>
          <p:nvPr/>
        </p:nvPicPr>
        <p:blipFill>
          <a:blip r:embed="rId1"/>
          <a:stretch/>
        </p:blipFill>
        <p:spPr>
          <a:xfrm>
            <a:off x="2124000" y="1341360"/>
            <a:ext cx="3816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Т , ЧТО ПОЛУЧИЛОС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4" descr="028"/>
          <p:cNvPicPr/>
          <p:nvPr/>
        </p:nvPicPr>
        <p:blipFill>
          <a:blip r:embed="rId1"/>
          <a:stretch/>
        </p:blipFill>
        <p:spPr>
          <a:xfrm>
            <a:off x="2411280" y="1844640"/>
            <a:ext cx="3246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урока: изготовление скворечник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54007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АДАЧИ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*закрепить умения разметки по шаблон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*формировать умение выполнять чертеж прямоугольника на картонной основ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*закрепить умение читать чертеж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КАК СДЕЛАТЬ СКВОРЕЧНИК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УРНАЛАХ 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ДЕЛАЙ САМ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ЮНЫЙ НАТУРАЛИСТ»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ПРИУСАДЕБНЫЙ УЧАСТО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АРИАНТЫ СКВОРЕЧНИ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539800" cy="3757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990880" cy="1942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55640" y="573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ЖНО СДЕЛАТЬ ТАК!!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284720" y="4221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 МОЖНО И ВОТ ТАК!!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484280"/>
            <a:ext cx="2808360" cy="4105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924360" y="1700280"/>
            <a:ext cx="3240000" cy="2160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СХЕМЫ ИЗГОТОВЛ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1962000" cy="31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3959280" cy="1695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851280" y="198900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Х ОКАЗАЛОСЬ ОЧЕНЬ М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68360" y="1844640"/>
            <a:ext cx="2374920" cy="352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203640" y="3284640"/>
            <a:ext cx="4248000" cy="2016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4176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РЯДОК ДЕЙСТВ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4" descr="2-p"/>
          <p:cNvPicPr/>
          <p:nvPr/>
        </p:nvPicPr>
        <p:blipFill>
          <a:blip r:embed="rId1"/>
          <a:stretch/>
        </p:blipFill>
        <p:spPr>
          <a:xfrm>
            <a:off x="1692360" y="1557360"/>
            <a:ext cx="3743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8-p"/>
          <p:cNvPicPr/>
          <p:nvPr/>
        </p:nvPicPr>
        <p:blipFill>
          <a:blip r:embed="rId1"/>
          <a:stretch/>
        </p:blipFill>
        <p:spPr>
          <a:xfrm>
            <a:off x="1835280" y="1413000"/>
            <a:ext cx="388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0:43:59Z</dcterms:created>
  <dc:creator>Надежда</dc:creator>
  <dc:description/>
  <dc:language>en-US</dc:language>
  <cp:lastModifiedBy>anonim</cp:lastModifiedBy>
  <dcterms:modified xsi:type="dcterms:W3CDTF">2016-10-25T12:20:30Z</dcterms:modified>
  <cp:revision>14</cp:revision>
  <dc:subject/>
  <dc:title>ИЗГОТОВЛЕНИЕ  СКВОРЕЧНИКА</dc:title>
</cp:coreProperties>
</file>