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D791-A8C0-4995-A3C8-1FE30059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5034-70F9-4A56-8812-ED6D2441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6446-AA80-4A40-9624-EE592333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83DE-200F-4391-B58B-52689944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5B29-9B8B-416D-B127-AF4546DE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AAEB-19B3-4460-B610-86A3C34D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88D9-9734-454E-92A5-80BEB161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D020-36D7-480F-9C5A-1C3EA609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C452-9AEB-480A-86A1-22416B7A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AA46-47AF-4891-8956-65F14D2C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E12F-39A4-4913-8826-04E38EDF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AC95-DA04-4A07-A5DC-DEC3A0EC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A61A-CBF3-45E8-8B3D-D3E1AFB0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9AA7-4C56-4DF7-A08A-BDF80AC6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E863-65FF-4C6D-8824-9136E56A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B15C-B9E7-42F7-904C-8562A3DA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343E-FE2C-45CF-9B83-0C0C2A37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8EF51-D0B7-4E89-8DE6-D804CC9B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BBCD9-9E71-4B1E-A655-A7E28141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1FDD8-BF7B-4A31-982C-F287DBEC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ECB2E-E48E-4F4F-A0C1-087E2A07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2A1AA-BB72-4436-9D8A-030DB32A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17EF-E419-4577-8162-9276E2A3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486A7-7020-4BEC-8A86-018B2684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54315-67D5-4E0C-B7C3-79951A96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8ED1F-473D-4A68-B22A-40288FBB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65513-E03C-4795-8EB1-F98F45E2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11584-36DE-4160-B969-F0FA43DC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EC875-DE8F-41FE-B1FF-AF8DEAF5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881AA-EAD0-42B2-9075-A6C680E0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53060-5853-44EA-8BD5-A40507CA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F0FB5-6D18-4FFD-B8B0-5762CA09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8BB7D-17A6-4FF1-83EC-0B1E545B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51C2-D36D-4B32-9A8B-C4C4202D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49559-7B38-4374-B8BC-6FDB43C7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2EC79-E73D-4AF3-9797-BAA093E1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7DC0F-2256-4B94-8887-DD42CFCA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85B2D-54DB-4C51-A5C0-06448ED4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229A5-25C9-45F0-B404-FD439C74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5D243-4CBF-4201-BA6B-AC3BC6EE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B793B-C4F7-433A-B089-AA235F31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28F43-48B4-49A7-B595-ED3BC45D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A6DF2-D28F-4F16-BF9E-317C72A8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14F24-CA81-44BF-8C8E-3BA547A1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6F27-B171-4501-AB5E-AAB647CE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DF09A-97FC-43B6-9DD8-145F436D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D9AD3-9CB1-45A3-8563-66040D0A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AEC30-3033-4874-A9FA-AFAF5880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D984B-B1B7-484C-AB16-3A76D856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C35FA-F6B7-4C77-9816-95AE6C28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85931-0AE8-4904-A8BF-79317325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B69DF-CDC3-4E83-8521-F2D746A1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CD752-66DE-445C-A6C6-9A2385D3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EEB8A-D3DF-47F4-8D89-11DAA690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90E02-BF0C-4BDB-9FC4-D8B31B13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6DF8-C3A3-47A2-B38C-2C1B5DF2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64702-92AA-4216-A48A-77FE406D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E300B-07FF-47ED-935B-4B0A6350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6168E-4AB8-4AA2-A3C5-CB986A5C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16A31-71AA-4591-84C7-48A0881C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F1BEA-7295-4D0F-AB67-AD2799E4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80994-02CB-4CA3-B23E-C3AB5221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D2F6C-596C-4366-99B7-95CB328D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330E2-9D9E-4D37-A38F-A4787E82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A9371-2F7E-48B1-A56E-62F8812A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59B90-2A73-49DE-B23C-E39AD666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1B9C-63F1-4F28-9C97-2F1B515F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FE356-10D0-4D03-B3B4-0129FC31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07689-0504-44FC-98C5-0070D9D1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02118-ABEB-4246-B397-E283AEEA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7D1F-58AF-41F3-9446-F76D8D90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5D52-C947-40F0-B58F-C051B133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1693-E6E4-4532-B1F7-BCC5560D9642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1BD4-7261-4E0A-99FE-DD1B08E2DB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86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CB6F-D603-4BF0-8D9D-AE451A216927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B94D-981D-481C-96B6-FD29EFE110EE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D8B8-86AB-4530-9FDD-CAEB75C5B274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1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F486-29E4-45DB-8617-5D1A3FA00E18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2494080" y="1066680"/>
            <a:ext cx="63687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4a7b"/>
                </a:solidFill>
                <a:latin typeface="Calibri"/>
              </a:rPr>
              <a:t>TEST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I.complete the sentences with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to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where necess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13840" y="571680"/>
            <a:ext cx="4281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vari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y not__ play another game of ches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’s very pleasant __have a short tri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’t tell me what __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’t forget __phone John, he’s expecting your cal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can I make you ___understand m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II. Use the  -</a:t>
            </a:r>
            <a:r>
              <a:rPr b="1" i="1" lang="en-US" sz="1800" spc="-1" strike="noStrike">
                <a:solidFill>
                  <a:srgbClr val="c00000"/>
                </a:solidFill>
                <a:latin typeface="Calibri"/>
              </a:rPr>
              <a:t>ing form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or </a:t>
            </a:r>
            <a:r>
              <a:rPr b="1" i="1" lang="en-US" sz="1800" spc="-1" strike="noStrike">
                <a:solidFill>
                  <a:srgbClr val="c00000"/>
                </a:solidFill>
                <a:latin typeface="Calibri"/>
              </a:rPr>
              <a:t>the Infinitiv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I do look forward to (watch) my favourite fil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I suggest (make) our own class newspap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I’ve started (go) judo cla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 I forget (wind) up my old alarm cloc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Mike offered (make) a chocolate cak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She regrets (say) she won’t come to y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00360" y="571680"/>
            <a:ext cx="45003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 vari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y not __revise the spelling rules agai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simply can’t afford __spend a week  doing noth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like singing and this is a nice __s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old days people used __travel long distances on horsebac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’t make me __repeat my reques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you mind me (turn) the TV dow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y father says that when he was young he used (get) 3 or 4 pap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body  objected to(stay) at hom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’m finishing (read) the artic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couldn't stop the journalist from (tell)the trut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’ll never forget (visit) Par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Прямая соединительная линия 6"/>
          <p:cNvSpPr/>
          <p:nvPr/>
        </p:nvSpPr>
        <p:spPr>
          <a:xfrm>
            <a:off x="4500720" y="857160"/>
            <a:ext cx="71280" cy="60008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I.Use </a:t>
            </a:r>
            <a:r>
              <a:rPr b="0" i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ffer 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r </a:t>
            </a:r>
            <a:r>
              <a:rPr b="0" i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gg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57120" y="642960"/>
            <a:ext cx="41385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an apology for being l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--that we have lunch no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friend __to help me to wash my c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port __various ways in which the service could be improv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V. Express the same in Englis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не забыл взять с собой паспор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остановились, чтобы купить фрук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са пожалела, что рассказала вам об эт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648320" y="642960"/>
            <a:ext cx="42098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___to me two suitable people for this job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b __a different pl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---ten dollars for the boo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aven’t __me the job the cri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икогда не забуду, как мы танцевали на вече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 и Кейт перестали шуме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ожалением должен сказать вам, что вы не сдали экзаме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Прямая соединительная линия 5"/>
          <p:cNvSpPr/>
          <p:nvPr/>
        </p:nvSpPr>
        <p:spPr>
          <a:xfrm flipH="1">
            <a:off x="4570560" y="642960"/>
            <a:ext cx="2880" cy="621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7:46:45Z</dcterms:created>
  <dc:creator>Лена</dc:creator>
  <dc:description/>
  <dc:language>en-US</dc:language>
  <cp:lastModifiedBy>Лена</cp:lastModifiedBy>
  <dcterms:modified xsi:type="dcterms:W3CDTF">2009-05-19T14:33:48Z</dcterms:modified>
  <cp:revision>12</cp:revision>
  <dc:subject/>
  <dc:title>INFINITIVE(Vto)  OR      GERUND(v ing )?</dc:title>
</cp:coreProperties>
</file>