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9.png" ContentType="image/png"/>
  <Override PartName="/ppt/media/image1.png" ContentType="image/png"/>
  <Override PartName="/ppt/media/image17.jpeg" ContentType="image/jpeg"/>
  <Override PartName="/ppt/media/image16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CA27-1CAE-4FAA-AFED-892575D95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53DE-5295-4255-BF40-F77F9371D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E0C6-A941-4829-BC6B-BA7DA64D2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48D1-C8CB-4A21-A938-1AB2DCA20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4AAD-707F-4ECC-B186-8E8F81474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7E65-BB5F-46FE-9CD3-C5B2BA688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B70A-1C1C-4520-9AF2-D926839E7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B004-5A5A-47B1-8ED0-DA089BF74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6415-39C0-475F-9FF0-39D604894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765E-9B6F-4983-8747-4456D1E1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4592-A40B-4DCC-9D96-37A6D8E8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4AC3-8A50-4488-AD10-C3203E27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d1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F94E6-42AB-46A3-A58A-C2B66D8933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ДОУ «Детский сад общеразвивающего вида №1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1980720"/>
            <a:ext cx="7086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спользование приемов ТРИЗ-технологий в процессе формирования связной речи у детей дошкольного возраст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яева Т. 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3. Графическая аналогия</a:t>
            </a:r>
            <a:br>
              <a:rPr sz="4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мение обозначать каким-либо символом реальный образ или несколько образов, выделив из них общие призна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Объект 9" descr=""/>
          <p:cNvPicPr/>
          <p:nvPr/>
        </p:nvPicPr>
        <p:blipFill>
          <a:blip r:embed="rId1"/>
          <a:stretch/>
        </p:blipFill>
        <p:spPr>
          <a:xfrm>
            <a:off x="5791320" y="1809720"/>
            <a:ext cx="1752480" cy="1695600"/>
          </a:xfrm>
          <a:prstGeom prst="rect">
            <a:avLst/>
          </a:prstGeom>
          <a:ln w="0">
            <a:noFill/>
          </a:ln>
        </p:spPr>
      </p:pic>
      <p:pic>
        <p:nvPicPr>
          <p:cNvPr id="68" name="Объект 10" descr=""/>
          <p:cNvPicPr/>
          <p:nvPr/>
        </p:nvPicPr>
        <p:blipFill>
          <a:blip r:embed="rId2"/>
          <a:stretch/>
        </p:blipFill>
        <p:spPr>
          <a:xfrm>
            <a:off x="7086600" y="3809880"/>
            <a:ext cx="1576440" cy="1771920"/>
          </a:xfrm>
          <a:prstGeom prst="rect">
            <a:avLst/>
          </a:prstGeom>
          <a:ln w="0">
            <a:noFill/>
          </a:ln>
        </p:spPr>
      </p:pic>
      <p:sp>
        <p:nvSpPr>
          <p:cNvPr id="69" name="Равнобедренный треугольник 6"/>
          <p:cNvSpPr/>
          <p:nvPr/>
        </p:nvSpPr>
        <p:spPr>
          <a:xfrm>
            <a:off x="1752480" y="1752480"/>
            <a:ext cx="1600200" cy="15242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Овал 7"/>
          <p:cNvSpPr/>
          <p:nvPr/>
        </p:nvSpPr>
        <p:spPr>
          <a:xfrm>
            <a:off x="2819520" y="3809880"/>
            <a:ext cx="1523880" cy="16002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8"/>
          <p:cNvSpPr/>
          <p:nvPr/>
        </p:nvSpPr>
        <p:spPr>
          <a:xfrm>
            <a:off x="685800" y="3809880"/>
            <a:ext cx="1600200" cy="1600200"/>
          </a:xfrm>
          <a:prstGeom prst="rect">
            <a:avLst/>
          </a:prstGeom>
          <a:solidFill>
            <a:srgbClr val="cc00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11" descr=""/>
          <p:cNvPicPr/>
          <p:nvPr/>
        </p:nvPicPr>
        <p:blipFill>
          <a:blip r:embed="rId3"/>
          <a:stretch/>
        </p:blipFill>
        <p:spPr>
          <a:xfrm>
            <a:off x="4648320" y="3809880"/>
            <a:ext cx="175248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4. Модель «Создай паспорт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8487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 algn="just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спользуется для систематизации, обобщения полученных знаний; для выделения существенных и несущественных признаков изучаемого явления; создания краткой характеристики изучаемого понятия, сравнения его с другими сходными понят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5. Сочинение загадок (методика А.А. Нестеренко)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914400" y="167616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 algn="just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Этапы сочинения загадо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just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брать объект, про который будет придумываться загад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just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исать несколько характерных признаков (сравнений) данного объекта. Исключить объекты, обладающие такими же призна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just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редактировать полученную загадку (можно сделать ее ритмичной или рифмованно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6. «Пиктограммы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066680"/>
            <a:ext cx="40384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ктогра́мм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знак, отображающий важнейшие узнаваемые черты объекта, предмета или явления, на которые он указывает, чаще всего в схематическом виде. В настоящее врем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ктограмм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ют узкоспециальную и второстепенную роль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Объект 7" descr=""/>
          <p:cNvPicPr/>
          <p:nvPr/>
        </p:nvPicPr>
        <p:blipFill>
          <a:blip r:embed="rId1"/>
          <a:stretch/>
        </p:blipFill>
        <p:spPr>
          <a:xfrm>
            <a:off x="4495680" y="2019240"/>
            <a:ext cx="434340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28600"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Методы составления сказок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4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4343400" cy="300384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3" descr=""/>
          <p:cNvPicPr/>
          <p:nvPr/>
        </p:nvPicPr>
        <p:blipFill>
          <a:blip r:embed="rId2"/>
          <a:stretch/>
        </p:blipFill>
        <p:spPr>
          <a:xfrm>
            <a:off x="4724280" y="3581280"/>
            <a:ext cx="426744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Метода "Каталога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51920" y="761760"/>
            <a:ext cx="61722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дагог  выбирает  книгу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ет  детям  вопросы. Первый  вопрос  «Жил-был» (кто?). Открывает  книгу  на  любой  странице, предлагает  ребенку  указать  пальцем  на  любое  слово (Пенек). Педагог  говорит: «Жил-был  пенек! 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ти  с  помощью  педагога «собирают» в  единое  целое  найденные отве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думывают  название  получившейся  сказ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дин  или  несколько  детей  (  по  желанию)  восстанавливают  текст.Организуется  продуктивная  дея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Объект 5" descr=""/>
          <p:cNvPicPr/>
          <p:nvPr/>
        </p:nvPicPr>
        <p:blipFill>
          <a:blip r:embed="rId1"/>
          <a:stretch/>
        </p:blipFill>
        <p:spPr>
          <a:xfrm>
            <a:off x="6462720" y="971640"/>
            <a:ext cx="2514600" cy="189072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6" descr=""/>
          <p:cNvPicPr/>
          <p:nvPr/>
        </p:nvPicPr>
        <p:blipFill>
          <a:blip r:embed="rId2"/>
          <a:stretch/>
        </p:blipFill>
        <p:spPr>
          <a:xfrm>
            <a:off x="6462720" y="3657600"/>
            <a:ext cx="250668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«Волшебная дорожка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51920" y="838080"/>
            <a:ext cx="48769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  составления  сказ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  главного  геро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  его  характера, мотивов  и  цели  поступ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 объектов  взаимо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  действий  главного  героя ,которые  он  совершает  для  достижения  це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и. Результат  изменений  героя  и  выведение  жизненных  прав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думывание  названия  получившейся  сказ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1"/>
          <p:cNvPicPr/>
          <p:nvPr/>
        </p:nvPicPr>
        <p:blipFill>
          <a:blip r:embed="rId1"/>
          <a:stretch/>
        </p:blipFill>
        <p:spPr>
          <a:xfrm>
            <a:off x="5257800" y="1676520"/>
            <a:ext cx="3429000" cy="182880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5" descr=""/>
          <p:cNvPicPr/>
          <p:nvPr/>
        </p:nvPicPr>
        <p:blipFill>
          <a:blip r:embed="rId2"/>
          <a:stretch/>
        </p:blipFill>
        <p:spPr>
          <a:xfrm>
            <a:off x="5029200" y="4191120"/>
            <a:ext cx="397512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. «Волшебный  треугольник»)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68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  составления  сказо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  места.          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  положительного  и  отрицательного  персонаж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  взаимодействия (борьбы)  отрицательного  и  положительного  персонажей  за  обладание  волшебным  предметом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ешение конфликта (использование  ресурс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думывание  названия  сказ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943600" y="1600200"/>
            <a:ext cx="2743200" cy="4525920"/>
          </a:xfrm>
          <a:prstGeom prst="rect">
            <a:avLst/>
          </a:prstGeom>
          <a:ln w="0">
            <a:noFill/>
          </a:ln>
        </p:spPr>
      </p:pic>
      <p:sp>
        <p:nvSpPr>
          <p:cNvPr id="94" name="Равнобедренный треугольник 4"/>
          <p:cNvSpPr/>
          <p:nvPr/>
        </p:nvSpPr>
        <p:spPr>
          <a:xfrm>
            <a:off x="6400800" y="2514600"/>
            <a:ext cx="2057400" cy="2514600"/>
          </a:xfrm>
          <a:prstGeom prst="triangle">
            <a:avLst>
              <a:gd name="adj" fmla="val 51991"/>
            </a:avLst>
          </a:prstGeom>
          <a:solidFill>
            <a:srgbClr val="cc00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Модель составления сказки с помощью метода "Системного оператора"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8487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полагает формирование у ребёнка умение анализировать и описывать систему связей любого объекта материального мира: его назначение, динамику развития в определённый отрезок времени, признаки и строение и д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429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Педагогика должна ориентироваться не на вчерашний, а на завтрашний день детского развития. Только тогда она сумеет вызвать к жизни те процессы развития, которые сейчас лежат в зоне ближайшего развития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105520" y="4647960"/>
            <a:ext cx="3581280" cy="147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. С. Выгот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теории — Генрих Саулович Альтшуллер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Объект 4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3255840" cy="4221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1911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З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(Теория Решения Изобретательских Задач). Поможет сделать процесс обучения чем-то увлекательным и захватывающим. Она создана не для того чтобы вытеснить другие методы, а чтобы увеличить эффективность уже имеющихся способов обу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4114800"/>
          </a:xfrm>
          <a:prstGeom prst="rect">
            <a:avLst/>
          </a:prstGeom>
          <a:gradFill rotWithShape="0">
            <a:gsLst>
              <a:gs pos="0">
                <a:srgbClr val="7575d1"/>
              </a:gs>
              <a:gs pos="100000">
                <a:srgbClr val="ebf6f7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и целями ТРИЗ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разования для дошкольников являются: формирование связной речи на основе активизации творческого мышления для продуктивной познавательной, исследовательской и изобретательской деятельности; развитие творческих способностей; формирование качеств творческой лич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1" descr=""/>
          <p:cNvPicPr/>
          <p:nvPr/>
        </p:nvPicPr>
        <p:blipFill>
          <a:blip r:embed="rId1"/>
          <a:stretch/>
        </p:blipFill>
        <p:spPr>
          <a:xfrm>
            <a:off x="6346800" y="4495680"/>
            <a:ext cx="2414520" cy="21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"/>
          <p:cNvPicPr/>
          <p:nvPr/>
        </p:nvPicPr>
        <p:blipFill>
          <a:blip r:embed="rId1"/>
          <a:stretch/>
        </p:blipFill>
        <p:spPr>
          <a:xfrm>
            <a:off x="6477120" y="4419720"/>
            <a:ext cx="2297160" cy="2286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4582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азвития речи детей дошкольного возраста используют следующие методы ТРИЗ и РТВ, как: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Метод «Робинзона Крузо» (МРК) с 3 до 7 лет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Метод «Мозговой штурм» с 3 до 7 лет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инектик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етод  фокального  объекта (МФО)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орфологический анализ (МА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Графическая аналоги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дель «Создай паспорт»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5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чинение загадок (методика А.А. Нестеренко)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«Пиктограммы»</a:t>
            </a:r>
            <a:br>
              <a:rPr sz="2400"/>
            </a:br>
            <a:br>
              <a:rPr sz="24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. Метод «Робинзона Крузо» (МРК) с 3 до 7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Объект 4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3048120" cy="4724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3429000" y="1294920"/>
            <a:ext cx="5410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Шаг №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дставим, что мы попали на необитаемый остров. Нужно определиться с потребностями: что самое необходимое, без чего не обойтись ни минуты на необитаемом остров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Шаг №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Организуем путешествие по новой территории и               находим затонувший корабль с различными предметами. Выдвигаем способы применения данных предме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Шаг №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Обсудить и оценить найденные способы, выделяя    самые неожиданные и интересные. Полученные идеи записать или зарисо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2. Мозговой штурм (МШ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837720"/>
            <a:ext cx="838224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д детьми ставится изобретательская задача. Воспитанникам необходим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ложить все усилия, чтобы найти идеальное 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5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1" descr=""/>
          <p:cNvPicPr/>
          <p:nvPr/>
        </p:nvPicPr>
        <p:blipFill>
          <a:blip r:embed="rId1"/>
          <a:stretch/>
        </p:blipFill>
        <p:spPr>
          <a:xfrm>
            <a:off x="714240" y="2743200"/>
            <a:ext cx="3429000" cy="273528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2" descr=""/>
          <p:cNvPicPr/>
          <p:nvPr/>
        </p:nvPicPr>
        <p:blipFill>
          <a:blip r:embed="rId2"/>
          <a:stretch/>
        </p:blipFill>
        <p:spPr>
          <a:xfrm>
            <a:off x="4662360" y="3581280"/>
            <a:ext cx="358164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а) Синектика – объединение  разнородных  элементов. Синектика  предусматривает  применение  четырех  приемов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ямая  аналогия – «Подумайте, как  решается  задача, похожая  на  данную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Личная  симпатия или  эмпатия – (Попробуйте  войти  в  образ  данного  в  задаче объекта  и  рассуждайте  с  его  точки  зрени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мволическая аналогия - «Дайте  в  двух  словах образное  определение  сути  зада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ем  фантазирования – «Представьте, как  бы  вы    эту  задачу  решили, если  бы  были  сказочными  героям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) Метод  фокального  объекта (МФО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304920" y="837720"/>
            <a:ext cx="86104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тод фокальных объектов (МФО) – подбор нетипичных свойств предмету, представление их и объяснение практического назначения нетипичных свой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1" descr=""/>
          <p:cNvPicPr/>
          <p:nvPr/>
        </p:nvPicPr>
        <p:blipFill>
          <a:blip r:embed="rId1"/>
          <a:stretch/>
        </p:blipFill>
        <p:spPr>
          <a:xfrm>
            <a:off x="1600200" y="2362320"/>
            <a:ext cx="63244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) Морфологический анализ (МА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28600" y="609480"/>
            <a:ext cx="87631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этого метода - выявить все возможные факты решения данной проблемы, которые при простом переборе могли быть упущены. Обычно для морфологического анализа строят таблиц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28600" y="2198520"/>
          <a:ext cx="6211800" cy="4145040"/>
        </p:xfrm>
        <a:graphic>
          <a:graphicData uri="http://schemas.openxmlformats.org/drawingml/2006/table">
            <a:tbl>
              <a:tblPr/>
              <a:tblGrid>
                <a:gridCol w="1243080"/>
                <a:gridCol w="1241280"/>
                <a:gridCol w="1243080"/>
                <a:gridCol w="1241280"/>
                <a:gridCol w="124308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то житель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ство передвиж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иль одеж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бен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оре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рт. костю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бр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рост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огоэтажный д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томоби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здничный наря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д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р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ский са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ь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огий костю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ыт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но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ыж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орты и май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сел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65" name="Рисунок 4" descr=""/>
          <p:cNvPicPr/>
          <p:nvPr/>
        </p:nvPicPr>
        <p:blipFill>
          <a:blip r:embed="rId1"/>
          <a:stretch/>
        </p:blipFill>
        <p:spPr>
          <a:xfrm>
            <a:off x="6745320" y="2057400"/>
            <a:ext cx="1941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3T13:00:08Z</dcterms:created>
  <dc:creator>1</dc:creator>
  <dc:description/>
  <dc:language>en-US</dc:language>
  <cp:lastModifiedBy>user</cp:lastModifiedBy>
  <dcterms:modified xsi:type="dcterms:W3CDTF">2016-12-07T09:58:28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