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5D7-02D0-41BA-805F-222668CF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149-8C7D-4408-AF0F-64EB4653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D91-F23E-4A34-BBF7-7DDB81C2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43B-8132-4AA6-90A5-A468CB16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FBC-10E0-4166-B4EC-10E0F197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9AF-DFFA-4379-AE0C-E2FA4868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1ED-A658-49C0-A4CE-F412CAF2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BC0-6B1E-4DD4-BCAD-F494F87C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96F-D97F-461E-BE36-7B85458D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DAA-ABD7-49A6-998D-FB6ADCD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496-6BCB-4034-B5EE-B100ED1A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02B-D3AB-4771-9AE2-E6489F81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4160-3464-4996-986A-2A82682FA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де здоровье, там и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вигайся больше – проживёшь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480" y="9907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бота о здоровье – лучшее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06556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доровье сгубишь – новое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715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молоду закалиться – на век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4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 здоровом теле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5705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акое слово люди говорят друг другу при встреч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08636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26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 что нужно для того, чтобы быть здоровым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5882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т чего зависит здоровье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283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клад различных влияний на здоровье следующий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% - уровень медицинской помощи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% - наследственность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% - окружающая среда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0% - образ жизн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34005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26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ереги платье снову, а здоровье 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6082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истота – половина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419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олен – лечись, а здоро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ыло бы здоровье, а счастье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31622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6-09-12T07:57:2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