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71A-9C87-4078-875D-CFA92E2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09B-CADB-4E0D-9A94-26B98339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599-FBEC-434E-A1D5-C263B37B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460-BCFA-42C1-A63D-48DDEFFB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21B-99FD-4E16-AF10-D4E9C120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5C1-0F9B-4BD7-8A77-FFE93E16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6A4-B767-423D-9AB9-AA7864E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A89-A53D-4188-B3B4-341B6E2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614-E78C-4265-A236-444FE0F6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97D-FE5B-455C-A2BB-9475FFAD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DAC-D5CA-4BB1-A56C-B6774B5D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A9F-4F03-4268-90DD-AED284A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9C7-782B-482C-AE5E-FFC19966A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ore"/>
          <p:cNvPicPr/>
          <p:nvPr/>
        </p:nvPicPr>
        <p:blipFill>
          <a:blip r:embed="rId1"/>
          <a:srcRect l="56255" t="18515" r="11959" b="42595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ore_5"/>
          <p:cNvPicPr/>
          <p:nvPr/>
        </p:nvPicPr>
        <p:blipFill>
          <a:blip r:embed="rId1"/>
          <a:srcRect l="14584" t="15283" r="35452" b="46922"/>
          <a:stretch/>
        </p:blipFill>
        <p:spPr>
          <a:xfrm>
            <a:off x="28440" y="1557360"/>
            <a:ext cx="896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13558" t="10172" r="1133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500720" y="4292640"/>
            <a:ext cx="165708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00720" y="836640"/>
            <a:ext cx="1492200" cy="146556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 дна оке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р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356000" y="5373720"/>
            <a:ext cx="1871640" cy="9169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яющая сила вращения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427640" y="2781360"/>
            <a:ext cx="1657080" cy="916920"/>
          </a:xfrm>
          <a:prstGeom prst="rect">
            <a:avLst/>
          </a:prstGeom>
          <a:solidFill>
            <a:srgbClr val="bbe0e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ых м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Изображение 132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Изображение 131"/>
          <p:cNvPicPr/>
          <p:nvPr/>
        </p:nvPicPr>
        <p:blipFill>
          <a:blip r:embed="rId1"/>
          <a:srcRect l="4873" t="0" r="0" b="0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Изображение 133"/>
          <p:cNvPicPr/>
          <p:nvPr/>
        </p:nvPicPr>
        <p:blipFill>
          <a:blip r:embed="rId2"/>
          <a:stretch/>
        </p:blipFill>
        <p:spPr>
          <a:xfrm>
            <a:off x="4356000" y="0"/>
            <a:ext cx="34005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Изображение 132"/>
          <p:cNvPicPr/>
          <p:nvPr/>
        </p:nvPicPr>
        <p:blipFill>
          <a:blip r:embed="rId3"/>
          <a:srcRect l="0" t="0" r="22324" b="0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3780000" y="1700280"/>
            <a:ext cx="1800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вра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2268360" y="292428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ф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3995640" y="609300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324000" y="1628640"/>
            <a:ext cx="1008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евер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826920" y="3789360"/>
            <a:ext cx="863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юж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5" name="WordArt 12"/>
          <p:cNvSpPr txBox="1"/>
          <p:nvPr/>
        </p:nvSpPr>
        <p:spPr>
          <a:xfrm>
            <a:off x="5364000" y="4221000"/>
            <a:ext cx="719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встр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956720" y="1413000"/>
            <a:ext cx="1008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евер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14"/>
          <p:cNvSpPr txBox="1"/>
          <p:nvPr/>
        </p:nvSpPr>
        <p:spPr>
          <a:xfrm rot="4227600">
            <a:off x="5798520" y="3425760"/>
            <a:ext cx="32018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170000"/>
                </a:gradFill>
                <a:latin typeface="Arial"/>
              </a:rPr>
              <a:t>тихий 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1170000"/>
              </a:gradFill>
              <a:latin typeface="Arial"/>
              <a:ea typeface="Arial"/>
            </a:endParaRPr>
          </a:p>
        </p:txBody>
      </p:sp>
      <p:sp>
        <p:nvSpPr>
          <p:cNvPr id="68" name="WordArt 15"/>
          <p:cNvSpPr txBox="1"/>
          <p:nvPr/>
        </p:nvSpPr>
        <p:spPr>
          <a:xfrm rot="21403200">
            <a:off x="3419640" y="404280"/>
            <a:ext cx="3201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северный ледовит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598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598000"/>
              </a:gradFill>
              <a:latin typeface="Arial"/>
              <a:ea typeface="Arial"/>
            </a:endParaRPr>
          </a:p>
        </p:txBody>
      </p:sp>
      <p:sp>
        <p:nvSpPr>
          <p:cNvPr id="69" name="WordArt 16"/>
          <p:cNvSpPr txBox="1"/>
          <p:nvPr/>
        </p:nvSpPr>
        <p:spPr>
          <a:xfrm>
            <a:off x="3635280" y="3500280"/>
            <a:ext cx="1514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индий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" name="WordArt 17"/>
          <p:cNvSpPr txBox="1"/>
          <p:nvPr/>
        </p:nvSpPr>
        <p:spPr>
          <a:xfrm rot="4594200">
            <a:off x="469080" y="3498840"/>
            <a:ext cx="320220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804000"/>
                </a:gradFill>
                <a:latin typeface="Arial"/>
              </a:rPr>
              <a:t>атлантический 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804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начение т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83600" y="1413000"/>
            <a:ext cx="20264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епл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91600" y="1413000"/>
            <a:ext cx="24012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лодные 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77960" y="2205000"/>
            <a:ext cx="2952720" cy="699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ют   температу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а побереж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385240" y="1989000"/>
            <a:ext cx="2762280" cy="699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ают  темп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а побереж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02360" y="3068640"/>
            <a:ext cx="3140280" cy="64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носят вла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лимат влажный и тепл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310720" y="2924280"/>
            <a:ext cx="305640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ют на отсу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лимат сухой и холод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250920" y="1628640"/>
            <a:ext cx="720720" cy="1152720"/>
          </a:xfrm>
          <a:custGeom>
            <a:avLst/>
            <a:gdLst>
              <a:gd name="textAreaLeft" fmla="*/ 96480 w 720720"/>
              <a:gd name="textAreaRight" fmla="*/ 624240 w 72072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1628640"/>
            <a:ext cx="684360" cy="2376720"/>
          </a:xfrm>
          <a:custGeom>
            <a:avLst/>
            <a:gdLst>
              <a:gd name="textAreaLeft" fmla="*/ 91440 w 684360"/>
              <a:gd name="textAreaRight" fmla="*/ 592920 w 684360"/>
              <a:gd name="textAreaTop" fmla="*/ 415800 h 2376720"/>
              <a:gd name="textAreaBottom" fmla="*/ 172332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8028000" y="148428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8028000" y="1341360"/>
            <a:ext cx="1116000" cy="2448000"/>
          </a:xfrm>
          <a:custGeom>
            <a:avLst/>
            <a:gdLst>
              <a:gd name="textAreaLeft" fmla="*/ 149400 w 1116000"/>
              <a:gd name="textAreaRight" fmla="*/ 966600 w 111600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8" descr=""/>
          <p:cNvPicPr/>
          <p:nvPr/>
        </p:nvPicPr>
        <p:blipFill>
          <a:blip r:embed="rId1"/>
          <a:srcRect l="22000" t="19353" r="19946" b="5360"/>
          <a:stretch/>
        </p:blipFill>
        <p:spPr>
          <a:xfrm>
            <a:off x="5292720" y="407664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"/>
          <p:cNvPicPr/>
          <p:nvPr/>
        </p:nvPicPr>
        <p:blipFill>
          <a:blip r:embed="rId2"/>
          <a:srcRect l="20085" t="15652" r="15934" b="3987"/>
          <a:stretch/>
        </p:blipFill>
        <p:spPr>
          <a:xfrm>
            <a:off x="324000" y="4005360"/>
            <a:ext cx="367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Изображение 131"/>
          <p:cNvPicPr/>
          <p:nvPr/>
        </p:nvPicPr>
        <p:blipFill>
          <a:blip r:embed="rId1"/>
          <a:srcRect l="4873" t="0" r="0" b="0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Изображение 133"/>
          <p:cNvPicPr/>
          <p:nvPr/>
        </p:nvPicPr>
        <p:blipFill>
          <a:blip r:embed="rId2"/>
          <a:stretch/>
        </p:blipFill>
        <p:spPr>
          <a:xfrm>
            <a:off x="4356000" y="0"/>
            <a:ext cx="34005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Изображение 132"/>
          <p:cNvPicPr/>
          <p:nvPr/>
        </p:nvPicPr>
        <p:blipFill>
          <a:blip r:embed="rId3"/>
          <a:srcRect l="0" t="0" r="22324" b="0"/>
          <a:stretch/>
        </p:blipFill>
        <p:spPr>
          <a:xfrm>
            <a:off x="572436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3780000" y="1700280"/>
            <a:ext cx="1800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вра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2268360" y="292428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ф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3995640" y="6093000"/>
            <a:ext cx="129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таркти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324000" y="1628640"/>
            <a:ext cx="1008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евер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826920" y="3789360"/>
            <a:ext cx="863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юж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5364000" y="4221000"/>
            <a:ext cx="719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встр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7956720" y="1413000"/>
            <a:ext cx="1008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евер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мер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 rot="4227600">
            <a:off x="5798520" y="3425760"/>
            <a:ext cx="32018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1170000"/>
                </a:gradFill>
                <a:latin typeface="Arial"/>
              </a:rPr>
              <a:t>тихий 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1170000"/>
              </a:gradFill>
              <a:latin typeface="Arial"/>
              <a:ea typeface="Arial"/>
            </a:endParaRPr>
          </a:p>
        </p:txBody>
      </p:sp>
      <p:sp>
        <p:nvSpPr>
          <p:cNvPr id="97" name="WordArt 15"/>
          <p:cNvSpPr txBox="1"/>
          <p:nvPr/>
        </p:nvSpPr>
        <p:spPr>
          <a:xfrm rot="21403200">
            <a:off x="3419640" y="404280"/>
            <a:ext cx="3201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северный ледовит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598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598000"/>
                </a:gradFill>
                <a:latin typeface="Arial"/>
              </a:rPr>
              <a:t>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598000"/>
              </a:gradFill>
              <a:latin typeface="Arial"/>
              <a:ea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3635280" y="3500280"/>
            <a:ext cx="1514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индий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"/>
              </a:rPr>
              <a:t>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WordArt 17"/>
          <p:cNvSpPr txBox="1"/>
          <p:nvPr/>
        </p:nvSpPr>
        <p:spPr>
          <a:xfrm rot="4594200">
            <a:off x="469080" y="3498840"/>
            <a:ext cx="320220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804000"/>
                </a:gradFill>
                <a:latin typeface="Arial"/>
              </a:rPr>
              <a:t>атлантический оке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804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1:46:43Z</dcterms:created>
  <dc:creator>Майя</dc:creator>
  <dc:description/>
  <dc:language>en-US</dc:language>
  <cp:lastModifiedBy>майя</cp:lastModifiedBy>
  <dcterms:modified xsi:type="dcterms:W3CDTF">2011-10-24T09:32:35Z</dcterms:modified>
  <cp:revision>7</cp:revision>
  <dc:subject/>
  <dc:title>Слайд 1</dc:title>
</cp:coreProperties>
</file>