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D8D-FD94-41DE-99A1-C238D0D4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0E6-99D5-4AD0-9AA9-4DA4FC88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DA8-EEAF-4C2F-90D8-AD5A8089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CFD-446E-45CD-AC81-4D517686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8AD5-A90F-44E3-85B6-B95C4A6E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3F6A-5E17-407D-AC79-B54EFBB1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3B9C-724D-4D23-91DD-2D3303BC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AB84-C2F4-4EA6-9E48-4B0037A9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C582-C4D2-420D-822F-37012023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3145-AAD4-4C01-AC63-6E1586FB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9B2C-7A16-4C6D-B476-BB0E8F2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9BA-84D9-4C31-987B-102B578E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D791-C51C-4755-927D-1A0D332A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05A4-FA0A-44D5-93D1-83464576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2598-6C27-46DD-9029-4AADD139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BA83-C004-4575-AEA6-FC56741B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74D3-3575-4D2D-A2C2-857B2078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C92-19B9-4A1C-9A46-B4DAE77A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531-530E-4F98-A7F7-A67DE7EB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EC6-FD12-4247-985D-7D969A54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BFF-B11B-4262-A2AD-06CFAAFA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399-DE8C-4BC4-A336-BEE97194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D4D-78D7-43FC-927D-41B39AB4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34C-E45E-4F4E-BD6A-4689419F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fffe"/>
              </a:gs>
              <a:gs pos="100000">
                <a:srgbClr val="e1f4d8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66e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5DD1-3F79-4B4C-966E-B7FC3BCBF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66ef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24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7fcf5"/>
              </a:gs>
              <a:gs pos="100000">
                <a:srgbClr val="e1f4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D42C-3A6B-4F18-A098-F7DBBA9E3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одные ресурсы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867564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Вывод: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аналитической групповой работы мы …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зывается…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будущего поколения –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Домашнее задани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4680" y="1995120"/>
            <a:ext cx="793584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араграф 14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р 87 №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ополни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тка из воспоминаний ваших бабушек и дедушек о прошлом наших 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фотографии или вырезки из газет о местных ре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нение «Река моего дет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одумай!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о ли утверждение, что внутренние воды – это пресные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зависит распределение внутренних вод по территор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Найдите ошибку: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а Лена берет начало из озера Байкал и впадает в море Лапте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а Волга берет начало с Валдайской возвышенности и впадает в Черное м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сключите лишнее и объясните: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а, Енисей, Аму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к, устье, бассейн р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а, озеро, м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Работа лабораторий: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и – для чего человеку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дный патруль» - что происходит с водными ресурсами нашего ок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боранты водоканала – оценка качества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Знаете ли вы ?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·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пресная вода  составляет всего 3 % от общего количества водной массы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     Что 80 % всей пресной воды нашей страны и пятая часть пресной воды планеты находится в озере Бай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     Что всего 12 граммов нефти достаточно, чтобы сделать непригодной 1000 литров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     Что всего 5 г. Нефтепродуктов затягивают пленкой 50 кв. м водной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     Что ежегодно в мировой океан по вине человека попадает 3-4 тонны неф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     Что каждый литр сточных вод, попадая в водоём, приводит в негодность 100 литров хорошей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     Что болотное растение камыш- главный природный очиститель прибрежной зоны большой реки. Оно способно поглощать вредные химически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Использование водных ресурсов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 flipH="1">
            <a:off x="971280" y="1341360"/>
            <a:ext cx="1439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348000" y="1413000"/>
            <a:ext cx="216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5364000" y="1341360"/>
            <a:ext cx="360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6516720" y="1268280"/>
            <a:ext cx="1511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8"/>
          <p:cNvSpPr txBox="1"/>
          <p:nvPr/>
        </p:nvSpPr>
        <p:spPr>
          <a:xfrm>
            <a:off x="250920" y="2781360"/>
            <a:ext cx="17272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Питье и </a:t>
            </a:r>
            <a:endParaRPr b="0" i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бытовые продукты</a:t>
            </a:r>
            <a:endParaRPr b="0" i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6" name="WordArt 9"/>
          <p:cNvSpPr txBox="1"/>
          <p:nvPr/>
        </p:nvSpPr>
        <p:spPr>
          <a:xfrm>
            <a:off x="2627280" y="2997360"/>
            <a:ext cx="1727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Водные пути</a:t>
            </a:r>
            <a:endParaRPr b="0" i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7" name="WordArt 10"/>
          <p:cNvSpPr txBox="1"/>
          <p:nvPr/>
        </p:nvSpPr>
        <p:spPr>
          <a:xfrm>
            <a:off x="5148360" y="2924280"/>
            <a:ext cx="1727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Промышленность и с/х</a:t>
            </a:r>
            <a:endParaRPr b="0" i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8" name="WordArt 11"/>
          <p:cNvSpPr txBox="1"/>
          <p:nvPr/>
        </p:nvSpPr>
        <p:spPr>
          <a:xfrm>
            <a:off x="7164360" y="2781360"/>
            <a:ext cx="17272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Энергия воды</a:t>
            </a:r>
            <a:endParaRPr b="0" i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(ГЭС, приливные станции)</a:t>
            </a:r>
            <a:endParaRPr b="0" i="1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-3960" y="906840"/>
            <a:ext cx="89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вропейская ча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зиатская ч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% насе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% нас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00 куб. км - годовой с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300 куб.км - годовой ст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826920" y="620640"/>
          <a:ext cx="7345440" cy="4449960"/>
        </p:xfrm>
        <a:graphic>
          <a:graphicData uri="http://schemas.openxmlformats.org/drawingml/2006/table">
            <a:tbl>
              <a:tblPr/>
              <a:tblGrid>
                <a:gridCol w="3144960"/>
                <a:gridCol w="2643120"/>
                <a:gridCol w="15573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ен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ые послед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охране р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город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ые магистрал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сельскохозяйственных угод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площади лес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оборота вещест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4:12:22Z</dcterms:created>
  <dc:creator>Svetlana</dc:creator>
  <dc:description/>
  <dc:language>en-US</dc:language>
  <cp:lastModifiedBy>216</cp:lastModifiedBy>
  <dcterms:modified xsi:type="dcterms:W3CDTF">2011-11-28T10:44:05Z</dcterms:modified>
  <cp:revision>3</cp:revision>
  <dc:subject/>
  <dc:title>Слайд 1</dc:title>
</cp:coreProperties>
</file>