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0CD-240F-4DE6-AC36-E1610E12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09A-1D59-4BDB-815C-EDD8E5F1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256-6A87-41F2-B7BB-CA331D82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D99-E8AF-4BA3-B2D2-0FF6CF5D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1F02-7C37-4755-BA36-C3CC50E3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474D-6FAE-4235-9D12-8A9E5499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491E-4F3B-4D85-9E9D-C40CAD33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1960-621F-4DE2-98C0-606302EB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2793-A2C5-4B58-B803-30EF013D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840C-5049-4050-9353-BDEFA76C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3BA6-D52A-4896-BA3D-258ED3B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69E-29C0-4AE6-8B96-9167D32D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D94B-528C-41EC-9488-D9B2647B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F816-C2E0-432F-9CCE-F859864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881F-E55F-4555-9A31-A6E3B1C3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26AA-7367-4BDB-A15A-44E14C6D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38F3-EEB8-4ADA-9D80-6B0C7E9B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8C699-5882-4C17-943C-82D68A87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2102C-B035-4B34-B877-B6D8CEC2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BF7B4-974C-4FA8-AEA7-4F521C5E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4AC77-DCB0-44C1-A571-058D11FE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3DDFC-CA17-4362-AF3E-BF863AE2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039-B7B8-4C33-924F-B8CC0A47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33EF7-29D3-4328-A497-BBF9F1FB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EA8A8-3213-4D91-B5C1-E9C4D14F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257C0-87B9-4093-A591-07D70B92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E935A-1F54-4D9E-8402-0873CAAE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300B0-0A4A-4394-9C89-482360DE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B7442-EE5A-4708-A0CF-817725D8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810BC-4138-4A6D-9E11-236C7A73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6777-9851-47BA-A8DD-90EE5F5A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5492-31D1-4F9B-94CD-930E1F00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99BE-D2BE-4928-AC43-AF88C286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B5F-AA3E-474F-90A6-AAEB59B5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88B41-F684-491F-B777-EA2A6EBA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D28C-8E93-459E-87DC-04C84038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3EAB3-57D9-4991-B0D2-348C497D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D7FF-04C3-47C3-BD0D-2651639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7549D-5A5B-4694-9A16-0EBD16B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9ABC6-6B4C-49CD-AA6A-6DBB8180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22105-D564-422D-8FF7-63AD2BEB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CC55-40F8-4CF5-8A65-D2F8676C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9BB8-8BF1-4380-AF1A-9025C53F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D1D43-5618-4568-8E86-CBC67067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BFD-E16A-46F6-8F01-8979A555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4C874-7D5E-4641-9CBB-1FED3E26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CAFD8-7B59-41CD-AFF5-C22B8066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FF02A-FD70-4C02-8A96-9B0E0996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F5068-AEDF-4B30-ABCE-3187914A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A7DA-D9E7-4119-9EA5-773845FB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643C-517A-47C1-B5DD-3D043DDA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3F318-2235-4167-8551-08F2E5DF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0953-92E4-4964-A98E-8881D214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912F-5E22-41C3-8E6D-8FFD8198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54DC1-BA91-4CF0-AB29-BDB62BD6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A07-20ED-4B7C-BE41-C84D889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A7DAB-020A-4FF4-AB83-324F85E6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455B1-FAB3-400D-A2B9-0F6EB17E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9FCB7-0DF9-4112-B826-87F686EA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E35EF-01A4-47F6-88BB-D34F1F71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BB43-2C33-4F1A-B213-3CD60835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781A1-9573-4F88-8202-840D845D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F2C24-403A-4FCD-8B08-D415B2B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1424E-B72C-42D9-9738-DA69BF0E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F37B2-E148-4276-B913-E6786378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A522-ECF4-4D55-9326-DCE124D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689-AF13-4306-9C9A-86B1C258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293A7-1123-4AB9-9A50-F84C289B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CBA3-DDC3-4F7A-8E7B-67926A58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C4C0-EA31-4558-9682-AA8F1A43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C8D35-584E-47DC-93F1-D17BABF9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A2B1-2DA2-4949-A033-5275768E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F918-DE74-4E4E-8743-E23EA4DF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AC98-A653-4F23-82DD-F4A09491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B6F1-29CE-461C-A4A7-13C3E60C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497B-5587-4C15-8BC3-55FA3438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9788-2F28-4427-86B1-3994141A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881-E1E1-4F5F-91C7-21C550DB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B82BA-D26B-4073-B0EC-1CDBDE8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254F6-F665-4697-A57C-60C587E3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92775-B5B2-4072-BA2D-EDE0BE5A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4476F-AC94-45FF-A697-91F0D7EB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EC0DD-5237-48AE-8DEB-CF3D78B0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990-1C4D-4076-B4D5-57EC9A5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60CA-AA8E-4E65-9BC2-EACC7841F6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DD4-7362-4014-9D04-78148ADBB4AA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86F4-129C-443C-95AA-C12E6F4CB0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9546-AF20-46C2-A30C-4AE4C7DCD02C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5D31-CD42-451D-B05C-26557067D4D4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C4A6-2CBA-48BB-A4D8-543E67AFFEAD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C174-D46A-4779-A239-B412DB1B4D4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http://arstyle.org/uploads/posts/2011-05/1306838588_1282899687_fun_kids_vector.jpg"/>
          <p:cNvPicPr/>
          <p:nvPr/>
        </p:nvPicPr>
        <p:blipFill>
          <a:blip r:embed="rId1"/>
          <a:stretch/>
        </p:blipFill>
        <p:spPr>
          <a:xfrm>
            <a:off x="611280" y="3860640"/>
            <a:ext cx="3643200" cy="2702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http://musafirova.ucoz.ru/Oformlenie/Ehkipirovka.jpg"/>
          <p:cNvPicPr/>
          <p:nvPr/>
        </p:nvPicPr>
        <p:blipFill>
          <a:blip r:embed="rId2"/>
          <a:stretch/>
        </p:blipFill>
        <p:spPr>
          <a:xfrm>
            <a:off x="5435640" y="3352680"/>
            <a:ext cx="3240000" cy="3429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344000" cy="29512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Franklin Gothic Medium"/>
              </a:rPr>
              <a:t>ПОВЫШЕНИЕ ШКОЛЬНОЙ МОТИВАЦИИ С ПОМОЩЬЮ СОСТАВЛЕНИЯ МАТЕМАТИЧЕСКИХ ЗАДАЧ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ытовые задач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й друг вечером и утром слушает громкую музыку. Каждый раз соседи ругают его за это 10 секунд. Сколько времени ругали моего соседа за недел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ANd9GcTD-8Z0x6NvOFyRJM83UNAFbD32kD_r7uFz1IWVXPf2xDEvjcbQ"/>
          <p:cNvPicPr/>
          <p:nvPr/>
        </p:nvPicPr>
        <p:blipFill>
          <a:blip r:embed="rId1"/>
          <a:stretch/>
        </p:blipFill>
        <p:spPr>
          <a:xfrm>
            <a:off x="5410080" y="4211640"/>
            <a:ext cx="353376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есел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каждые 5 минут опоздания в кино папа вынужден был купить Ане одного хомяка. Сколько хомяков пришлось купить папе,  если они опоздали в кино на 15 мину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5" descr="xomyaki-%5b1600x1068%5d-%5b12507955%5d"/>
          <p:cNvPicPr/>
          <p:nvPr/>
        </p:nvPicPr>
        <p:blipFill>
          <a:blip r:embed="rId1"/>
          <a:stretch/>
        </p:blipFill>
        <p:spPr>
          <a:xfrm>
            <a:off x="5181480" y="426708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Фантастические задач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инопланетянина выросло на грядке две восьмиглазки, а у его соседа в три раза больше. Сколько глаз смотрят на инопланетян с обеих гряд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5" descr="1326995795_03974"/>
          <p:cNvPicPr/>
          <p:nvPr/>
        </p:nvPicPr>
        <p:blipFill>
          <a:blip r:embed="rId1"/>
          <a:stretch/>
        </p:blipFill>
        <p:spPr>
          <a:xfrm>
            <a:off x="6324480" y="3657600"/>
            <a:ext cx="22831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должение следует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Коллективная проектная работа «Задачи»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учащихся 3 «А» класса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гимназии № 293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15-2016     уч.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водитель:  Пучкова Е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сборника веселых задач для учащихся третьих кла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5" descr="a2e5ba3258f620a3bb975ae545a297c4"/>
          <p:cNvPicPr/>
          <p:nvPr/>
        </p:nvPicPr>
        <p:blipFill>
          <a:blip r:embed="rId1"/>
          <a:stretch/>
        </p:blipFill>
        <p:spPr>
          <a:xfrm>
            <a:off x="2514600" y="3200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опрос одноклассников, интересны ли им задачи из учеб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чинить и сформулировать свои задач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ь составленные задач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иллюстрированный сборник со своими задач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6" descr="149643"/>
          <p:cNvPicPr/>
          <p:nvPr/>
        </p:nvPicPr>
        <p:blipFill>
          <a:blip r:embed="rId1"/>
          <a:stretch/>
        </p:blipFill>
        <p:spPr>
          <a:xfrm>
            <a:off x="457200" y="990720"/>
            <a:ext cx="3809880" cy="5181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6bcec5d4193a"/>
          <p:cNvPicPr/>
          <p:nvPr/>
        </p:nvPicPr>
        <p:blipFill>
          <a:blip r:embed="rId2"/>
          <a:srcRect l="50002" t="0" r="0" b="875"/>
          <a:stretch/>
        </p:blipFill>
        <p:spPr>
          <a:xfrm>
            <a:off x="4800600" y="838080"/>
            <a:ext cx="380988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о школ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атематики Вова был у доски 5 раз,  Миша – в 2 раза больше, чем Вова, а Андрей на 7 меньше, чем оба мальчика. Сколько раз у доски был Андр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11736"/>
          <p:cNvPicPr/>
          <p:nvPr/>
        </p:nvPicPr>
        <p:blipFill>
          <a:blip r:embed="rId1"/>
          <a:stretch/>
        </p:blipFill>
        <p:spPr>
          <a:xfrm>
            <a:off x="5410080" y="3981600"/>
            <a:ext cx="373392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е написали за месяц 10 замечаний, а Владу в 5 раз меньше. На сколько меньше отвлеклась Елена Николаевна на Влада, чем на Ро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5" descr="shkola"/>
          <p:cNvPicPr/>
          <p:nvPr/>
        </p:nvPicPr>
        <p:blipFill>
          <a:blip r:embed="rId1"/>
          <a:stretch/>
        </p:blipFill>
        <p:spPr>
          <a:xfrm>
            <a:off x="4191120" y="390528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о наших любимца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ака Пуля лопнула 30 шариков, а Аля в 10 раз меньше. Сколько шариков лопнули обе соба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number15_39_3"/>
          <p:cNvPicPr/>
          <p:nvPr/>
        </p:nvPicPr>
        <p:blipFill>
          <a:blip r:embed="rId1"/>
          <a:stretch/>
        </p:blipFill>
        <p:spPr>
          <a:xfrm>
            <a:off x="4648320" y="3352680"/>
            <a:ext cx="382896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ортивные задач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 папой кидал пустой рюкзак в длину. Папа кинул на 7 метров, а я на 2 метра ближе. Сколько всего метров пролетел наш рюкза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5" descr="7233"/>
          <p:cNvPicPr/>
          <p:nvPr/>
        </p:nvPicPr>
        <p:blipFill>
          <a:blip r:embed="rId1"/>
          <a:stretch/>
        </p:blipFill>
        <p:spPr>
          <a:xfrm>
            <a:off x="5181480" y="38098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15:32:11Z</dcterms:created>
  <dc:creator>Home</dc:creator>
  <dc:description/>
  <dc:language>en-US</dc:language>
  <cp:lastModifiedBy>Home</cp:lastModifiedBy>
  <dcterms:modified xsi:type="dcterms:W3CDTF">2016-12-06T17:17:3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