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321-996E-4AC7-8448-FAAA183A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AD0-8B60-48FF-A0EF-D5C6B97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1B7-8D17-4D9D-B6DD-9812AFC6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C5E-2C85-452A-8365-E474DDB6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0C3F-5946-43BF-9707-F2D0611B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6CE8-0E28-43FB-9823-59131428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24F-EAA8-4CE4-8F6F-F696448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DD72-1140-4C26-A270-CC1ADC7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1479-29BB-404A-A843-673853F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D96-C5F8-4801-9F2B-3B9C1165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D179-AEA9-4E46-8890-AC64170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7D7-3FE2-4FD3-958D-FB07C970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45C0-DE2F-4655-ABF9-4FECE1D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F3B-81BE-4FCA-8E19-0DF1A05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C510-DEB1-48B8-8919-B5497A0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EEB-5AA8-4E76-BBB7-ADC0191B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BA19-316D-4070-BCD7-5A545FDA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8B536-F18A-43EB-BFF9-56E56CD7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F3ADF-73BC-46E7-8401-853B2786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C88B4-CE6B-465F-893A-02ED11E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BCAD8-B89F-4824-8B8F-00AC94B1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28C23-53C0-4257-800C-299CBFE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112-B48A-4F68-B009-2B2654D7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5F25B-FA2C-4193-8436-CA94302B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DF7D9-E469-47FE-82E2-355483E8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11F20-366F-4596-AF58-4C654E6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D3A1B-6385-40F9-B4AE-2E6C8E2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894A9-B516-41C7-808C-33586C6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00971-0283-43C1-AE58-E55D08C8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EB43F-9B45-4271-91EA-CD92366A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043D-2CF1-4F4C-9D3A-8372A86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0C95-386E-4153-8417-D750DE2D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0901-28DD-446F-9779-028574B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F36-2867-4617-8DFA-E43F62F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D666-1F78-4188-A4B6-E0FFF3CD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C9F9-0736-47BE-9821-D4BAAA2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D3C8-D5B1-4EF4-88BA-A8D8D26A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BB38-05FD-48D9-BA09-00EF909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BD3B-3E9F-40F9-8932-6558E83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94B8-98E4-4F0A-AB9F-CFB9861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94DE-3F28-4070-AF74-E72313B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E828-CE36-4346-B1A1-54BEAB5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B088-B3A8-45ED-B14F-FD5DA6F4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DCCB-7BE0-4072-9D28-B1B803DF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DAC-672A-4362-8FC5-84B1C1E0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E9ED6-D678-4F11-A502-F1DEDBEA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3D9BF-2F2E-4BF0-ABDD-10D8C92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4632-F71E-4B3B-9318-6029271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1B31-6383-46F9-8F0D-E841321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F8F1-11E4-4294-8558-304B44F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EF0D-16E3-43AC-9CE6-60DD802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0310-DCE8-4D09-96C9-6233744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CD9D-B27C-4C7D-8426-ADC7905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66A9-1A5E-4BC6-9620-211F4D2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958E-61BC-4DA8-87AC-D3AC2999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924-5E08-4EF0-8B8F-D480F9CD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9FD0-2A75-4223-9443-694373EF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2AE6-C90F-48D2-8AA1-E1B23022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521B-9204-48BE-A267-9304CCB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8AC3-63C5-41F1-9952-62E0E20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BFC5-085E-43D4-89DC-0B7EBFA9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AA19-E99D-4149-BE55-B9BFA8B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2C71-CA01-49D1-BC33-E633FEFD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3958-1BA8-4D76-9696-FBD509F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1049-633A-425B-85E9-DF4E248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6D42-12B4-4C66-A81C-B626BB1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33-4AB8-42E6-B29C-C2FDA97B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B185-8CA9-472C-9545-F623E25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CBA1-BB3C-4AA9-9840-8737A9B1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B67C-A1DC-422E-80D3-5DFDC149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F28C-AE2D-4C3C-AE70-244AF39C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C2A9-7C3A-4C39-80D5-31C512CA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E095F-A5A4-4C3C-A6A1-B0D34AB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5DE00-F9DF-4D2F-8765-96BD233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BB1B3-3877-49C9-BC2E-F7C6348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F241-38FB-4E28-82E9-561C6FF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8AA1-7181-446B-AB25-10E26BF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F36-5496-44F0-A406-CC6B42E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8A15-855E-4A49-8D43-0D51F425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B363-FCBB-4D41-8CCF-0B1ED69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FB7D5-F2E7-49BF-B8B4-290DFA38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ACF28-443C-4A20-8159-6E994E11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D63E-0755-4850-B87C-C5B8E0BC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084-B002-417D-809A-3BE4091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A531-A4E9-45FD-87D8-DC9D40B5DD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264-A82A-4B82-A4B9-CDB60D17264D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B9C-F2F1-455E-913A-CDD2C87C2E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35C-60BD-44BF-B058-7D7A2152883A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9FF5-1C5D-4665-9937-C4A525AA7C7C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14E-ABF9-46A9-9708-E635B0650452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90F5-9445-4CD4-95A8-74A853BD2E67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arstyle.org/uploads/posts/2011-05/1306838588_1282899687_fun_kids_vector.jpg"/>
          <p:cNvPicPr/>
          <p:nvPr/>
        </p:nvPicPr>
        <p:blipFill>
          <a:blip r:embed="rId1"/>
          <a:stretch/>
        </p:blipFill>
        <p:spPr>
          <a:xfrm>
            <a:off x="611280" y="3860640"/>
            <a:ext cx="3643200" cy="2702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http://musafirova.ucoz.ru/Oformlenie/Ehkipirovka.jpg"/>
          <p:cNvPicPr/>
          <p:nvPr/>
        </p:nvPicPr>
        <p:blipFill>
          <a:blip r:embed="rId2"/>
          <a:stretch/>
        </p:blipFill>
        <p:spPr>
          <a:xfrm>
            <a:off x="5435640" y="3352680"/>
            <a:ext cx="3240000" cy="3429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44000" cy="2951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Franklin Gothic Medium"/>
              </a:rPr>
              <a:t>ПОВЫШЕНИЕ ШКОЛЬНОЙ МОТИВАЦИИ С ПОМОЩЬЮ СОСТАВЛЕНИЯ МАТЕМАТИЧЕСКИХ ЗАДАЧ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ытовы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й друг вечером и утром слушает громкую музыку. Каждый раз соседи ругают его за это 10 секунд. Сколько времени ругали моего соседа за неде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ANd9GcTD-8Z0x6NvOFyRJM83UNAFbD32kD_r7uFz1IWVXPf2xDEvjcbQ"/>
          <p:cNvPicPr/>
          <p:nvPr/>
        </p:nvPicPr>
        <p:blipFill>
          <a:blip r:embed="rId1"/>
          <a:stretch/>
        </p:blipFill>
        <p:spPr>
          <a:xfrm>
            <a:off x="5410080" y="4211640"/>
            <a:ext cx="353376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есел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каждые 5 минут опоздания в кино папа вынужден был купить Ане одного хомяка. Сколько хомяков пришлось купить папе,  если они опоздали в кино на 15 мину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5" descr="xomyaki-%5b1600x1068%5d-%5b12507955%5d"/>
          <p:cNvPicPr/>
          <p:nvPr/>
        </p:nvPicPr>
        <p:blipFill>
          <a:blip r:embed="rId1"/>
          <a:stretch/>
        </p:blipFill>
        <p:spPr>
          <a:xfrm>
            <a:off x="5181480" y="42670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Фантастически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инопланетянина выросло на грядке две восьмиглазки, а у его соседа в три раза больше. Сколько глаз смотрят на инопланетян с обеих гряд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5" descr="1326995795_03974"/>
          <p:cNvPicPr/>
          <p:nvPr/>
        </p:nvPicPr>
        <p:blipFill>
          <a:blip r:embed="rId1"/>
          <a:stretch/>
        </p:blipFill>
        <p:spPr>
          <a:xfrm>
            <a:off x="6324480" y="3657600"/>
            <a:ext cx="22831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должение следует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Коллективная проектная работа «Задачи»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учащихся 3 «А» класса</a:t>
            </a:r>
            <a:br>
              <a:rPr sz="4800"/>
            </a:b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гимназии № 293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5-2016     уч.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:  Пучкова Е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сборника веселых задач для учащихся третьи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a2e5ba3258f620a3bb975ae545a297c4"/>
          <p:cNvPicPr/>
          <p:nvPr/>
        </p:nvPicPr>
        <p:blipFill>
          <a:blip r:embed="rId1"/>
          <a:stretch/>
        </p:blipFill>
        <p:spPr>
          <a:xfrm>
            <a:off x="2514600" y="3200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опрос одноклассников, интересны ли им задачи из учеб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ить и сформулировать свои зада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составленные задач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иллюстрированный сборник со своими задач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6" descr="149643"/>
          <p:cNvPicPr/>
          <p:nvPr/>
        </p:nvPicPr>
        <p:blipFill>
          <a:blip r:embed="rId1"/>
          <a:stretch/>
        </p:blipFill>
        <p:spPr>
          <a:xfrm>
            <a:off x="457200" y="9907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6bcec5d4193a"/>
          <p:cNvPicPr/>
          <p:nvPr/>
        </p:nvPicPr>
        <p:blipFill>
          <a:blip r:embed="rId2"/>
          <a:srcRect l="50002" t="0" r="0" b="875"/>
          <a:stretch/>
        </p:blipFill>
        <p:spPr>
          <a:xfrm>
            <a:off x="4800600" y="838080"/>
            <a:ext cx="380988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о школ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уроке математики Вова был у доски 5 раз,  Миша – в 2 раза больше, чем Вова, а Андрей на 7 меньше, чем оба мальчика. Сколько раз у доски был Андр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11736"/>
          <p:cNvPicPr/>
          <p:nvPr/>
        </p:nvPicPr>
        <p:blipFill>
          <a:blip r:embed="rId1"/>
          <a:stretch/>
        </p:blipFill>
        <p:spPr>
          <a:xfrm>
            <a:off x="5410080" y="3981600"/>
            <a:ext cx="373392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е написали за месяц 10 замечаний, а Владу в 5 раз меньше. На сколько меньше отвлеклась Елена Николаевна на Влада, чем на Ро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5" descr="shkola"/>
          <p:cNvPicPr/>
          <p:nvPr/>
        </p:nvPicPr>
        <p:blipFill>
          <a:blip r:embed="rId1"/>
          <a:stretch/>
        </p:blipFill>
        <p:spPr>
          <a:xfrm>
            <a:off x="4191120" y="390528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о наших любимца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ака Пуля лопнула 30 шариков, а Аля в 10 раз меньше. Сколько шариков лопнули обе соба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number15_39_3"/>
          <p:cNvPicPr/>
          <p:nvPr/>
        </p:nvPicPr>
        <p:blipFill>
          <a:blip r:embed="rId1"/>
          <a:stretch/>
        </p:blipFill>
        <p:spPr>
          <a:xfrm>
            <a:off x="4648320" y="3352680"/>
            <a:ext cx="382896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ортивные задач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 папой кидал пустой рюкзак в длину. Папа кинул на 7 метров, а я на 2 метра ближе. Сколько всего метров пролетел наш рюкза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7233"/>
          <p:cNvPicPr/>
          <p:nvPr/>
        </p:nvPicPr>
        <p:blipFill>
          <a:blip r:embed="rId1"/>
          <a:stretch/>
        </p:blipFill>
        <p:spPr>
          <a:xfrm>
            <a:off x="5181480" y="3809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5:32:11Z</dcterms:created>
  <dc:creator>Home</dc:creator>
  <dc:description/>
  <dc:language>en-US</dc:language>
  <cp:lastModifiedBy>Home</cp:lastModifiedBy>
  <dcterms:modified xsi:type="dcterms:W3CDTF">2016-12-06T17:17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