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9.gif" ContentType="image/gi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B74-BB98-47C1-828C-EB211749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DC2-9B1D-4AC6-8D75-B173A8EE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51A-B5D6-4172-B326-209B1D3C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BDA-3462-4736-A4FE-374156F0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377D-2831-4D45-8717-49F2B8D3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964D-206F-47BE-86A1-2762D976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2355-F304-4C67-8088-59A701D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B1F0-A92B-42AA-A307-708221C8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DFC-F07D-4F94-88EE-FB15532F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1EEA-9F0C-4FD3-AEF5-DAE0B1C6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11F1-6A2A-45B8-895A-71DFE929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608-9FD0-407E-9BBE-9C55F393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3A09-5787-4E8A-B9C6-A2485F4B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3207-0224-4E57-BCE5-566FFB1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DEA0-66A0-40AF-845F-05D23755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36FC-20BA-4F5E-BAA9-D4469621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9D4A-B4B3-4D19-B1A3-BBBEE80E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934-E3C6-412B-815A-877B4F38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034-F4AA-47C1-98BD-E6D7249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BA9-5133-49D6-8E95-47137192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931-A69E-4F16-BEE1-9359FDB2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E50-672A-4812-8C21-E6F4247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E30-BE6C-4EDC-9F53-FB09EA3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347-E922-4903-8623-2073AC6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70FB-F443-4E57-9C8B-9EDD4B8EF3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5B53-E1BC-4561-9454-B78CE81AD5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ДОРОВЫЙ ОБРАЗ ЖИЗН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35280" y="400536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432160" cy="2166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2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ОРОВЫЙ ОБРАЗ ЖИЗН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849760" cy="2135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76720" y="1484280"/>
            <a:ext cx="475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з жизни- вошедший в привычку способ жизнедеятельности, поведения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ОРОВ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5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зическое        псих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39337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можность вести ЗОЖ зависит о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7520" y="4581360"/>
            <a:ext cx="557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а, возраста, состояния здоровь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ловий обитания : климат, жилищ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кономических условий: питание, одеж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сутствия вредных привыч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43280" y="2997360"/>
            <a:ext cx="50328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6560" y="30700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офилактика  табакокур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68360" y="148392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 Курить опиум- все равно, что выпрыгивать из поезда на полном ходу»  Жан Кокт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6165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к выглядят легкие некурящего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Легкие не курящего человека"/>
          <p:cNvPicPr/>
          <p:nvPr/>
        </p:nvPicPr>
        <p:blipFill>
          <a:blip r:embed="rId2"/>
          <a:stretch/>
        </p:blipFill>
        <p:spPr>
          <a:xfrm>
            <a:off x="971640" y="3789360"/>
            <a:ext cx="2843280" cy="2189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Легкие курильщика, стаж 5 лет"/>
          <p:cNvPicPr/>
          <p:nvPr/>
        </p:nvPicPr>
        <p:blipFill>
          <a:blip r:embed="rId3"/>
          <a:stretch/>
        </p:blipFill>
        <p:spPr>
          <a:xfrm>
            <a:off x="6659640" y="3933720"/>
            <a:ext cx="1762200" cy="2152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840280" y="6165720"/>
            <a:ext cx="33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Так выглядят легкие курильщ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с 5-летним стаж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140360" y="3860640"/>
            <a:ext cx="220788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офилактика наркоман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КОТИК – от греческого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rkoo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, что означает оцепенеть, сделаться нечувствитель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364000" y="3645000"/>
            <a:ext cx="2446560" cy="26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743120" y="4440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3716280"/>
            <a:ext cx="545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Сумей сказать «НЕТ!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  здоровом теле – здоровый ду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 природы есть закон – счастлив будет только тот, кто здоровье сбережет.        Прочь гони-ка все хворобы!                     Поучись-ка быть  здоровым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495760" y="1679400"/>
            <a:ext cx="2343240" cy="2030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435640" y="4146480"/>
            <a:ext cx="246060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оровье семьи - здоровье на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ношения в семье между отцом и матерью – наглядный пример для ребенка и основа духовного благополуч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 здоровья конкретно существующего поколения зависят здоровье и счастье последующег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761080" y="1808280"/>
            <a:ext cx="1817640" cy="1774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783400" y="4129200"/>
            <a:ext cx="176364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ОПРОС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36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ак вы понимаете «здоровый образ жизн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чему надо беречь здоровье? Как это надо делать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ак вы понимаете принцип «Не навреди»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729400" y="4183200"/>
            <a:ext cx="1873080" cy="1707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435640" y="1628640"/>
            <a:ext cx="317016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9:03:54Z</dcterms:created>
  <dc:creator>A0001</dc:creator>
  <dc:description/>
  <dc:language>en-US</dc:language>
  <cp:lastModifiedBy>Ерошка</cp:lastModifiedBy>
  <dcterms:modified xsi:type="dcterms:W3CDTF">2007-05-16T14:46:13Z</dcterms:modified>
  <cp:revision>21</cp:revision>
  <dc:subject/>
  <dc:title>ЗДОРОВЫЙ  ОБРАЗ  ЖИЗНИ</dc:title>
</cp:coreProperties>
</file>