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0B7A-36FB-43CE-8E4E-08FE4160A1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CA4C-0362-44B9-BDC6-99939A013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A2D5-61FB-4396-AD51-E38B3309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816-3184-4429-A426-B2A06114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BB7-1CEF-4915-ABD8-F6AADE97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197-FBB2-434A-9883-DB166725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2EF4-85A7-4221-BB8A-5C8F8EDC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0DBD-CF79-4F6E-8132-24D89A3F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0990-BD25-47A7-8F3B-7CA7C3D0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8703-7CA9-49F8-AD6E-8B6F594E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BEE3-FB3A-40D5-B72F-A5609E82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EA8C-0107-48CD-A796-3F21BE35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24BB-5452-4880-AEB6-62A2E361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529-C573-4B6E-AC6B-4C224E32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2720-DD85-4A17-A93F-67EF9968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387E-5CD7-4663-A4B3-B4808552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498C-0540-4B62-82CC-4B20E793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02F6-68DF-434F-92A5-287A02AE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023F-43A2-4194-8226-E9FCAFC9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1FE3E-E36A-45D4-9F03-659FEC74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98150-4377-4C20-B097-514D36B1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10D0F-EB4A-4532-9C49-6564E060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D13E-003E-4648-8E35-7275C52D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934A8-C01D-4C73-BC04-B949CA80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5F8-9370-44C6-8831-1034D778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A22D0-339A-4B98-9024-14505E47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72B54-1126-4444-855F-93E304EB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11F3-8AF3-46FD-81CE-3FE7A640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BA67-0145-4F5A-8701-684C5EC6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B29F-B9DD-4D08-9818-11293DF7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5BF4-8392-40A5-8921-6C47FCE0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F111E-04A3-471F-8222-9C684E2A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1905E-B597-49E5-BA36-CB4CADA3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1E011-3365-4E2E-9DC3-512BDB29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1867D-B09B-4B65-8820-D99431D8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4D14-EFE7-4C65-8FEB-27BF0E54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B5365-9811-4574-80EB-CA6BA2E0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26DA4-1196-4C42-A099-E7003580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26E8A-6590-4B1D-81B1-A25CD6FD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D1471-39E3-4CAD-917F-C7F28452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E6749-E537-461C-8D38-3F97A8C4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3C62-0997-4D62-91B6-4BA6ED22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E7EDA-FA8F-4E24-918B-FD00AC3F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A45E5-AF15-4753-A944-FA1B4350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0D100-8BE0-4AC2-BC74-466C9F48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C5029-0E72-45D8-90DF-E5C1AAC4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6E2-0B23-43E6-892A-DA6CC919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C96B6-1DAF-4DDF-BAE1-0C34504D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4AE8D-70FC-4DF7-9211-CBA3F95B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0327B-3524-4192-90A7-02F293E8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FA193-CB27-465C-B394-CA8219DE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85C96-6AE6-40AD-91BE-2BA5CEC9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C6A01-D686-4376-BF4E-58BCC8D7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1BBE8-0146-4154-A2A4-DB1A95D3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04E5B-08AB-4662-BE22-7829D1D7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DFE22-927C-41CA-ABCE-DBA58CD7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1E21F-6F0C-421B-AAA4-FB46ED51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66F-D477-4AC2-AFC6-5A9A7441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0B0F2-CAF3-479C-8A2E-4692E64F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177-D685-47DD-AE3E-660A9F2C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E13-5B54-420D-BD6B-791D126E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161-F94C-42DB-A889-6A93C76E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E6A1-94BF-43E0-90C9-D7B023EDBEA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DCEA-5416-430D-ADE5-4EE1F8C4486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2FD5-DCB3-40D4-859B-A699321A538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E228-915A-465A-A3EA-5D8C2780F11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9730-44EC-40AE-BBFE-B3FEA068904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609480" y="609480"/>
            <a:ext cx="7848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)извес(?)ная величина; (не)правда; совсем (не)весёлое настроение; (не)нас(?)ный день; (не)большая, а интересная книга; (не)широкая, но красивая река; этаж..м; беч..вка; врач..м; грач..нок; полотенц..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3"/>
          <p:cNvSpPr/>
          <p:nvPr/>
        </p:nvSpPr>
        <p:spPr>
          <a:xfrm>
            <a:off x="533520" y="1295280"/>
            <a:ext cx="8229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..й, пирож..к, книж..нка, реч..нка, ландыш..м, огурц..в, улиц..й, чертеж..м, ключ..м, птиц..й, </a:t>
            </a:r>
            <a:r>
              <a:rPr b="0" lang="ru-RU" sz="4400" spc="-1" strike="noStrike">
                <a:solidFill>
                  <a:srgbClr val="004821"/>
                </a:solidFill>
                <a:latin typeface="Times New Roman"/>
                <a:ea typeface="Times New Roman"/>
              </a:rPr>
              <a:t>камыш..вый, плюш..вый, грош..вый, беж..в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457200" y="1447920"/>
          <a:ext cx="8229600" cy="2857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ы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пящих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фиксах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ых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457200" y="168732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4821"/>
                </a:solidFill>
                <a:latin typeface="Times New Roman"/>
                <a:ea typeface="Times New Roman"/>
              </a:rPr>
              <a:t>Камыш..вый, плюш..вый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4821"/>
                </a:solidFill>
                <a:latin typeface="Times New Roman"/>
                <a:ea typeface="Times New Roman"/>
              </a:rPr>
              <a:t>грош..вый,   беж..вы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457200" y="1406520"/>
          <a:ext cx="8229600" cy="3017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E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457200" y="533520"/>
          <a:ext cx="8229600" cy="4419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937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сные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пящих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фи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Rectangle 1"/>
          <p:cNvSpPr/>
          <p:nvPr/>
        </p:nvSpPr>
        <p:spPr>
          <a:xfrm>
            <a:off x="457200" y="50335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ей, пейзажем, шелк, ситцевый, образцовый, причёска, шалашом, плющом, чащей, стражей, ландышем, грачом, рубашонка, одежонка, девчонка, в свежем, дворцовый, ежовый, речонк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622440" y="455760"/>
            <a:ext cx="7899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аннее весеннее утро ребята во главе со стажёром провели в старом саду борьбу с листожором на грушевых и алычовых деревьях. В камышовом шалаше ребят ждёт сторож. На голове у него шапчонка. Из-под пиджака выглядывает холщовая рубашонка, на шее кумачовый платок. Сторож показывает ребятам самодельные щётки и трещотки, затем угощает всех спелым крыжовником. А ребята предлагают ему шоколад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ёром,   листожором,  грушевых,   алычовых, камышовом,   шапчонка, холщовая,   рубашонка, кумачовый,   щётки,   трещотки, крыжовником,   шоколадки.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457200" y="1447920"/>
          <a:ext cx="8229600" cy="40449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83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едение итогов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6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лись писать буквы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пящих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фиксах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ён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ых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л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ения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линина М.В.</dc:creator>
  <dc:description/>
  <dc:language>en-US</dc:language>
  <cp:lastModifiedBy>Надежда</cp:lastModifiedBy>
  <dcterms:modified xsi:type="dcterms:W3CDTF">2016-12-06T06:21:36Z</dcterms:modified>
  <cp:revision>20</cp:revision>
  <dc:subject>Правописание прилагательных</dc:subject>
  <dc:title>Слайды к уро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