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B36-2D8D-4848-BA23-336ACE0824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5A6-2085-4F60-93AD-4AC271ED07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081-6A71-411C-8B21-8B2D1EBF2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791-901C-4398-AC8E-7C4EFB69B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EB8-1917-4824-8459-51B648A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8E6-4EAC-475D-812D-4C9E0448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24D-49EB-42B3-9B7D-76E677D2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8F5-F3C8-4D72-9135-14C9764E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85B-DB9E-4AEB-AB84-AB76B0D1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583-CA94-4043-B448-C4132656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49D-4444-4D48-B5AC-F3603D4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245-ABA9-4C82-9A58-230D0A2D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8C7-FE04-4A57-858E-F7CED6AA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533-8A01-4548-8930-51DA5AC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DBC-9B98-496F-846E-A81E8BD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417-8CF7-4C32-AC59-9851A07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8030-C574-4A7E-856A-3EDF3B46C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таблицы для сопоставления 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143000"/>
          <a:ext cx="8763120" cy="5451480"/>
        </p:xfrm>
        <a:graphic>
          <a:graphicData uri="http://schemas.openxmlformats.org/drawingml/2006/table">
            <a:tbl>
              <a:tblPr/>
              <a:tblGrid>
                <a:gridCol w="3733920"/>
                <a:gridCol w="1143000"/>
                <a:gridCol w="38862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нционный смотритель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ходство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питанская дочка»: 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ция обмана, притво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ход за боль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ьезное ранение Петра на дуэли при защите чести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 Минского, хитрые уловки с целью обмануть смотрителя и вызвать чувство Дуни («При смо- трителе охал, не говорил почти ни слова…»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ренняя радость в ситуации выздоровления, трепет Петра при узнавании даже голоса возлюбленн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вествовании передан разговор Минского с лекарем по-немецки; шутки с Дуней (обман и игр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логи геро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ают радость, восторг и тревогу за здоровье Пет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автора-рассказчика, услышавшего истори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 пов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лица повествователя, героя, от первого лица передана история любви и тяжких испыта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50920" y="404640"/>
            <a:ext cx="8740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поэта пишут о молчании, это является  главной идеей их стихотворений. Не случайно стихотворению Тютчева  дано название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, что с латинского переводится как молчание, а герой Жуковского приходит к выводу, что «лишь молчание понятно говорит». Для Жуковского молчание  - это изобразить «живое», для Тютчева -  способ сохранить чувства и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«Невыразимом» лирический герой говорит о бедности языка, его неспособности в точности передать человеческие ощущения. «Но льзя ли мертвое в живое передать?», - таким вопросом задается герой. Живое для него – не сама природа, ведь найдется много слов для выражения ее «блестящей красоты», но те чувства, что она рождает в душе человека, а мертвое – язык, пытающийся всему дать название. В «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lentiu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 Тютчева сокровенными для лирического героя также являются чувства, формирующиеся в «душевной глуб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а лирических героя приходят к выводу, что слова, язык не могут так передать состояние души человеческой, как молч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личие в интонации: Жуковский сетует, что приходится «обессиленно безмолвствовать», аТютчев повелевает «Молчи!». Первы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може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оворить, а второ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е хочет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. «Наружный шум» у Тютчева противопоставляется «жизни в себе самом», а у Жуковского нет такого строгого разделения на мир внешний и внутренний, он как раз и хочет передать свои впечатления от «дивной природы». Но не может найти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295280" y="914400"/>
            <a:ext cx="48769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br>
              <a:rPr sz="20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, о море ночное,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десь лучезарно, там сизо-темно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лунном сиянии, словно живо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Ходит, и дышит, и блещет оно..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На бесконечном, на вольном простор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Блеск и движение, грохот и гром..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Тусклым сияньем облитое мор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 хорошо ты в безлюдье ночном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Зыбь ты великая, зыбь ты морс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ей это праздник так празднуешь ты?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олны несутся, гремя и сверкая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Чуткие звезды глядят с высот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этом волнении, в этом сиянье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есь, как во сне, я потерян стою —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О, как охотно бы в их обаянь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сю потопил бы я душу свою..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-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.2.3 Что сближает стихотворение В.А. Жуковского «Море» со стихотворением Тютчева «Как хорошо ты, о море ноч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2280" y="38088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ихотворении Ф.И. Тютчева лирический герой тоже любуется море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моря так же, как и у В.А. Жуковского, живой: он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одит и дышит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инамику усиливают ряды однородных членов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леск и движенье, грохот и гром…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тчев использует тот же прием, что и Жуковский – олицетво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 неба появляется и в стихотворении Тютчева: «Чуткие звезды глядят с высо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ственно стихотворению Жуковского и чувство лирического героя Тютчева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в волненьи и сияньи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оря и неба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н потеря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 у Жуковского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чаров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). Можно утверждать, что для него море тоже воплощает тайну Вселенной. И он хочет сродниться с ним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…охотно бы в их обаянье/ Всю потопил бы я душу свою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Лирический герой Тютчева тоже задает вопросы, на которые невозможно ответить: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ыбь ты великая… Чей это праздник празднуешь ты?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фос тайны и величия характерен для этих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ако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если в элегии Жуковского представлен драматический сюжет борьбы добра со злом, света с тьмой, то у Тютчева этого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380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инство экзаменуемых показали умение сопоставлять художественные произведения и аргументировать свои суждения. Эти учащиеся осуществляли предложенное в задании сопоставление последовательно, а не параллельно, при этом были проявлены слабые знания речевых клише, используемых в качестве средств связи частей текста при сопоставлении. Мало использовались такие речевые средства, как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так же; точно так, как; таким же образ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если нужно было подчеркнуть сходство чего-либо, кого-либо;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с одной стороны – с другой стороны, напротив, наоборот, зато, один – другой; герой-персонаж (такой-то) – его оппонент (такой-то); благородные порывы одного – аморальные, предосудительные другог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 в случаях, если необходимо было подчеркнуть различие чего-либо, кого-либ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ько в нескольких работах был использован прием параллельного сопоставления. А значит, этот навык был недостаточно закреплен за период обучения предм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 НА сопоставительный ВОПРОС (5-8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2" descr=""/>
          <p:cNvPicPr/>
          <p:nvPr/>
        </p:nvPicPr>
        <p:blipFill>
          <a:blip r:embed="rId1"/>
          <a:stretch/>
        </p:blipFill>
        <p:spPr>
          <a:xfrm>
            <a:off x="165240" y="1133640"/>
            <a:ext cx="882648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9"/>
          <p:cNvGrpSpPr/>
          <p:nvPr/>
        </p:nvGrpSpPr>
        <p:grpSpPr>
          <a:xfrm>
            <a:off x="2411280" y="5289480"/>
            <a:ext cx="1562400" cy="1098720"/>
            <a:chOff x="2411280" y="5289480"/>
            <a:chExt cx="1562400" cy="1098720"/>
          </a:xfrm>
        </p:grpSpPr>
        <p:sp>
          <p:nvSpPr>
            <p:cNvPr id="57" name="Скругленный прямоугольник 10"/>
            <p:cNvSpPr/>
            <p:nvPr/>
          </p:nvSpPr>
          <p:spPr>
            <a:xfrm>
              <a:off x="2411280" y="5289480"/>
              <a:ext cx="1562400" cy="109872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4"/>
            <p:cNvSpPr/>
            <p:nvPr/>
          </p:nvSpPr>
          <p:spPr>
            <a:xfrm>
              <a:off x="2432880" y="5321160"/>
              <a:ext cx="15192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Это значит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о есть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чему я так думаю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3"/>
          <p:cNvGrpSpPr/>
          <p:nvPr/>
        </p:nvGrpSpPr>
        <p:grpSpPr>
          <a:xfrm>
            <a:off x="5791320" y="838080"/>
            <a:ext cx="3047760" cy="2057400"/>
            <a:chOff x="5791320" y="838080"/>
            <a:chExt cx="3047760" cy="2057400"/>
          </a:xfrm>
        </p:grpSpPr>
        <p:sp>
          <p:nvSpPr>
            <p:cNvPr id="60" name="Скругленный прямоугольник 4"/>
            <p:cNvSpPr/>
            <p:nvPr/>
          </p:nvSpPr>
          <p:spPr>
            <a:xfrm>
              <a:off x="6391080" y="1334880"/>
              <a:ext cx="2448000" cy="156060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ргументация текс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5791320" y="838080"/>
              <a:ext cx="24480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с двумя скругленными соседними углами 9"/>
          <p:cNvSpPr/>
          <p:nvPr/>
        </p:nvSpPr>
        <p:spPr>
          <a:xfrm>
            <a:off x="3811680" y="4402080"/>
            <a:ext cx="2133360" cy="1523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лкование, разворачивание, объяснение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противолежащими углами 12"/>
          <p:cNvSpPr/>
          <p:nvPr/>
        </p:nvSpPr>
        <p:spPr>
          <a:xfrm>
            <a:off x="7004160" y="4495680"/>
            <a:ext cx="1752480" cy="1524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гументация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с вырезом 13"/>
          <p:cNvSpPr/>
          <p:nvPr/>
        </p:nvSpPr>
        <p:spPr>
          <a:xfrm>
            <a:off x="5924520" y="492120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с вырезом 14"/>
          <p:cNvSpPr/>
          <p:nvPr/>
        </p:nvSpPr>
        <p:spPr>
          <a:xfrm>
            <a:off x="5791320" y="1905120"/>
            <a:ext cx="901440" cy="484200"/>
          </a:xfrm>
          <a:custGeom>
            <a:avLst/>
            <a:gdLst>
              <a:gd name="textAreaLeft" fmla="*/ 120960 w 901440"/>
              <a:gd name="textAreaRight" fmla="*/ 780480 w 9014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01" y="5400"/>
                </a:lnTo>
                <a:lnTo>
                  <a:pt x="15801" y="0"/>
                </a:lnTo>
                <a:lnTo>
                  <a:pt x="21600" y="10800"/>
                </a:lnTo>
                <a:lnTo>
                  <a:pt x="15801" y="21600"/>
                </a:lnTo>
                <a:lnTo>
                  <a:pt x="15801" y="16200"/>
                </a:lnTo>
                <a:lnTo>
                  <a:pt x="0" y="16200"/>
                </a:lnTo>
                <a:lnTo>
                  <a:pt x="29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с вырезом 15"/>
          <p:cNvSpPr/>
          <p:nvPr/>
        </p:nvSpPr>
        <p:spPr>
          <a:xfrm>
            <a:off x="2411280" y="175248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с вырезом 16"/>
          <p:cNvSpPr/>
          <p:nvPr/>
        </p:nvSpPr>
        <p:spPr>
          <a:xfrm>
            <a:off x="2552760" y="4876920"/>
            <a:ext cx="1295280" cy="484200"/>
          </a:xfrm>
          <a:custGeom>
            <a:avLst/>
            <a:gdLst>
              <a:gd name="textAreaLeft" fmla="*/ 120960 w 1295280"/>
              <a:gd name="textAreaRight" fmla="*/ 1174320 w 129528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3" y="5400"/>
                </a:lnTo>
                <a:lnTo>
                  <a:pt x="17563" y="0"/>
                </a:lnTo>
                <a:lnTo>
                  <a:pt x="21600" y="10800"/>
                </a:lnTo>
                <a:lnTo>
                  <a:pt x="17563" y="21600"/>
                </a:lnTo>
                <a:lnTo>
                  <a:pt x="17563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15228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равнительно-сопоставительная характеристика. Слова-помо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а поэта (лирических героя)…, в обоих стихотворения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как в стихотворени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оминает, можно сопоставить, похож, подобно, такой же, сх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… и… ни тот, ни другой, то же самое, почти одинаково, повто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Однако… Между тем… Тем не менее… При этом…Очевидно и различ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ница между ними очевидна, различаются, не похож, в этом они не схо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тличие от, по сравнению с, если… то, первый…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ротивоположность, по-иному, между тем, совершенно иной,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68360" y="115920"/>
            <a:ext cx="487692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яла ночь. Луной был полон сад. Лежали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учи у наших ног в гостиной без огне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яль был весь раскрыт, и струны в нем дрожал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и сердца у нас за песнию тво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ы пела до зари, в слезах изнемога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любовь, что нет любви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так хотелось жить, чтоб, звука не роняя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много лет прошло, томительных и ск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в тиши ночной твой голос слышу вновь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еет, как тогда, во вздохах этих звучных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ты одна — вся жизнь, что ты одна —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нет обид судьбы и сердца жгучей м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 жизни нет конца, и цели нет иной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только веровать в рыдающие звуки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бя любить, обнять и плакать над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А.Ф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ем сходство и различие двух стихотворений о любв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5345280" y="108000"/>
            <a:ext cx="39510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помню чудное мгнов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до мной явилась ты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омленьях грусти безнадежной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тревогах шумной суеты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вучал мне долго голос нежный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нились милые черты.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Шли годы. Бурь порыв мятежный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еял прежние меч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я забыл твой голос нежный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вои небесные черты.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ши, во мраке заточень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янулись тихо дни мои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божества, без вдохновенья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з слез, без жизни, без любви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е настало пробужденье: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от опять явилась ты,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мимолетное вид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сердце бьется в упоенье,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для него воскресли вновь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божество, и вдохновенье,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жизнь, и слезы, и любо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361880" y="2286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*  * 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8991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Оба поэта повествуют о любви, пронесенной через разлуку, и возродившей жизнь в лирических героях: при долгожданной встрече с любимой женщиной герой Фета ощущает, что  «жизни нет конца», а для пушкинского «воскресли вновь и жизнь, и слезы, и любов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d0d0d"/>
                </a:solidFill>
                <a:latin typeface="Arial"/>
              </a:rPr>
              <a:t>И для Пушкина, и для Фета любовь есть чувство "музыкальное".  Для первого память о встрече воплощается в звучании «чудного» голоса возлюбленной, для второго это "рыдающие звуки», вызванные пением возлюбленной: «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Ты пела до зар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днако надо сказать, что Фет прежде всего "слышит" свою  возлюбленную, а у Пушкина это, главным образом, зрительное впечатление: «мимолетное виденье», «милые чер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 времени, проведенном без любимой, каждый лирический герой говорит по-своему. Для обоих оно растянулось на долгие годы. Но если в пушкинском стихотворении описание «тянувшихся дней» занимает целых две строфы, то Фет уместил свою разлуку в одну строчку: "И много лет прошло, томительных и скучных", как бы желая поскорее забыть эти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 если для Фета главное - показать в двух мгновениях любвивсю силу страсти, то Пушкин изображает свою любовь более философски – как жизненный путь человека.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предлож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0" y="152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3733920" y="0"/>
            <a:ext cx="556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68360" y="25560"/>
            <a:ext cx="387504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ВЫРАЗИМОЕ     Отрывок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наш язык земной пред дивною природой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какой небрежною и лёгкою свободой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на рассыпала повсюду красоту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где, какая кисть её изобразила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Едва-едва одну её черту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 усилием поймать удастся вдохновенью.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льзя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ли в мёртвое живое пере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то мог создание в словах пересоздать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выразимое подвластно ль выраженью?.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вятые таинства, лишь сердце знает вас.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ирается в груди болезненное чувство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Хотим прекрасное в полёте удержа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енареченному хотим названье дать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обессиленно безмолвствует искусство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то видимо очам –  …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и стол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яркие черты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Легко их ловит мысль крылат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есть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для их 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блестящей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красот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о то, что слито с сей блестящей красотою –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столь смутное, волнующее н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внемлемый одной душою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бворожающего глас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к далекому стремленье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ей миновавшего привет,…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шепнувшее душе воспоминанье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 милом радостном и скорбном старины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я сходящая святыня с вышины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ие присутствие Создателя в созданье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Какой для них язык?.. Горе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�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душа летит</a:t>
            </a:r>
            <a:r>
              <a:rPr b="1" lang="ru-RU" sz="13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сё необъятное в единый вздох теснитс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 лишь молчание понятно говори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67080" y="228600"/>
            <a:ext cx="4724640" cy="63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Silentium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И.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лчи, скрывайся и та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чувства и мечты сво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скай в душевной глуб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тают и заходят о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змолвно, как звезды в но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у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сердцу высказать с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ругому как понять теб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ймет ли он, чем ты живеш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ысль изреченная есть лож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зрывая, возмутишь клю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тайся ими - и мол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шь жить в себе самом умей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ть целый мир в душе тво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инственно-волшебных ду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х оглушит наружный шу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невные разгонят лучи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нимай их пенью - и молчи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сближает размышления  лирических героев двух стихотвор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21:20:06Z</dcterms:created>
  <dc:creator>gorash</dc:creator>
  <dc:description/>
  <dc:language>en-US</dc:language>
  <cp:lastModifiedBy>user</cp:lastModifiedBy>
  <dcterms:modified xsi:type="dcterms:W3CDTF">2016-12-10T10:50:14Z</dcterms:modified>
  <cp:revision>2</cp:revision>
  <dc:subject/>
  <dc:title>Пример таблицы для сопоставления художественных произведений</dc:title>
</cp:coreProperties>
</file>