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68C-A78A-470B-877C-7567CDB8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476676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4C2-7F9E-40D2-916B-281460A3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680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561-23A1-41AC-9997-177B474C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152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476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152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476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CDF-1342-4C42-9208-7083D9AF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C55A-8BC6-4F8F-A3E7-E0CC8D9A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5F1C-B7C0-495E-A6CF-04B7609E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1C0C-9E44-4029-B2E2-B67978DB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BA4E-1376-4D51-A087-006A54C1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8819-01FC-4D63-9AA2-C12C485F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D59A-41A4-49E6-A316-EFC17E5A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8872-54ED-452C-8710-913E245D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C73-6A8C-4A31-AC39-43E221A9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680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E2FA-238B-4A6F-AEF6-2DD12B57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E332-5F77-45DD-905B-05D5C4B7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476676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7336-6645-487F-B2BF-20555441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680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DA5B-622F-431E-B8ED-5ECF7A7A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152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476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152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476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6FBF-14A5-4CF2-A5DF-3C9F3FFD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3A1-1D4F-4385-85FF-41B21585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190-154F-4FE1-8A3A-3718EA3C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655-8A4A-4418-80EA-7CECF3F1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5BF-1CB2-4407-8772-D45EE655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11F-EAE9-4556-80D2-06A104AE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680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8D9-A058-49CE-8129-B1EBE618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0A4-67D3-4EA9-9991-E333332B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3640" cy="6854760"/>
            <a:chOff x="0" y="0"/>
            <a:chExt cx="2663640" cy="6854760"/>
          </a:xfrm>
        </p:grpSpPr>
        <p:sp>
          <p:nvSpPr>
            <p:cNvPr id="1" name=""/>
            <p:cNvSpPr/>
            <p:nvPr/>
          </p:nvSpPr>
          <p:spPr>
            <a:xfrm>
              <a:off x="1978560" y="0"/>
              <a:ext cx="685080" cy="6854760"/>
            </a:xfrm>
            <a:prstGeom prst="rect">
              <a:avLst/>
            </a:prstGeom>
            <a:gradFill rotWithShape="0">
              <a:gsLst>
                <a:gs pos="0">
                  <a:srgbClr val="2e2e45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69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6248160"/>
            <a:ext cx="18986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9E3E6-444F-44A6-9DB5-E88F3AEA664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099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97FF1B-D760-4ED4-A63F-B463ABA5814B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61688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438280" y="692280"/>
            <a:ext cx="6400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я к уроку немецкого языка в 6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теме «Школ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: Фролова Ольга Викто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БОУ «Бутылицкая СОШ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195640" y="0"/>
            <a:ext cx="4321080" cy="17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e Garderob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835280" y="0"/>
            <a:ext cx="5400720" cy="17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Das Medizinzimm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4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7201080" cy="530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Die Klassenräume für die Schüler der Unterstuf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979640" y="189000"/>
            <a:ext cx="446400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e Werkstat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77440" cy="7183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124000" y="0"/>
            <a:ext cx="5113440" cy="165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r Speiserau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44000" cy="6958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124000" y="5013360"/>
            <a:ext cx="4594320" cy="1844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074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Die Sporthall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4" name="chimes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21000000">
            <a:off x="1904760" y="479160"/>
            <a:ext cx="4392360" cy="523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218038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M ERSTEN ST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 rot="240000">
            <a:off x="2701800" y="333360"/>
            <a:ext cx="350532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AS LEHRERZIMM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908000" y="189000"/>
            <a:ext cx="3841920" cy="194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DIE BIBLIOTHE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835280" y="333360"/>
            <a:ext cx="5257800" cy="87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DIE COMPUTERKLASS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4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5000"/>
            <a:ext cx="64008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59280" y="836640"/>
            <a:ext cx="496872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uten Tag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40360" y="3716280"/>
            <a:ext cx="2952720" cy="2949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835280" y="189000"/>
            <a:ext cx="4146480" cy="136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DAS KUNSTKABINET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56000" y="404280"/>
            <a:ext cx="6400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omic"/>
              </a:rPr>
              <a:t>Der wie vielte ist heu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omic"/>
              </a:rPr>
              <a:t>    </a:t>
            </a:r>
            <a:r>
              <a:rPr b="0" lang="de-DE" sz="3600" spc="-1" strike="noStrike">
                <a:solidFill>
                  <a:srgbClr val="ffffff"/>
                </a:solidFill>
                <a:latin typeface="comic"/>
              </a:rPr>
              <a:t>Welche Jahreszeit ist jetz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comic"/>
              </a:rPr>
              <a:t>Welcher Tag der Woche ist heut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ffffcc"/>
                </a:solidFill>
                <a:latin typeface="comic"/>
              </a:rPr>
              <a:t>Wie ist das Wetter heute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438280" y="1320840"/>
            <a:ext cx="6705720" cy="5348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"/>
              </a:rPr>
              <a:t>Scheint die Sonn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Wie ist der Himmel</a:t>
            </a:r>
            <a:r>
              <a:rPr b="0" lang="ru-RU" sz="3600" spc="-1" strike="noStrike">
                <a:solidFill>
                  <a:srgbClr val="ffffff"/>
                </a:solidFill>
                <a:latin typeface="comic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Weht der Wind</a:t>
            </a:r>
            <a:r>
              <a:rPr b="0" lang="ru-RU" sz="3600" spc="-1" strike="noStrike">
                <a:solidFill>
                  <a:srgbClr val="ffffff"/>
                </a:solidFill>
                <a:latin typeface="comic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Schneit 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588000" y="2349360"/>
            <a:ext cx="2556000" cy="2256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91280" y="4462560"/>
            <a:ext cx="2952720" cy="2395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182160"/>
            <a:ext cx="6400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"/>
              </a:rPr>
              <a:t>Wie heißt heutiges Thema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68360" y="1662120"/>
            <a:ext cx="6875640" cy="5195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as Gespräch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e Schulfäc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e Muttersprac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e Fremdsprac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e Turnstun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s Bast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uts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e Mathemat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e Arbeit im Schulh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spräche mit Freun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spräche mit Lehr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050920" y="3716280"/>
            <a:ext cx="4608720" cy="2017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Meine Schule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7210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348000" y="3789360"/>
            <a:ext cx="3782880" cy="2670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Im Erdgescho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ll dir="d"/>
    <p:sndAc>
      <p:stSnd>
        <p:snd r:embed="rId2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0:37:42Z</dcterms:created>
  <dc:creator>User</dc:creator>
  <dc:description/>
  <dc:language>en-US</dc:language>
  <cp:lastModifiedBy>User</cp:lastModifiedBy>
  <dcterms:modified xsi:type="dcterms:W3CDTF">2016-12-10T15:11:34Z</dcterms:modified>
  <cp:revision>90</cp:revision>
  <dc:subject/>
  <dc:title>Слайд 1</dc:title>
</cp:coreProperties>
</file>