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chimes.wav" ContentType="audio/x-wav"/>
  <Override PartName="/ppt/media/image6.jpeg" ContentType="image/jpeg"/>
  <Override PartName="/ppt/media/image4.jpeg" ContentType="image/jpeg"/>
  <Override PartName="/ppt/media/image7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B0D5-0723-46B0-8680-12E3EA406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6397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4766760"/>
            <a:ext cx="6397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E2B7-3C0F-4FAE-A967-7E0B2260C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3121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6800" y="1599840"/>
            <a:ext cx="3121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4766760"/>
            <a:ext cx="3121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6800" y="4766760"/>
            <a:ext cx="3121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8A59-98D6-4122-A448-689018943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2059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1520" y="1599840"/>
            <a:ext cx="2059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4760" y="1599840"/>
            <a:ext cx="2059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4766760"/>
            <a:ext cx="2059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1520" y="4766760"/>
            <a:ext cx="2059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4760" y="4766760"/>
            <a:ext cx="2059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54A4-08F5-414F-B205-0728B5534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0E427-3A4F-41FA-AFFA-E25ED521B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438280" y="1599840"/>
            <a:ext cx="6397920" cy="60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0280C-9A70-4CAB-B96A-5FE13B6A7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639792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5FA36-43A7-4453-9913-E402BE88D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312192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716800" y="1599840"/>
            <a:ext cx="312192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F02CB-7EA2-41F7-9A1C-354584893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FE466-2787-4BBE-95C0-777D7236F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438280" y="228600"/>
            <a:ext cx="639792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FB580-12F0-4656-8CF3-4923714ED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3121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716800" y="1599840"/>
            <a:ext cx="312192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438280" y="4766760"/>
            <a:ext cx="3121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4814B-0529-44AC-9474-3B88D7231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599840"/>
            <a:ext cx="6397920" cy="60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4489-2FB7-41E6-A099-6F9F2F38F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312192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716800" y="1599840"/>
            <a:ext cx="3121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716800" y="4766760"/>
            <a:ext cx="3121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BE45E-0D31-43AA-BFF5-1B78CA219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3121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16800" y="1599840"/>
            <a:ext cx="3121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438280" y="4766760"/>
            <a:ext cx="6397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4510C-5BC8-4C2E-9AE3-E477D3E8B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6397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438280" y="4766760"/>
            <a:ext cx="6397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CE9B2-8E79-4E55-810E-DB42063B7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3121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716800" y="1599840"/>
            <a:ext cx="3121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438280" y="4766760"/>
            <a:ext cx="3121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716800" y="4766760"/>
            <a:ext cx="3121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E568E-126E-462E-B8F0-53D7F5416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2059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01520" y="1599840"/>
            <a:ext cx="2059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764760" y="1599840"/>
            <a:ext cx="2059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438280" y="4766760"/>
            <a:ext cx="2059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601520" y="4766760"/>
            <a:ext cx="2059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764760" y="4766760"/>
            <a:ext cx="2059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5BB01-989B-4D7C-9AB8-779ABB61A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639792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28BF-418A-4DDE-8FD6-6707671AD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312192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6800" y="1599840"/>
            <a:ext cx="312192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FE59-D042-4F50-A3C6-148D6F9DF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0300-358C-4DDE-A364-DB679E48E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600"/>
            <a:ext cx="639792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2EA5-4833-4EA3-9691-55ED22111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3121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6800" y="1599840"/>
            <a:ext cx="312192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4766760"/>
            <a:ext cx="3121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D472-6129-4F36-8B1B-EE67E418F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312192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6800" y="1599840"/>
            <a:ext cx="3121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6800" y="4766760"/>
            <a:ext cx="3121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7E23-68AF-44B6-988B-5B28CB1A5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3121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6800" y="1599840"/>
            <a:ext cx="3121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4766760"/>
            <a:ext cx="6397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6B6D-72A2-4C34-9B5A-B6684774E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3640" cy="6854760"/>
            <a:chOff x="0" y="0"/>
            <a:chExt cx="2663640" cy="6854760"/>
          </a:xfrm>
        </p:grpSpPr>
        <p:sp>
          <p:nvSpPr>
            <p:cNvPr id="1" name=""/>
            <p:cNvSpPr/>
            <p:nvPr/>
          </p:nvSpPr>
          <p:spPr>
            <a:xfrm>
              <a:off x="1978560" y="0"/>
              <a:ext cx="685080" cy="6854760"/>
            </a:xfrm>
            <a:prstGeom prst="rect">
              <a:avLst/>
            </a:prstGeom>
            <a:gradFill rotWithShape="0">
              <a:gsLst>
                <a:gs pos="0">
                  <a:srgbClr val="2e2e45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6960" cy="6854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599840"/>
            <a:ext cx="639792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2280" y="6248160"/>
            <a:ext cx="189864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83DB9A-6B4C-4572-9A23-4107C9B79FAA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099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50DF4D2-9835-46AF-8BB6-CEA90836FEE6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8080" y="1371600"/>
            <a:ext cx="7616880" cy="20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2438280" y="692280"/>
            <a:ext cx="640080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buClr>
                <a:srgbClr val="66ccff"/>
              </a:buClr>
              <a:buSzPct val="70000"/>
              <a:buFont typeface="Wingdings" charset="2"/>
              <a:buChar char="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асть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buClr>
                <a:srgbClr val="66ccff"/>
              </a:buClr>
              <a:buSzPct val="70000"/>
              <a:buFont typeface="Wingdings" charset="2"/>
              <a:buChar char="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езентация к уроку немецкого языка в 6 класс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buClr>
                <a:srgbClr val="66ccff"/>
              </a:buClr>
              <a:buSzPct val="70000"/>
              <a:buFont typeface="Wingdings" charset="2"/>
              <a:buChar char="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 теме «Школа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buClr>
                <a:srgbClr val="66ccff"/>
              </a:buClr>
              <a:buSzPct val="70000"/>
              <a:buFont typeface="Wingdings" charset="2"/>
              <a:buChar char="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читель: Фролова Ольга Викторо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buClr>
                <a:srgbClr val="66ccff"/>
              </a:buClr>
              <a:buSzPct val="70000"/>
              <a:buFont typeface="Wingdings" charset="2"/>
              <a:buChar char="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БОУ «Бутылицкая СОШ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1979640" y="260280"/>
            <a:ext cx="4876920" cy="874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e3e02"/>
                    </a:gs>
                    <a:gs pos="100000">
                      <a:srgbClr val="ffe701"/>
                    </a:gs>
                  </a:gsLst>
                  <a:lin ang="5400000"/>
                </a:gradFill>
                <a:latin typeface="Impact"/>
              </a:rPr>
              <a:t>DAS MATHEMATIKKABINET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e3e02"/>
                  </a:gs>
                  <a:gs pos="100000">
                    <a:srgbClr val="ffe701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slow">
    <p:pull dir="d"/>
    <p:sndAc>
      <p:stSnd>
        <p:snd r:embed="rId2" name="chimes.wav"/>
      </p:stSnd>
    </p:sndAc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624560" y="496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547640" y="0"/>
            <a:ext cx="3086280" cy="1125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000000">
                      <a:alpha val="80000"/>
                    </a:srgbClr>
                  </a:outerShdw>
                </a:effectLst>
                <a:latin typeface="Arial"/>
              </a:rPr>
              <a:t>DAS MUSEUM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00000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pull dir="d"/>
    <p:sndAc>
      <p:stSnd>
        <p:snd r:embed="rId4" name="chimes.wav"/>
      </p:stSnd>
    </p:sndAc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396360" cy="69105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1547640" y="0"/>
            <a:ext cx="4824720" cy="1268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DAS DIREKTORSKABINETT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pull dir="d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1403280" y="0"/>
            <a:ext cx="5708880" cy="1197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000000">
                      <a:alpha val="80000"/>
                    </a:srgbClr>
                  </a:outerShdw>
                </a:effectLst>
                <a:latin typeface="Arial"/>
              </a:rPr>
              <a:t>DAS BIOLOGIEKABINETT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00000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pull dir="d"/>
    <p:sndAc>
      <p:stSnd>
        <p:snd r:embed="rId4" name="chimes.wav"/>
      </p:stSnd>
    </p:sndAc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-324000" y="-104760"/>
            <a:ext cx="9468000" cy="69627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1835280" y="404640"/>
            <a:ext cx="4525920" cy="936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AS CHEMIEKABINET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pull dir="d"/>
    <p:sndAc>
      <p:stSnd>
        <p:snd r:embed="rId2" name="chimes.wav"/>
      </p:stSnd>
    </p:sndAc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6804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2700360" y="0"/>
            <a:ext cx="2940120" cy="141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000000">
                      <a:alpha val="80000"/>
                    </a:srgbClr>
                  </a:outerShdw>
                </a:effectLst>
                <a:latin typeface="Arial"/>
              </a:rPr>
              <a:t>DIE AULA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00000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pull dir="d"/>
    <p:sndAc>
      <p:stSnd>
        <p:snd r:embed="rId4" name="chimes.wav"/>
      </p:stSnd>
    </p:sndAc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1332000" y="333360"/>
            <a:ext cx="4260600" cy="1566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e3e02"/>
                    </a:gs>
                    <a:gs pos="100000">
                      <a:srgbClr val="ffe701"/>
                    </a:gs>
                  </a:gsLst>
                  <a:lin ang="5400000"/>
                </a:gradFill>
                <a:latin typeface="Impact"/>
              </a:rPr>
              <a:t>IM ZWIETEN STOC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e3e02"/>
                  </a:gs>
                  <a:gs pos="100000">
                    <a:srgbClr val="ffe701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slow">
    <p:pull dir="d"/>
    <p:sndAc>
      <p:stSnd>
        <p:snd r:embed="rId2" name="chimes.wav"/>
      </p:stSnd>
    </p:sndAc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325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826920" y="0"/>
            <a:ext cx="4181760" cy="148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AS DEUTSCHKABINETT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pull dir="d"/>
    <p:sndAc>
      <p:stSnd>
        <p:snd r:embed="rId2" name="chimes.wav"/>
      </p:stSnd>
    </p:sndAc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-150840"/>
            <a:ext cx="9144000" cy="71452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2627280" y="0"/>
            <a:ext cx="4381560" cy="9050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AS RUSSISCHKABINET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pull dir="d"/>
    <p:sndAc>
      <p:stSnd>
        <p:snd r:embed="rId2" name="chimes.wav"/>
      </p:stSnd>
    </p:sndAc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0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1476360" y="0"/>
            <a:ext cx="6134040" cy="8762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000000">
                      <a:alpha val="80000"/>
                    </a:srgbClr>
                  </a:outerShdw>
                </a:effectLst>
                <a:latin typeface="Arial"/>
              </a:rPr>
              <a:t>DAS GESCHCHTEKABINETT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00000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pull dir="d"/>
    <p:sndAc>
      <p:stSnd>
        <p:snd r:embed="rId4" name="chimes.wav"/>
      </p:stSnd>
    </p:sndAc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7T10:37:42Z</dcterms:created>
  <dc:creator>User</dc:creator>
  <dc:description/>
  <dc:language>en-US</dc:language>
  <cp:lastModifiedBy>User</cp:lastModifiedBy>
  <dcterms:modified xsi:type="dcterms:W3CDTF">2016-12-10T15:19:09Z</dcterms:modified>
  <cp:revision>92</cp:revision>
  <dc:subject/>
  <dc:title>Слайд 1</dc:title>
</cp:coreProperties>
</file>