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32F-22B0-4595-B08A-16947602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EF0-5DF7-42E5-835E-07C0353E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526-A731-4C9F-90E6-18F866EF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152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476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152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476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3FA-7AB5-4774-B2B4-CD730A58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3B80-DCFB-4962-996C-DD01918E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AB7D-CC69-467C-A59C-20E0B34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00DA-4162-40D8-B68B-A03C77B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0758-662D-425E-B3B8-A2963C1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A977-2F41-47FB-A33F-FBDD55B8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177A-5340-49E8-9AC1-1C962CD0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6FDD-87DB-43DE-9AB6-8FA0010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7A2-B514-4DD8-87F1-90A894C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616-9E66-4FBE-ABC2-2819590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42AA-91B2-43EA-82B4-91950E1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9748-73C8-4A87-8205-969FA40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865-0700-43F1-AF3A-F72ADC72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152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4760" y="159984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152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4760" y="4766760"/>
            <a:ext cx="2059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FF0-FF2B-43C4-ADBF-DE0006E0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51C-C677-4FB5-AB9D-1B24F7EA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E93-65E9-437C-8C5C-4C2D8F8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358-2BA0-4B06-B60A-1606327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79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DD2-D659-4442-9CDF-80413CC7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52E-4454-440D-8F49-B02E599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0" y="476676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F76-8783-4FA4-8D77-AAE97DD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0" y="1599840"/>
            <a:ext cx="3121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4766760"/>
            <a:ext cx="639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738-B028-419E-8B6B-B834A65F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3640" cy="6854760"/>
            <a:chOff x="0" y="0"/>
            <a:chExt cx="2663640" cy="6854760"/>
          </a:xfrm>
        </p:grpSpPr>
        <p:sp>
          <p:nvSpPr>
            <p:cNvPr id="1" name=""/>
            <p:cNvSpPr/>
            <p:nvPr/>
          </p:nvSpPr>
          <p:spPr>
            <a:xfrm>
              <a:off x="1978560" y="0"/>
              <a:ext cx="685080" cy="6854760"/>
            </a:xfrm>
            <a:prstGeom prst="rect">
              <a:avLst/>
            </a:prstGeom>
            <a:gradFill rotWithShape="0">
              <a:gsLst>
                <a:gs pos="0">
                  <a:srgbClr val="2e2e45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69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79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599840"/>
            <a:ext cx="639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160"/>
            <a:ext cx="1898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AC02E-0DDE-42BB-AE05-D95CE33F0B6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7B106C-BCE9-4926-ACC2-447DAB53ECA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688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к уроку немецкого языка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теме «Шко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: Фролова Ольга Викто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«Бутылиц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43200" y="0"/>
            <a:ext cx="6400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hast du in der Stunde gemac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 du viel gesproch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 du geles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 du an der Lexik und Grammatik gearbeit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 du viel geschrieb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473280"/>
            <a:ext cx="2771640" cy="338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5000"/>
            <a:ext cx="64008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не знал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йчас я знаю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захоте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71640" y="26028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1491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Достигнута ли цель?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4360" y="4697280"/>
            <a:ext cx="197964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438280" y="260280"/>
            <a:ext cx="639936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 machen die Schül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den Stu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40360" y="1800360"/>
            <a:ext cx="4787640" cy="475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124000" y="260280"/>
            <a:ext cx="525636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d8db3"/>
                </a:soli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IN DER MATHEMATIKSTUND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8d8db3"/>
              </a:soli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843280" y="260280"/>
            <a:ext cx="447660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DER RUSSISCHSTUN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627280" y="18900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DER BIOLOGIESTU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476360" y="0"/>
            <a:ext cx="61200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IN DER DEUTSCHSTUND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76360" y="0"/>
            <a:ext cx="6120000" cy="87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IN DER DEUTSCHSTUND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15920"/>
            <a:ext cx="614700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In der Geographiestu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strips dir="rd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42920" y="549360"/>
            <a:ext cx="6337440" cy="85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der Geschichtsstu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37:42Z</dcterms:created>
  <dc:creator>User</dc:creator>
  <dc:description/>
  <dc:language>en-US</dc:language>
  <cp:lastModifiedBy>User</cp:lastModifiedBy>
  <dcterms:modified xsi:type="dcterms:W3CDTF">2016-12-10T15:18:46Z</dcterms:modified>
  <cp:revision>92</cp:revision>
  <dc:subject/>
  <dc:title>Слайд 1</dc:title>
</cp:coreProperties>
</file>