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9.png" ContentType="image/png"/>
  <Override PartName="/ppt/media/image22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B9DE-73D8-4470-96E4-E3C34054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61F-1181-4B9B-B15A-C1A0747A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0628-B2C6-4B75-BCE1-88D060CE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6DC0-3362-413C-87E2-AE0902D3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8AE3-7B66-4468-AEA0-CE070A39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5F50-21BD-4B6A-882D-9537AC7B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9E7B-52C7-492F-A4EC-2334B934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D5C5-EA3D-4248-970A-1329C8AF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9AC2-4B6B-4246-AAE2-B033F9F9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996B-BA94-4D5E-A8F4-426E28F8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839A-CC1E-4D49-B595-226E38B3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B47-CCF7-489C-ACCB-3E82D434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F374-569B-455C-AF23-250334B4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B8ED-C573-4C96-8CD9-DC7D3845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A712-9AD8-4999-9497-9123F95C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F553-13DF-43A8-97A7-27CB3B3A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4DEF-711F-4AE9-AE53-8EEE962A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356-F350-48AE-A4BF-1E224052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1FE6-8E33-43DB-B857-AF873362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F0D-9A35-42EA-AF78-1EEC007B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C36-1B05-4736-9711-BA96A41B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09C2-3DDE-4C0A-B39A-98A4BFC9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9054-9900-4E86-B9F0-296605A7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A65-64F9-4E2B-B34C-C6AE06C9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F9D3-BD0E-47DE-8E05-B77E7A05EC8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061E-118F-42D1-9EEF-DF084B46D0E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11280" y="691920"/>
            <a:ext cx="813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БОУ г. Москвы детский сад № 69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г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 Зимние виды спорта»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е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готовительной групп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0556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0556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дготовили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0556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итель-логопед         Кузнецова А.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питатель             Федина В.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0556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0556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05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1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3024000" cy="27003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" descr=""/>
          <p:cNvPicPr/>
          <p:nvPr/>
        </p:nvPicPr>
        <p:blipFill>
          <a:blip r:embed="rId2"/>
          <a:stretch/>
        </p:blipFill>
        <p:spPr>
          <a:xfrm>
            <a:off x="2208240" y="4073400"/>
            <a:ext cx="4638600" cy="20782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3" descr=""/>
          <p:cNvPicPr/>
          <p:nvPr/>
        </p:nvPicPr>
        <p:blipFill>
          <a:blip r:embed="rId3"/>
          <a:stretch/>
        </p:blipFill>
        <p:spPr>
          <a:xfrm>
            <a:off x="4718160" y="836640"/>
            <a:ext cx="36525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Игр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Кто где занимается?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 rot="10800000">
            <a:off x="684360" y="548280"/>
            <a:ext cx="7772400" cy="493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                          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551628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6" descr="хок"/>
          <p:cNvPicPr/>
          <p:nvPr/>
        </p:nvPicPr>
        <p:blipFill>
          <a:blip r:embed="rId1"/>
          <a:stretch/>
        </p:blipFill>
        <p:spPr>
          <a:xfrm>
            <a:off x="557280" y="3816360"/>
            <a:ext cx="3510000" cy="2635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fetisov"/>
          <p:cNvPicPr/>
          <p:nvPr/>
        </p:nvPicPr>
        <p:blipFill>
          <a:blip r:embed="rId2"/>
          <a:stretch/>
        </p:blipFill>
        <p:spPr>
          <a:xfrm>
            <a:off x="557280" y="998640"/>
            <a:ext cx="2251080" cy="2409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"/>
          <p:cNvPicPr/>
          <p:nvPr/>
        </p:nvPicPr>
        <p:blipFill>
          <a:blip r:embed="rId3"/>
          <a:stretch/>
        </p:blipFill>
        <p:spPr>
          <a:xfrm>
            <a:off x="4716360" y="3816360"/>
            <a:ext cx="36370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52 -0.11574 C 0.06007 -0.11991 0.05035 -0.11736 0.0618 -0.11389 C 0.07482 -0.10995 0.09375 -0.10579 0.10694 -0.10463 C 0.13107 -0.10208 0.15538 -0.10208 0.17951 -0.10069 C 0.24132 -0.0831 0.30642 -0.0919 0.36823 -0.10625 C 0.37517 -0.11134 0.38628 -0.11991 0.3941 -0.12361 C 0.39826 -0.12546 0.40278 -0.12569 0.40677 -0.12755 C 0.41892 -0.1419 0.42396 -0.13264 0.43923 -0.15046 C 0.45069 -0.16389 0.44531 -0.15833 0.45538 -0.16759 C 0.45764 -0.17639 0.4625 -0.17847 0.46823 -0.18472 C 0.47552 -0.19305 0.48316 -0.20092 0.4908 -0.20972 C 0.50243 -0.22361 0.49357 -0.21898 0.50364 -0.22292 C 0.51146 -0.23542 0.51528 -0.25023 0.52482 -0.26111 C 0.53403 -0.29005 0.51944 -0.2456 0.53437 -0.28403 C 0.54028 -0.29977 0.54253 -0.31921 0.54705 -0.33565 C 0.55017 -0.36435 0.55625 -0.3993 0.5375 -0.42176 C 0.53437 -0.43426 0.53906 -0.42222 0.53107 -0.42917 C 0.52031 -0.43912 0.53472 -0.43217 0.52291 -0.4368 C 0.51267 -0.4463 0.50191 -0.44676 0.48923 -0.44815 C 0.44844 -0.44792 0.40746 -0.44768 0.36666 -0.44653 C 0.35972 -0.44653 0.3526 -0.44514 0.34566 -0.44444 C 0.33646 -0.44375 0.31823 -0.44259 0.31823 -0.44236 E">
                                      <p:cBhvr>
                                        <p:cTn id="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3" descr="i2_.jpg"/>
          <p:cNvPicPr/>
          <p:nvPr/>
        </p:nvPicPr>
        <p:blipFill>
          <a:blip r:embed="rId1"/>
          <a:stretch/>
        </p:blipFill>
        <p:spPr>
          <a:xfrm>
            <a:off x="468360" y="476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" descr="IMG_9932.jpg"/>
          <p:cNvPicPr/>
          <p:nvPr/>
        </p:nvPicPr>
        <p:blipFill>
          <a:blip r:embed="rId2"/>
          <a:stretch/>
        </p:blipFill>
        <p:spPr>
          <a:xfrm>
            <a:off x="4859280" y="3649680"/>
            <a:ext cx="3816360" cy="2852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3"/>
          <a:stretch/>
        </p:blipFill>
        <p:spPr>
          <a:xfrm>
            <a:off x="711360" y="3649680"/>
            <a:ext cx="35654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26 0.17314 C 0.08698 0.15995 0.09705 0.14722 0.10938 0.13865 C 0.11875 0.12014 0.10608 0.14328 0.11754 0.12801 C 0.12362 0.1199 0.11806 0.11689 0.12726 0.11296 C 0.12934 0.09606 0.13334 0.08912 0.14341 0.07847 C 0.14948 0.04953 0.16389 0.02639 0.17553 0.00115 C 0.18039 -0.00926 0.1823 -0.02269 0.18681 -0.03334 C 0.19254 -0.04723 0.19306 -0.0426 0.19653 -0.05486 C 0.20122 -0.07153 0.20365 -0.08727 0.21112 -0.10209 C 0.21233 -0.10903 0.2165 -0.11459 0.21754 -0.12153 C 0.22049 -0.14051 0.22049 -0.16042 0.2224 -0.17963 C 0.22344 -0.20834 0.22292 -0.23264 0.23039 -0.25926 C 0.22934 -0.36111 0.22882 -0.46274 0.22726 -0.56459 C 0.22691 -0.58611 0.22483 -0.60672 0.21598 -0.62477 C 0.21407 -0.63959 0.21424 -0.65348 0.20782 -0.66551 C 0.2066 -0.67454 0.20521 -0.68287 0.20296 -0.69144 C 0.19462 -0.68774 0.19549 -0.68287 0.19341 -0.67199 C 0.19167 -0.66297 0.18855 -0.65695 0.18368 -0.65047 C 0.18316 -0.64838 0.18264 -0.64607 0.18195 -0.64399 C 0.18108 -0.64167 0.17952 -0.64005 0.17882 -0.63774 C 0.17796 -0.63426 0.179 -0.62963 0.17726 -0.62686 C 0.17587 -0.62454 0.17292 -0.62547 0.17066 -0.62477 C 0.16042 -0.59676 0.1349 -0.58334 0.11424 -0.57315 C 0.11129 -0.57176 0.10903 -0.56852 0.10625 -0.56667 C 0.09723 -0.56111 0.08855 -0.55787 0.07882 -0.55602 C 0.05174 -0.54236 0.02205 -0.54445 -0.00659 -0.54306 C -0.01944 -0.54121 -0.03281 -0.53936 -0.04531 -0.53449 C -0.05607 -0.53033 -0.06632 -0.52061 -0.0776 -0.51945 C -0.11788 -0.51528 -0.0927 -0.51713 -0.15347 -0.51713 E">
                                      <p:cBhvr>
                                        <p:cTn id="1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Игр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Выбери     зимние               виды спорт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4" descr="188640.jpg"/>
          <p:cNvPicPr/>
          <p:nvPr/>
        </p:nvPicPr>
        <p:blipFill>
          <a:blip r:embed="rId1"/>
          <a:stretch/>
        </p:blipFill>
        <p:spPr>
          <a:xfrm>
            <a:off x="3635280" y="2805120"/>
            <a:ext cx="2414520" cy="19270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7" descr="1265365148.jpg"/>
          <p:cNvPicPr/>
          <p:nvPr/>
        </p:nvPicPr>
        <p:blipFill>
          <a:blip r:embed="rId2"/>
          <a:stretch/>
        </p:blipFill>
        <p:spPr>
          <a:xfrm>
            <a:off x="6094440" y="2798640"/>
            <a:ext cx="2581200" cy="193536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8" descr="i2_.jpg"/>
          <p:cNvPicPr/>
          <p:nvPr/>
        </p:nvPicPr>
        <p:blipFill>
          <a:blip r:embed="rId3"/>
          <a:stretch/>
        </p:blipFill>
        <p:spPr>
          <a:xfrm>
            <a:off x="755640" y="4732200"/>
            <a:ext cx="2408400" cy="19098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9" descr="db06b8098dc3.jpg"/>
          <p:cNvPicPr/>
          <p:nvPr/>
        </p:nvPicPr>
        <p:blipFill>
          <a:blip r:embed="rId4"/>
          <a:stretch/>
        </p:blipFill>
        <p:spPr>
          <a:xfrm>
            <a:off x="179280" y="333360"/>
            <a:ext cx="1440000" cy="1535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5"/>
          <a:stretch/>
        </p:blipFill>
        <p:spPr>
          <a:xfrm>
            <a:off x="822240" y="2852640"/>
            <a:ext cx="2233800" cy="1673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"/>
          <p:cNvPicPr/>
          <p:nvPr/>
        </p:nvPicPr>
        <p:blipFill>
          <a:blip r:embed="rId6"/>
          <a:stretch/>
        </p:blipFill>
        <p:spPr>
          <a:xfrm>
            <a:off x="3419640" y="4729320"/>
            <a:ext cx="2447640" cy="1931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"/>
          <p:cNvPicPr/>
          <p:nvPr/>
        </p:nvPicPr>
        <p:blipFill>
          <a:blip r:embed="rId7"/>
          <a:stretch/>
        </p:blipFill>
        <p:spPr>
          <a:xfrm>
            <a:off x="6084720" y="4695840"/>
            <a:ext cx="24480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2245 C 0.04827 0.12129 0.04948 0.13009 0.07743 0.11458 C 0.07882 0.11273 0.08004 0.11041 0.08195 0.10879 C 0.08421 0.10694 0.08733 0.10717 0.08924 0.10486 C 0.10417 0.0868 0.11146 0.06319 0.1224 0.0419 C 0.12448 0.0331 0.12934 0.02615 0.13282 0.01828 C 0.13664 -0.00278 0.14514 -0.02199 0.14931 -0.04283 C 0.14966 -0.04468 0.15365 -0.06204 0.15521 -0.06852 C 0.15625 -0.07223 0.15834 -0.0801 0.15834 -0.07986 C 0.16181 -0.1632 0.17309 -0.22223 0.12969 -0.27894 C 0.12761 -0.28704 0.12309 -0.28982 0.11789 -0.29468 C 0.10556 -0.30602 0.09202 -0.31852 0.07743 -0.32223 C 0.07535 -0.32338 0.07344 -0.32547 0.07136 -0.32639 C 0.06893 -0.32732 0.06615 -0.32685 0.06372 -0.32824 C 0.05955 -0.33056 0.05591 -0.33473 0.05191 -0.33797 C 0.04688 -0.3419 0.03941 -0.34213 0.03403 -0.34398 C 0.0224 -0.35278 0.01268 -0.35741 -0.00052 -0.35973 C -0.02448 -0.375 -0.0618 -0.36875 -0.08437 -0.36945 C -0.1342 -0.36667 -0.1842 -0.36158 -0.2342 -0.36158 E">
                                      <p:cBhvr>
                                        <p:cTn id="1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56 0.0963 C 0.00017 0.09746 0.03958 0.10579 0.06545 0.0919 C 0.07135 0.08473 0.07483 0.07709 0.0816 0.07084 C 0.08472 0.06227 0.08941 0.05556 0.09288 0.04723 C 0.09861 0.03334 0.10399 0.01945 0.10903 0.00487 C 0.11337 -0.03518 0.11528 -0.07407 0.11858 -0.11435 C 0.11805 -0.17083 0.13663 -0.23588 0.11059 -0.2824 C 0.10729 -0.29606 0.1118 -0.28125 0.10417 -0.2949 C 0.10035 -0.30231 0.09739 -0.30972 0.09288 -0.3162 C 0.08993 -0.32083 0.08576 -0.32407 0.08316 -0.32916 C 0.06528 -0.36365 0.0316 -0.37708 0.00243 -0.38449 C -0.00868 -0.38726 -0.02031 -0.39166 -0.03142 -0.39305 C -0.04271 -0.39444 -0.05399 -0.39444 -0.06528 -0.39513 C -0.11684 -0.41666 -0.07917 -0.39907 -0.21042 -0.39513 C -0.22292 -0.39351 -0.22691 -0.39444 -0.23629 -0.38657 C -0.23958 -0.37963 -0.24358 -0.37361 -0.24757 -0.36736 C -0.24896 -0.36504 -0.25243 -0.36088 -0.25243 -0.36064 E">
                                      <p:cBhvr>
                                        <p:cTn id="2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55 0.09537 C 0.07413 0.10416 0.04166 0.08935 0.096 0.09977 C 0.10295 0.10115 0.1085 0.10856 0.11527 0.11041 C 0.12795 0.11389 0.14114 0.1162 0.15399 0.11898 C 0.19062 0.11759 0.22708 0.11666 0.26371 0.11481 C 0.27708 0.11412 0.29062 0.10463 0.30399 0.10185 C 0.31302 0.09583 0.32187 0.0912 0.33142 0.0868 C 0.34114 0.07639 0.35034 0.06713 0.36198 0.06111 C 0.37031 0.05208 0.3743 0.04861 0.38472 0.04606 C 0.39895 0.03032 0.38576 0.04282 0.40555 0.03102 C 0.41423 0.02569 0.42031 0.01435 0.42812 0.00717 C 0.43368 -0.00371 0.42986 0.00208 0.44114 -0.00787 C 0.44809 -0.01389 0.45694 -0.02778 0.46527 -0.03148 C 0.47031 -0.0382 0.47604 -0.0426 0.48142 -0.04861 C 0.49843 -0.06713 0.51597 -0.08519 0.53472 -0.10023 C 0.54427 -0.10787 0.54514 -0.11389 0.55555 -0.11736 C 0.56198 -0.12385 0.56909 -0.12963 0.575 -0.13681 C 0.5842 -0.14815 0.59479 -0.16806 0.60555 -0.17778 C 0.60954 -0.18542 0.61527 -0.19121 0.61857 -0.19931 C 0.62604 -0.2176 0.61579 -0.20371 0.62986 -0.21852 C 0.63264 -0.2301 0.62968 -0.22107 0.63784 -0.23357 C 0.64097 -0.2382 0.6427 -0.24422 0.646 -0.24861 C 0.64739 -0.25047 0.6493 -0.25116 0.65069 -0.25301 C 0.6526 -0.25556 0.65382 -0.2588 0.65555 -0.26158 C 0.65711 -0.26389 0.65885 -0.26598 0.66041 -0.26806 C 0.66284 -0.28102 0.66979 -0.29283 0.67812 -0.30023 C 0.68177 -0.32269 0.67673 -0.30162 0.68472 -0.31736 C 0.68819 -0.32431 0.68698 -0.33287 0.69114 -0.34121 C 0.6927 -0.34977 0.69375 -0.35857 0.696 -0.3669 C 0.69652 -0.37199 0.69618 -0.37732 0.69757 -0.38195 C 0.69895 -0.38681 0.70399 -0.39491 0.70399 -0.39468 C 0.70573 -0.40926 0.71076 -0.42292 0.72014 -0.43148 C 0.72274 -0.44213 0.72968 -0.44838 0.73472 -0.45718 C 0.73715 -0.46135 0.74114 -0.47014 0.74114 -0.46991 C 0.74375 -0.48426 0.74479 -0.49283 0.746 -0.5088 C 0.74531 -0.53588 0.75156 -0.58889 0.72343 -0.60139 C 0.71458 -0.6132 0.70503 -0.62176 0.6927 -0.625 C 0.68628 -0.63357 0.68819 -0.63357 0.67656 -0.63357 C 0.64965 -0.63357 0.62291 -0.63218 0.596 -0.63148 C 0.59323 -0.63079 0.58784 -0.6294 0.58784 -0.62917 E">
                                      <p:cBhvr>
                                        <p:cTn id="2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01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азови спортсменов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378240" cy="2941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2"/>
          <a:stretch/>
        </p:blipFill>
        <p:spPr>
          <a:xfrm>
            <a:off x="4716360" y="1584360"/>
            <a:ext cx="405792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2" descr="fetisov.jpg"/>
          <p:cNvPicPr/>
          <p:nvPr/>
        </p:nvPicPr>
        <p:blipFill>
          <a:blip r:embed="rId1"/>
          <a:stretch/>
        </p:blipFill>
        <p:spPr>
          <a:xfrm>
            <a:off x="1258920" y="549360"/>
            <a:ext cx="2665440" cy="25700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" descr=""/>
          <p:cNvPicPr/>
          <p:nvPr/>
        </p:nvPicPr>
        <p:blipFill>
          <a:blip r:embed="rId2"/>
          <a:stretch/>
        </p:blipFill>
        <p:spPr>
          <a:xfrm>
            <a:off x="622440" y="3346560"/>
            <a:ext cx="3662280" cy="30337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2" descr=""/>
          <p:cNvPicPr/>
          <p:nvPr/>
        </p:nvPicPr>
        <p:blipFill>
          <a:blip r:embed="rId3"/>
          <a:stretch/>
        </p:blipFill>
        <p:spPr>
          <a:xfrm>
            <a:off x="5364000" y="3346560"/>
            <a:ext cx="339408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22-9-big"/>
          <p:cNvPicPr/>
          <p:nvPr/>
        </p:nvPicPr>
        <p:blipFill>
          <a:blip r:embed="rId1"/>
          <a:stretch/>
        </p:blipFill>
        <p:spPr>
          <a:xfrm>
            <a:off x="250920" y="17733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540766839"/>
          <p:cNvPicPr/>
          <p:nvPr/>
        </p:nvPicPr>
        <p:blipFill>
          <a:blip r:embed="rId2"/>
          <a:stretch/>
        </p:blipFill>
        <p:spPr>
          <a:xfrm>
            <a:off x="4716360" y="1763640"/>
            <a:ext cx="381636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39640" y="1620720"/>
            <a:ext cx="3384720" cy="3276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4346640" y="1620720"/>
            <a:ext cx="4344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Picture 4" descr="sani_b(7)__4752mv2"/>
          <p:cNvPicPr/>
          <p:nvPr/>
        </p:nvPicPr>
        <p:blipFill>
          <a:blip r:embed="rId1"/>
          <a:stretch/>
        </p:blipFill>
        <p:spPr>
          <a:xfrm>
            <a:off x="4211640" y="2205000"/>
            <a:ext cx="4103640" cy="2730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700x"/>
          <p:cNvPicPr/>
          <p:nvPr/>
        </p:nvPicPr>
        <p:blipFill>
          <a:blip r:embed="rId2"/>
          <a:stretch/>
        </p:blipFill>
        <p:spPr>
          <a:xfrm>
            <a:off x="468360" y="1484280"/>
            <a:ext cx="32925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Игр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39280" y="1484280"/>
            <a:ext cx="8425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Кому что нужно?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1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3" descr=""/>
          <p:cNvPicPr/>
          <p:nvPr/>
        </p:nvPicPr>
        <p:blipFill>
          <a:blip r:embed="rId2"/>
          <a:stretch/>
        </p:blipFill>
        <p:spPr>
          <a:xfrm>
            <a:off x="5068800" y="3449520"/>
            <a:ext cx="3535560" cy="2649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3"/>
          <a:stretch/>
        </p:blipFill>
        <p:spPr>
          <a:xfrm>
            <a:off x="5068800" y="476280"/>
            <a:ext cx="33829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2T19:44:05Z</dcterms:created>
  <dc:creator>Владелец</dc:creator>
  <dc:description/>
  <dc:language>en-US</dc:language>
  <cp:lastModifiedBy>Admin</cp:lastModifiedBy>
  <dcterms:modified xsi:type="dcterms:W3CDTF">2016-12-11T17:09:20Z</dcterms:modified>
  <cp:revision>42</cp:revision>
  <dc:subject/>
  <dc:title>                            </dc:title>
</cp:coreProperties>
</file>