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6606-9B8B-4EF4-885F-D4687A264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FAC7-0C4E-46C5-9AC4-88323A6EA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AB1B-8DDD-4994-AB9F-9EBEA5D89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6B9B-B960-4636-821B-9EAD14D3D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C8E8-00F1-4982-ABD5-27E78E6A5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B27-5561-4B02-8DEB-4F9D0DC71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4792-7B53-48BD-AF59-AB00FA9C2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49F-AD58-41F6-84DD-3E9AF49D2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E4F5-EF71-425B-AAEE-A00536C90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32E8-EFF0-4509-8B0A-4DC6872C5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E920-6F19-4F37-9CE0-C1FF90495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0DFD-6FC6-4404-8CA4-D0A7FEE44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AD5-8008-44A3-862B-D7AAE0BE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4AB-06A0-4987-B62F-B6C29FAB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621-36B6-45C8-BBF2-C7DE381C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B50-1586-4599-B00C-EBB581F3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7AB-C52B-4D68-AE93-908BFB17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EEE-B955-4A79-8AC1-368E0DE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5A7-7279-4257-8D21-B6E66EFE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EA7-DA81-4210-9775-90333ED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6EB-C17F-4526-BC04-BE0E1239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7F2-2BFF-48DE-AA47-0B93AAF6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129-F558-4554-AF3D-BB61B22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010-5B08-49B3-BE4B-7C320F3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C7F2-1234-400A-BAF5-1B1CF2762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781360"/>
            <a:ext cx="82454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Федеральный государственный образовательный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тандар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общего образования в контексте государственной политики в образовании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-3 февраля 2010 г.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B1B-F006-43D7-B0CB-6D80A05D6C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условиям реализации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83664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адровы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укомплектованность, уровень квалификации, аттестация, повышение квалификации и переподготов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атериально-технически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сформулированы требования к информационной среде образовательного учрежд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учебно-методическим и информационным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учебники, ЭОР, учебные пособ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инансовым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нормативное подушевое финансирование; новая система оплаты тру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7AA-5A31-4160-9666-CF1379A8E7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52640"/>
            <a:ext cx="914400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едеральный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 уровень с участием субъектов Российской Федер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примерной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образовательной программы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включающей в том чис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базисный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учебный план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примерные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программы учебных предметов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остальные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примерные программы в соответствии со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стандар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Образовательное учре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Arial"/>
              </a:rPr>
              <a:t>разрабатывает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 основные общеобразовательные программы, включающие учебный план, рабочие программы учебных предметов и другие материалы, обеспечивающие воспитание и качество подготовк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2C8-0084-4D6C-BEAB-076AB22CB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82880"/>
            <a:ext cx="9144000" cy="358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665440"/>
            <a:ext cx="9144000" cy="358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97320"/>
            <a:ext cx="9144000" cy="358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65560"/>
            <a:ext cx="9144000" cy="358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927680"/>
            <a:ext cx="9144000" cy="358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688000"/>
            <a:ext cx="9144000" cy="358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28640"/>
            <a:ext cx="125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0-1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16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1-1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806400"/>
            <a:ext cx="2571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-  обязательное введение ФГ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765000"/>
            <a:ext cx="1903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-  введение ФГОС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20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59640" y="1700280"/>
            <a:ext cx="257400" cy="42843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162864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365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ведение федерального государ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ндарта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440" y="2349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2-13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082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3-14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68640"/>
            <a:ext cx="125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4-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" y="386064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6-17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440" y="4581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18-19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440" y="537372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2020-21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221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7-18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4172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9-20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3408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21-22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429000"/>
            <a:ext cx="14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15-16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2060640"/>
            <a:ext cx="3585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24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42100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42100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7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6920" y="2781360"/>
            <a:ext cx="35892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836640"/>
            <a:ext cx="360360" cy="237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836640"/>
            <a:ext cx="360360" cy="237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278136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781360"/>
            <a:ext cx="3603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2781360"/>
            <a:ext cx="3603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692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1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314172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31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3141720"/>
            <a:ext cx="3585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31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692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5002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0028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350028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350028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86064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386064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3860640"/>
            <a:ext cx="362160" cy="228960"/>
          </a:xfrm>
          <a:prstGeom prst="rect">
            <a:avLst/>
          </a:prstGeom>
          <a:solidFill>
            <a:srgbClr val="f8bbb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386064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22100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458136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4941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692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537372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5734080"/>
            <a:ext cx="360360" cy="22896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422100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422100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58136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458136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4941720"/>
            <a:ext cx="36180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4000" y="4941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5373720"/>
            <a:ext cx="362160" cy="2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836640"/>
            <a:ext cx="3585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765000"/>
            <a:ext cx="1903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-  продолжение обучения по ФГОС, введенного по мере гот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9ED-46B2-403C-98C0-1EC746D34F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итерии готовности ОУ к введению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1052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разработана и утверждена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основная образовательная программа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начального общего образования образовательного учреждения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нормативная база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образовательного учреждения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приведена в соответствие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с требованиями ФГОС (цели образовательного процесса, режим занятий, финансирование, материально-техническое  обеспечение 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приведены в соответствие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с требованиями ФГОС начального общего образования и новыми тарифно-квалификационными характеристиками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должностные инструкции работников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пределен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список учебников и учебных пособий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, используемых в образовательном процессе в соответствии с ФГОС началь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разработаны локальные акты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, регламентирующие установление заработной платы работников образовательного учреждения, в том числе стимулирующих  надбавок и доплат, порядка и размеров премирования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в соответствии с НСОТ;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04C-8189-49C9-9367-893824FE0B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итерии готовности ОУ к введению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052640"/>
            <a:ext cx="914400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определена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оптимальная для реализации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одель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организации образовательного процесса, обеспечивающая организацию внеурочной деятельности обучающихся (например, модель взаимодействия с учреждениями(ем) дополнительного образования де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разработан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план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етодической работы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, обеспечивающей сопровождение введения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осуществлено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повышение квалификации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всех учителей начальных классов (возможно поэтапно по мере введения ФГОС начального общего образов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обеспечены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кадровые, финансовые, материально-технические и иные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условия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реализации основной образовательной программы начального общего образования в соответствии с требованиями  ФГОС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3E0-7A3C-40D0-9724-A4D6AC2B2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оритеты образовательно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фиксированы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Концепц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лгосрочного социально-экономического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20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да, разде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бразование» (одобрена Правительством РФ 1 октября 2008 года, протокол №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Основных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авлениях деятельност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тельства РФ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утвержден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поряжением Правительства Российской Федерации 17 ноября 2008 г. № 1663-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     Приоритетном национальном проект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бразование» на 2009-2012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     Федеральн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целево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е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звития образова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     Национальной образовательной инициатив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Наша нов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BEE-FFF0-41E5-8D0B-06DB36315A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е направления инициати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Наша нов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557360"/>
            <a:ext cx="8280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ход на новые образовательны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витие системы поддержк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алантливых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Развит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ског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тенц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змен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нфраструктуры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школьной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Сохранение и укрепле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доровь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Расширение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стоятельност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ш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C24-8F15-42C7-A62B-EA12F3643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ход на новые образовательные станда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557360"/>
            <a:ext cx="4103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22472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От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тандартов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содержащих подробны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еречень тем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по каждому предмету, обязательных для изучения каждым учеником, к новым стандартам –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требованиям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 том, какими должны быть школьны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граммы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каки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зультаты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должны продемонстрировать дети, каки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слов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должны быть созданы в школе для достижения эти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Две части: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бязательна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и та, котора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формируется школой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. Чем старше ступень, тем больше возможность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Новый стандарт предусматривает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еаудиторную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заня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бразования – это не только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знан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но и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мение применять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их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школе должны быть созданы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адровые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атериально-технические и другие условия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, обеспечивающие развитие образовательной инфраструктуры в соответствии с требованиям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Финансовое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обеспечение будет построено на принципах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ормативно-подушевого финансирования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При этом средства будут поступать и в муниципалитеты и в каждую школу по нормативу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зависимо от форм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564-0072-4238-A20D-426A48402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ядок утверждения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052640"/>
            <a:ext cx="91440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твержде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становлением  Правительства от 24 февраля 2009 г. N 142 «О правилах разработки и утверждения федеральных государственных образовательных стандартов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проект ФГО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вносится в Совет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при Министерстве (в том числе в инициативном поряд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публикуется на сайте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и рассылается в экспертные организации для эксперти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все экспертны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заключения рассматриваютс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на Сов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нимается решение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об отклонении, направлении на доработку или принятии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ГО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тверждается приказом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Министерства (каждый отдельно), регистрируется в Миню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418-0CCA-4236-AEC3-BA3AF695B5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стояние разработки и утверждения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1052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чального общего образова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твержден приказом от 6 октября 2009 года №373 (зарегистрирован Минюстом России 22 декабря 2009 года №157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новного общего образова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в стад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ориентировочный срок внесения проектов в Совет при Министерстве – май 2010 го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ФГО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реднего (полного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общего образования – в стади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ориентировочный срок внесения проектов в Совет при Министерстве – май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AE1-64A7-4BEF-8466-FC798581D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е характеристики нового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864216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ый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орма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 (рамочный докумен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о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держа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 (совокупность требова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сширени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ункци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льзователе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овое методологическо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нова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системно-деятельност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х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BC1-58B1-40DD-8E15-C292F6AE39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результатам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ой 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125360"/>
            <a:ext cx="864216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фиксированы требования к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метапредметны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своенные обучающимися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, и межпредметными понятиями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личностным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товность и способность обучающихся к саморазвитию, сформированность мотивации к обучению и познанию, ценностно-смысловые установки обучающихся, отражающие их индивидуально-личностные позиции, социальные компетенции, личностные качества; сформированность основ гражданской идентич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предметным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 деятельности по получению нового знания, его преобразованию и применению, а также систему основополагающих элементов научного знания, лежащих в основе современной научной картины ми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зульта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995-4853-4607-BB23-EED4CAD04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структу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ой обще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личеству и наименованию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зделов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инимальному и максимальному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оличеству учебных часов за 4 года (2 904 - 3 210 час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держанию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ждого из разде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отношению частей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сновной общеобразовательн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граммы (80/20% для первой ступ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- организаци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6A3-D7DB-4187-9580-CF25E79543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Nizienko</cp:lastModifiedBy>
  <dcterms:modified xsi:type="dcterms:W3CDTF">2010-02-01T14:31:47Z</dcterms:modified>
  <cp:revision>44</cp:revision>
  <dc:subject/>
  <dc:title>Слайд 1</dc:title>
</cp:coreProperties>
</file>