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29E2-5382-42DC-96D6-4B150123B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FA58-E4AE-4532-8250-A0A83D8BD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DB5E-ED04-4801-9F8B-BEFB343FB6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E094-D76D-4AE5-8256-ECE10A795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0773-4710-41D0-9713-494A77D764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13F0-17FF-40CF-9CC0-395AFD8568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0AD1-737C-49D8-9A37-A5CF0BDFD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6F3B-76D7-4620-BF0E-B03BA9B965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84C1-1AED-49BC-A1D7-62C5D80D3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35CA-FF95-4F39-A802-6986776ED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459C-8762-4AC9-BC16-362B4EC974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FB67-DDE0-4525-99A0-D96EA125F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A3C-69A3-4420-B031-5F80D56F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AAD-EF39-42FA-AA73-8A9DECE0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F7D-005E-4E09-A48E-3FF0B759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349-CEB1-48B8-A9C0-547328ED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897-A3C6-4C85-A413-0320996A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84F-D68B-4D8F-B695-3E571FD1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679-0CC5-4ADF-A43E-6D0EEDB8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C52-0D9E-46A1-B934-7610D31F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E84-37F4-45AD-92AA-64C65A0F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755-8138-4082-88FF-49CE7F6F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D02-390A-498C-85A7-936690B5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E8A-D145-453E-9AC3-4066E39E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A6B9-C07A-4F4F-9600-43AA0BD6C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2781360"/>
            <a:ext cx="82454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Федеральный государственный образовательный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тандарт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общего образования в контексте государственной политики в образовании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-3 февраля 2010 г.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28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ACB-E438-4B38-B246-1266B11E26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к условиям реализации осно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ще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83664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адровы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укомплектованность, уровень квалификации, аттестация, повышение квалификации и переподготов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атериально-технически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сформулированы требования к информационной среде образовательного учрежд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учебно-методическим и информационным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учебники, ЭОР, учебные пособ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инансовы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нормативное подушевое финансирование; новая система оплаты тру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BC8-28FE-4A21-9383-3B016B5026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1052640"/>
            <a:ext cx="914400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Федеральный</a:t>
            </a: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 уровень с участием субъектов Российской Федер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разработка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примерной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образовательной программы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включающей в том числ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базисный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учебный план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примерные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программы учебных предметов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остальные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примерные программы в соответствии со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стандар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Образовательное учреж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разрабатывает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основные общеобразовательные программы, включающие учебный план, рабочие программы учебных предметов и другие материалы, обеспечивающие воспитание и качество подготовк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FF9-207A-4F34-A6D0-13E8ED1EDF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82880"/>
            <a:ext cx="9144000" cy="358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665440"/>
            <a:ext cx="9144000" cy="358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97320"/>
            <a:ext cx="9144000" cy="3585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65560"/>
            <a:ext cx="9144000" cy="358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927680"/>
            <a:ext cx="9144000" cy="3585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688000"/>
            <a:ext cx="9144000" cy="358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628640"/>
            <a:ext cx="1258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0-11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91628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1-12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806400"/>
            <a:ext cx="2571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-  обязательное введение ФГ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5280" y="765000"/>
            <a:ext cx="1903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-  введение ФГОС по мере гот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20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459640" y="1700280"/>
            <a:ext cx="257400" cy="42843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1628640"/>
            <a:ext cx="3585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73656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ведение федерального государ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андарта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440" y="234936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2-13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0828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3-14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68640"/>
            <a:ext cx="125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4-15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" y="386064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6-17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440" y="458136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8-19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440" y="537372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20-21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22100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7-18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4172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9-20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3408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21-22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42900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5-16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24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27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2060640"/>
            <a:ext cx="3585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24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2421000"/>
            <a:ext cx="3603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2421000"/>
            <a:ext cx="3603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7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6920" y="2781360"/>
            <a:ext cx="35892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781360"/>
            <a:ext cx="3603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836640"/>
            <a:ext cx="360360" cy="237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836640"/>
            <a:ext cx="360360" cy="237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278136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2781360"/>
            <a:ext cx="3603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2781360"/>
            <a:ext cx="3603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692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314172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314172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3141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3141720"/>
            <a:ext cx="3585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3141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692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350028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0028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350028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350028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350028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692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386064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386064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386064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386064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386064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692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692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400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764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692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0036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692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764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7640" y="422100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32360" y="422100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422100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4000" y="422100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458136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458136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458136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494172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64000" y="4941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5373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836640"/>
            <a:ext cx="3585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765000"/>
            <a:ext cx="1903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-  продолжение обучения по ФГОС, введенного по мере гот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A7D-DD1D-4331-8D2B-68960F3D92B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ритерии готовности ОУ к введению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10526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разработана и утверждена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основная образовательная программа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начального общего образования образовательного учреждения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нормативная база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образовательного учреждения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приведена в соответствие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с требованиями ФГОС (цели образовательного процесса, режим занятий, финансирование, материально-техническое  обеспечение  и т.п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приведены в соответствие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с требованиями ФГОС начального общего образования и новыми тарифно-квалификационными характеристиками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должностные инструкции работников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определен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список учебников и учебных пособий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, используемых в образовательном процессе в соответствии с ФГОС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-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разработаны локальные акты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, регламентирующие установление заработной платы работников образовательного учреждения, в том числе стимулирующих  надбавок и доплат, порядка и размеров премирования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в соответствии с НСОТ;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A94-ACCA-4D48-9B41-EC6B49528B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ритерии готовности ОУ к введению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1052640"/>
            <a:ext cx="914400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определена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оптимальная для реализации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модель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организации образовательного процесса, обеспечивающая организацию внеурочной деятельности обучающихся (например, модель взаимодействия с учреждениями(ем) дополнительного образования де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разработан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план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методической работы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, обеспечивающей сопровождение введения ФГ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осуществлено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повышение квалификации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всех учителей начальных классов (возможно поэтапно по мере введения ФГОС начального общего образов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обеспечены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кадровые, финансовые, материально-технические и иные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условия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реализации основной образовательной программы начального общего образования в соответствии с требованиями  ФГОС.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ACC-3F29-4DD5-9E5D-7801068473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оритеты образовательной поли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фиксированы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     Концепц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лгосрочного социально-экономического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звити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020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да, раздел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бразование» (одобрена Правительством РФ 1 октября 2008 года, протокол №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     Основных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авлениях деятельност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ительства РФ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утверждены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споряжением Правительства Российской Федерации 17 ноября 2008 г. № 1663-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     Приоритетном национальном проект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бразование» на 2009-2012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     Федерально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целево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рамм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звития образовани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     Национальной образовательной инициатив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Наша нов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C27-90C9-4B12-A0E2-DE34C4B298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е направления инициати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Наша нов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557360"/>
            <a:ext cx="8280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ход на новые образовательны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витие системы поддержк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алантливых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Развити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ског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тенц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зменен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нфраструктуры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школьной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. Сохранение и укреплени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доровь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6. Расширени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амостоятельност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ш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423-F28E-40C7-9AC2-D93F7D8FAC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еход на новые образовательные станда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1557360"/>
            <a:ext cx="4103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224720"/>
            <a:ext cx="849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От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стандартов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содержащих подробный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еречень тем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по каждому предмету, обязательных для изучения каждым учеником, к новым стандартам –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требованиям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о том, какими должны быть школьны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граммы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каки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зультаты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должны продемонстрировать дети, каки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словия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должны быть созданы в школе для достижения эти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Две части: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бязательная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и та, которая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формируется школой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. Чем старше ступень, тем больше возможность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Новый стандарт предусматривает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еаудиторную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занят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зультат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образования – это не только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знания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но и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мение применять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их в повседнев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 школе должны быть созданы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адровые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атериально-технические и другие условия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обеспечивающие развитие образовательной инфраструктуры в соответствии с требованиям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Финансовое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обеспечение будет построено на принципах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ормативно-подушевого финансирования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При этом средства будут поступать и в муниципалитеты и в каждую школу по нормативу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езависимо от форм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7CE-E59E-45A4-AD15-73F2B1F2B6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ядок утверждения станда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052640"/>
            <a:ext cx="9144000" cy="64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твержден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остановлением  Правительства от 24 февраля 2009 г. N 142 «О правилах разработки и утверждения федеральных государственных образовательных стандартов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проект ФГОС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вносится в Совет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при Министерстве (в том числе в инициативном порядк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публикуется на сайте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и рассылается в экспертные организации для эксперти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все экспертны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заключения рассматриваются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на Сове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нимается решение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об отклонении, направлении на доработку или принятии ФГ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ФГОС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тверждается приказом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Министерства (каждый отдельно), регистрируется в Миню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FB6-37EE-48B1-9389-24DDB903E1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стояние разработки и утверждения станда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1052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ФГО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чального общего образовани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твержден приказом от 6 октября 2009 года №373 (зарегистрирован Минюстом России 22 декабря 2009 года №157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ФГО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сновного общего образовани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в стад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разработк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ориентировочный срок внесения проектов в Совет при Министерстве – май 2010 го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ФГО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реднего (полного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общего образования – в стадии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разработк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ориентировочный срок внесения проектов в Совет при Министерстве – май 2010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43E-1EDA-46F9-A74F-1D42433C84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е характеристики нового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864216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овый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форма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стандарта (рамочный докумен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ово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одержа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стандарта (совокупность требова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сширени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функци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льзователе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станд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овое методологическо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нова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системно-деятельностны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дх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537-F849-41C1-9A5A-565AED36BD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к результатам осво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ой обще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125360"/>
            <a:ext cx="8642160" cy="58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фиксированы требования к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метапредметным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своенные обучающимися универсальные учебные действия (познавательные, регулятивные и коммуникативные), обеспечивающие овладение ключевыми компетенциями, составляющими основу умения учиться, и межпредметными понятиями)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личностным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отовность и способность обучающихся к саморазвитию, сформированность мотивации к обучению и познанию, ценностно-смысловые установки обучающихся, отражающие их индивидуально-личностные позиции, социальные компетенции, личностные качества; сформированность основ гражданской идентич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предметным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 деятельности по получению нового знания, его преобразованию и применению, а также систему основополагающих элементов научного знания, лежащих в основе современной научной картины ми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зульта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5E4-7B8D-4983-B03E-811147E1AC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к структу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ой обще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125360"/>
            <a:ext cx="86421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фиксированы требования 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личеству и наименованию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зделов (всего-9), в том числе к учебному плану обще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инимальному и максимальному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оличеству учебных часов за 4 года (2 904 - 3 210 час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держанию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аждого из разде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отношению частей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сновной общеобразовательно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ограммы (80/20% для первой ступен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- организаци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571-4CA4-4634-A3C1-C2E1D98533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2:23:48Z</dcterms:created>
  <dc:creator>Kondrashova</dc:creator>
  <dc:description/>
  <dc:language>en-US</dc:language>
  <cp:lastModifiedBy>Nizienko</cp:lastModifiedBy>
  <dcterms:modified xsi:type="dcterms:W3CDTF">2010-02-01T14:31:47Z</dcterms:modified>
  <cp:revision>44</cp:revision>
  <dc:subject/>
  <dc:title>Слайд 1</dc:title>
</cp:coreProperties>
</file>