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8B5C-BD38-432B-BE57-0974AB3344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05AF-BBC6-4EAA-B041-515C207F6E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F3D0-61AA-40A8-9EAA-D78AC937CE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9C6D-2427-45D5-8DBA-77CFFB872B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4D90-D2C2-4968-811E-0C8B559C1C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6339-DCD7-444C-A625-E94287CAD4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3316-6355-4685-870B-F74FB65052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7B4F-5556-4F49-8CF4-6EF819A279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3C13-F764-42BF-A88D-63E6D828DD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5162-60CC-4C94-A5BB-CC3807DA2A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B4BA-4570-453A-AEFB-D517253A04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0F5B-B8B5-425C-8D85-AF2356E7B6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51AD-F942-4DD7-8602-2E3FF6717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FC3C-699B-45D0-AD0C-4C225BBE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0CCD-FAAC-4370-895C-1019E0126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32AF-4107-4755-B566-CE93B8B66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7635-F099-43E5-BA17-3A57C41C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C622-7939-4626-B373-7C77329B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176F-5882-4A7C-878F-77A8C402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056E-8283-4A43-83F4-E8A8D39C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8C2F-0258-460F-9BC8-1F3D6565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56EE-5753-4DA3-A942-E764E250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0FF7-3C5B-45BC-8804-9EC486BD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A20E-AA66-40D3-956F-0613AEF3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57B7-C072-42D8-AE2D-82BE082E9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2781360"/>
            <a:ext cx="824544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Федеральный государственный образовательный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стандарт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общего образования в контексте государственной политики в образовании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-3 февраля 2010 г.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ос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5640" cy="285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B9F7-9CB0-453E-8951-C5CADEEA1B6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ребования к условиям реализации основ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щеобразовательной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836640"/>
            <a:ext cx="8642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66760" indent="-17316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6760" indent="-17316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кадровым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(укомплектованность, уровень квалификации, аттестация, повышение квалификации и переподготовк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6760" indent="-17316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6760" indent="-17316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материально-техническим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(сформулированы требования к информационной среде образовательного учрежд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6760" indent="-17316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6760" indent="-17316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учебно-методическим и информационным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учебники, ЭОР, учебные пособ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6760" indent="-17316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6760" indent="-17316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финансовым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(нормативное подушевое финансирование; новая система оплаты тру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6760" indent="-17316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9DDA-51C3-4651-87B9-82CBA3A2C7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Что дальш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0" y="1052640"/>
            <a:ext cx="9144000" cy="50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Федеральный</a:t>
            </a:r>
            <a:r>
              <a:rPr b="1" lang="en-US" sz="22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 уровень с участием субъектов Российской Федераци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разработка 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  <a:ea typeface="Arial"/>
              </a:rPr>
              <a:t>примерной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 образовательной программы,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включающей в том числ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базисный 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  <a:ea typeface="Arial"/>
              </a:rPr>
              <a:t>учебный план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примерные 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  <a:ea typeface="Arial"/>
              </a:rPr>
              <a:t>программы учебных предметов</a:t>
            </a:r>
            <a:r>
              <a:rPr b="1" lang="en-US" sz="2200" spc="-1" strike="noStrike">
                <a:solidFill>
                  <a:srgbClr val="cc3300"/>
                </a:solidFill>
                <a:latin typeface="Arial"/>
                <a:ea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- 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  <a:ea typeface="Arial"/>
              </a:rPr>
              <a:t>остальные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 примерные программы в соответствии со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стандарт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Образовательное учрежд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- 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  <a:ea typeface="Arial"/>
              </a:rPr>
              <a:t>разрабатывает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 основные общеобразовательные программы, включающие учебный план, рабочие программы учебных предметов и другие материалы, обеспечивающие воспитание и качество подготовки обучающих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E0C9-9ECE-4853-9786-BAA1973703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982880"/>
            <a:ext cx="9144000" cy="358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33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665440"/>
            <a:ext cx="9144000" cy="358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33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397320"/>
            <a:ext cx="9144000" cy="35856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65560"/>
            <a:ext cx="9144000" cy="35892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927680"/>
            <a:ext cx="9144000" cy="35856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5688000"/>
            <a:ext cx="9144000" cy="35892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628640"/>
            <a:ext cx="12589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2010-11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916280"/>
            <a:ext cx="1403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2011-12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806400"/>
            <a:ext cx="25714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-  обязательное введение ФГ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35280" y="765000"/>
            <a:ext cx="19036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-  введение ФГОС по мере гото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03280" y="206064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459640" y="1700280"/>
            <a:ext cx="257400" cy="42843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Н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Н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Н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32000" y="1628640"/>
            <a:ext cx="358560" cy="228960"/>
          </a:xfrm>
          <a:prstGeom prst="rect">
            <a:avLst/>
          </a:prstGeom>
          <a:solidFill>
            <a:srgbClr val="f8bbba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736560"/>
          </a:xfrm>
          <a:prstGeom prst="rect">
            <a:avLst/>
          </a:prstGeom>
          <a:solidFill>
            <a:srgbClr val="0033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ведение федерального государствен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андарта обще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440" y="2349360"/>
            <a:ext cx="125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2012-13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708280"/>
            <a:ext cx="1403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2013-14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068640"/>
            <a:ext cx="1252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2014-15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440" y="3860640"/>
            <a:ext cx="125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2016-17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1440" y="4581360"/>
            <a:ext cx="125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2018-19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1440" y="5373720"/>
            <a:ext cx="125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2020-21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221000"/>
            <a:ext cx="1403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2017-18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941720"/>
            <a:ext cx="1403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2019-20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734080"/>
            <a:ext cx="1403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2021-22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429000"/>
            <a:ext cx="1403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2015-16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35002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386064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422100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03280" y="458136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03280" y="4941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03280" y="5373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3280" y="57340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32000" y="3141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32000" y="242100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32000" y="278136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35280" y="2060640"/>
            <a:ext cx="3585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63640" y="242100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95640" y="2421000"/>
            <a:ext cx="3603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27280" y="2421000"/>
            <a:ext cx="360360" cy="228960"/>
          </a:xfrm>
          <a:prstGeom prst="rect">
            <a:avLst/>
          </a:prstGeom>
          <a:solidFill>
            <a:srgbClr val="f8bbba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278136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66920" y="2781360"/>
            <a:ext cx="35892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0360" y="2781360"/>
            <a:ext cx="3603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836640"/>
            <a:ext cx="360360" cy="237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59280" y="836640"/>
            <a:ext cx="360360" cy="237960"/>
          </a:xfrm>
          <a:prstGeom prst="rect">
            <a:avLst/>
          </a:prstGeom>
          <a:solidFill>
            <a:srgbClr val="f8bbba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32000" y="2781360"/>
            <a:ext cx="362160" cy="228960"/>
          </a:xfrm>
          <a:prstGeom prst="rect">
            <a:avLst/>
          </a:prstGeom>
          <a:solidFill>
            <a:srgbClr val="f8bbba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64000" y="2781360"/>
            <a:ext cx="3603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95640" y="2781360"/>
            <a:ext cx="360360" cy="228960"/>
          </a:xfrm>
          <a:prstGeom prst="rect">
            <a:avLst/>
          </a:prstGeom>
          <a:solidFill>
            <a:srgbClr val="f8bbba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35280" y="3141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66920" y="3141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00360" y="3141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32000" y="3141720"/>
            <a:ext cx="362160" cy="228960"/>
          </a:xfrm>
          <a:prstGeom prst="rect">
            <a:avLst/>
          </a:prstGeom>
          <a:solidFill>
            <a:srgbClr val="f8bbba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64000" y="3141720"/>
            <a:ext cx="36180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95640" y="3141720"/>
            <a:ext cx="3621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27640" y="3141720"/>
            <a:ext cx="358560" cy="228960"/>
          </a:xfrm>
          <a:prstGeom prst="rect">
            <a:avLst/>
          </a:prstGeom>
          <a:solidFill>
            <a:srgbClr val="f8bbba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59280" y="3141720"/>
            <a:ext cx="3621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35280" y="35002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6920" y="35002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00360" y="35002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32000" y="35002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64000" y="3500280"/>
            <a:ext cx="36180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95640" y="3500280"/>
            <a:ext cx="3621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27640" y="3500280"/>
            <a:ext cx="36180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59280" y="3500280"/>
            <a:ext cx="362160" cy="228960"/>
          </a:xfrm>
          <a:prstGeom prst="rect">
            <a:avLst/>
          </a:prstGeom>
          <a:solidFill>
            <a:srgbClr val="f8bbba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92720" y="3500280"/>
            <a:ext cx="36180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35280" y="386064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6920" y="386064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00360" y="386064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32000" y="386064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64000" y="386064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95640" y="3860640"/>
            <a:ext cx="3621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3860640"/>
            <a:ext cx="36180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59280" y="3860640"/>
            <a:ext cx="3621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64000" y="3860640"/>
            <a:ext cx="362160" cy="228960"/>
          </a:xfrm>
          <a:prstGeom prst="rect">
            <a:avLst/>
          </a:prstGeom>
          <a:solidFill>
            <a:srgbClr val="f8bbba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96000" y="3860640"/>
            <a:ext cx="36180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35280" y="422100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66920" y="422100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00360" y="422100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32000" y="422100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64000" y="422100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95640" y="422100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35280" y="458136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66920" y="458136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00360" y="458136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32000" y="458136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64000" y="458136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95640" y="458136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27640" y="458136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35280" y="4941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6920" y="4941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00360" y="4941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32000" y="4941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64000" y="4941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95640" y="4941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27640" y="4941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859280" y="4941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35280" y="5373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66920" y="5373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00360" y="5373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32000" y="5373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64000" y="5373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95640" y="5373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27640" y="5373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59280" y="5373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64000" y="5373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35280" y="57340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66920" y="57340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95640" y="57340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64000" y="57340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27640" y="57340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32000" y="57340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00360" y="57340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59280" y="57340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57340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64000" y="57340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27640" y="4221000"/>
            <a:ext cx="36180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32360" y="4221000"/>
            <a:ext cx="36180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96000" y="4221000"/>
            <a:ext cx="36180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64000" y="4221000"/>
            <a:ext cx="3621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6000" y="4581360"/>
            <a:ext cx="36180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64000" y="4581360"/>
            <a:ext cx="3621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59280" y="4581360"/>
            <a:ext cx="3621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96000" y="4941720"/>
            <a:ext cx="36180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64000" y="4941720"/>
            <a:ext cx="3621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867280" y="5373720"/>
            <a:ext cx="3621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08720" y="836640"/>
            <a:ext cx="35856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12000" y="765000"/>
            <a:ext cx="1903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-  продолжение обучения по ФГОС, введенного по мере гото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1761-015A-4510-A673-3573179A3EF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ритерии готовности ОУ к введению станда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0" y="10526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разработана и утверждена 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основная образовательная программа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начального общего образования образовательного учреждения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нормативная база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образовательного учреждения 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приведена в соответствие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с требованиями ФГОС (цели образовательного процесса, режим занятий, финансирование, материально-техническое  обеспечение  и т.п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приведены в соответствие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с требованиями ФГОС начального общего образования и новыми тарифно-квалификационными характеристиками 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должностные инструкции работников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образовательного учрежд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определен 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список учебников и учебных пособий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, используемых в образовательном процессе в соответствии с ФГОС начального общего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- 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разработаны локальные акты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, регламентирующие установление заработной платы работников образовательного учреждения, в том числе стимулирующих  надбавок и доплат, порядка и размеров премирования 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в соответствии с НСОТ;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5471-A181-4B65-9A90-C0E452EF1D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ритерии готовности ОУ к введению станда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0" y="1052640"/>
            <a:ext cx="9144000" cy="55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определена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 оптимальная для реализации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модель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 организации образовательного процесса, обеспечивающая организацию внеурочной деятельности обучающихся (например, модель взаимодействия с учреждениями(ем) дополнительного образования дете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разработан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 план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методической работы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, обеспечивающей сопровождение введения ФГО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осуществлено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повышение квалификации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 всех учителей начальных классов (возможно поэтапно по мере введения ФГОС начального общего образован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-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обеспечены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 кадровые, финансовые, материально-технические и иные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условия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 реализации основной образовательной программы начального общего образования в соответствии с требованиями  ФГОС.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E823-0E32-4600-AB22-BA0196AE95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иоритеты образовательной поли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фиксированы 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-      Концепции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олгосрочного социально-экономического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развития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о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2020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ода, раздел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II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Образование» (одобрена Правительством РФ 1 октября 2008 года, протокол №3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-      Основных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правлениях деятельности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авительства РФ</a:t>
            </a: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утверждены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споряжением Правительства Российской Федерации 17 ноября 2008 г. № 1663-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-      Приоритетном национальном проекте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Образование» на 2009-2012 г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-      Федеральной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целевой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грамме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развития образования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-      Национальной образовательной инициативе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«Наша новая шко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00C1-8302-4C2F-9301-03C31612F2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сновные направления инициатив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Наша новая шко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557360"/>
            <a:ext cx="828036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ереход на новые образовательные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танд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звитие системы поддержки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талантливых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 Развитие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учительского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потенц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4.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Изменение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инфраструктуры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школьной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5. Сохранение и укрепление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здоровья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школь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6. Расширение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амостоятельности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шк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6500-002C-49D3-B515-19A5950939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ереход на новые образовательные стандар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00720" y="1557360"/>
            <a:ext cx="41036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224720"/>
            <a:ext cx="8497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От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стандартов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, содержащих подробный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еречень тем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по каждому предмету, обязательных для изучения каждым учеником, к новым стандартам –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требованиям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о том, какими должны быть школьные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граммы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, какие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результаты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должны продемонстрировать дети, какие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словия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должны быть созданы в школе для достижения этих результ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Две части: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обязательная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и та, которая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формируется школой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. Чем старше ступень, тем больше возможность выб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Новый стандарт предусматривает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внеаудиторную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занят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Результат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образования – это не только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знания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, но и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мение применять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их в повседневно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В школе должны быть созданы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кадровые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материально-технические и другие условия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, обеспечивающие развитие образовательной инфраструктуры в соответствии с требованиями вре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Финансовое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обеспечение будет построено на принципах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нормативно-подушевого финансирования.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При этом средства будут поступать и в муниципалитеты и в каждую школу по нормативу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независимо от форм соб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E12F-BE2E-4CDA-8050-5024A39C93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рядок утверждения стандар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0" y="1052640"/>
            <a:ext cx="9144000" cy="64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Утвержден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Постановлением  Правительства от 24 февраля 2009 г. N 142 «О правилах разработки и утверждения федеральных государственных образовательных стандартов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проект ФГОС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вносится в Совет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при Министерстве (в том числе в инициативном порядк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-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публикуется на сайте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и рассылается в экспертные организации для экспертиз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все экспертные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заключения рассматриваются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на Совет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инимается решение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об отклонении, направлении на доработку или принятии ФГО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ФГОС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утверждается приказом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Министерства (каждый отдельно), регистрируется в Миню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556E-D871-4F96-B277-E91DA8DB40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стояние разработки и утверждения стандар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0" y="105264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ФГОС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ачального общего образования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утвержден приказом от 6 октября 2009 года №373 (зарегистрирован Минюстом России 22 декабря 2009 года №1578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. ФГОС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сновного общего образования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– в стад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разработки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(ориентировочный срок внесения проектов в Совет при Министерстве – май 2010 год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. ФГОС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реднего (полного)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общего образования – в стадии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разработки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(ориентировочный срок внесения проектов в Совет при Министерстве – май 2010 г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E795-4792-47CF-BD72-179F3BA8AA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сновные характеристики нового станда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836640"/>
            <a:ext cx="8642160" cy="62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новый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формат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стандарта (рамочный документ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новое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содержание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стандарта (совокупность требовани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расширение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функций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пользователей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стандар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новое методологическое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основание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системно-деятельностны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одх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D0A0-85D4-4B93-990C-E7FE42D752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ребования к результатам осво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новной общеобразовательной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1125360"/>
            <a:ext cx="8642160" cy="58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Зафиксированы требования к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метапредметным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освоенные обучающимися универсальные учебные действия (познавательные, регулятивные и коммуникативные), обеспечивающие овладение ключевыми компетенциями, составляющими основу умения учиться, и межпредметными понятиями)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личностным</a:t>
            </a:r>
            <a:r>
              <a:rPr b="1" lang="en-US" sz="2000" spc="-1" strike="noStrike" u="sng">
                <a:solidFill>
                  <a:srgbClr val="003399"/>
                </a:solidFill>
                <a:uFillTx/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готовность и способность обучающихся к саморазвитию, сформированность мотивации к обучению и познанию, ценностно-смысловые установки обучающихся, отражающие их индивидуально-личностные позиции, социальные компетенции, личностные качества; сформированность основ гражданской идентичност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предметным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освоенный обучающимися в ходе изучения учебного предмета опыт специфической для данной предметной области  деятельности по получению нового знания, его преобразованию и применению, а также систему основополагающих элементов научного знания, лежащих в основе современной научной картины ми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результат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3CE5-742B-4808-8B17-A8B429F1C6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ребования к структу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новной общеобразовательной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1125360"/>
            <a:ext cx="864216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Зафиксированы требования 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количеству и наименованию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разделов (всего-9), в том числе к учебному плану обще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минимальному и максимальному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количеству учебных часов за 4 года (2 904 - 3 210 часов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содержанию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каждого из раздел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соотношению частей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основной общеобразовательной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программы (80/20% для первой ступен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- организации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внеуроч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04EB-23F9-429D-B0DE-B1FAF36251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2:23:48Z</dcterms:created>
  <dc:creator>Kondrashova</dc:creator>
  <dc:description/>
  <dc:language>en-US</dc:language>
  <cp:lastModifiedBy>Nizienko</cp:lastModifiedBy>
  <dcterms:modified xsi:type="dcterms:W3CDTF">2010-02-01T14:31:47Z</dcterms:modified>
  <cp:revision>44</cp:revision>
  <dc:subject/>
  <dc:title>Слайд 1</dc:title>
</cp:coreProperties>
</file>