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989-0634-49AE-A515-470D3BB2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221-68D7-421D-95DF-B4EF9C39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FDF-FFA3-496D-BDE5-3E68994C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58B-E13B-4A5D-8C35-C991558B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50F1-6A84-47D3-833D-3DF7604B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260A-2E0A-43F4-90B4-1CB3597D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F7D5-6105-4CA4-9C22-F4486F3C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45C-488C-42FA-90EA-7F5482EA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00E5-E6D9-4AAF-A42E-794FC3A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5CDC-9B24-49C8-ACBF-310FBC7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FC0D-2426-4E03-BD9D-70CB4AB3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76B-84E6-4E09-B577-D2AD671E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A509-E86A-40A5-81E0-8B92DDE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3D17-A75B-4841-AEA6-85768133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8546-D121-49CA-BD02-258A2D2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7B72-3756-4025-BF10-F3BD6649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3825-653E-43EF-A03A-A3BAD673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269-84D7-478A-B36D-F6B530CC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A7A-0DE1-403A-85A0-E335C130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3AB-4819-4907-90E3-F4805A89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09A-125C-4CE4-998D-8061CF22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86E-3A39-4F65-BFEE-78D3A80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CBB-9754-4F34-AA6E-7597C10B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E18-7124-4AB3-BB1E-84E8F76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FAE-FE5C-4552-9DDE-8FC6FD6CFE6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B3AA-0549-4E1D-9334-F0C19D945D0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97528370"/>
          <p:cNvPicPr/>
          <p:nvPr/>
        </p:nvPicPr>
        <p:blipFill>
          <a:blip r:embed="rId1"/>
          <a:stretch/>
        </p:blipFill>
        <p:spPr>
          <a:xfrm>
            <a:off x="214200" y="2928960"/>
            <a:ext cx="468180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00040" y="2142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Дорожные знак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572000" y="38577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Разработал учитель начальных классов : Тишина Татьяна Александров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ОШ №27 г. Балаков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аратовской обл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icon"/>
          <p:cNvPicPr/>
          <p:nvPr/>
        </p:nvPicPr>
        <p:blipFill>
          <a:blip r:embed="rId1"/>
          <a:stretch/>
        </p:blipFill>
        <p:spPr>
          <a:xfrm>
            <a:off x="324000" y="1557360"/>
            <a:ext cx="8489880" cy="5111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5564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Дорога, мощенная камне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699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qingdao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gat161-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318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44557_40552"/>
          <p:cNvPicPr/>
          <p:nvPr/>
        </p:nvPicPr>
        <p:blipFill>
          <a:blip r:embed="rId2"/>
          <a:stretch/>
        </p:blipFill>
        <p:spPr>
          <a:xfrm>
            <a:off x="250920" y="3444840"/>
            <a:ext cx="48258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14061_1234965207_full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105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2000" y="4437000"/>
            <a:ext cx="66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769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Француз Жан Кюньо создал первый парово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имел скорость 4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img_ten" descr="http://media.meta.ua/files/pic/0/6/26/TkyUUhAEKN.jpg?id=400077"/>
          <p:cNvPicPr/>
          <p:nvPr/>
        </p:nvPicPr>
        <p:blipFill>
          <a:blip r:embed="rId1"/>
          <a:stretch/>
        </p:blipFill>
        <p:spPr>
          <a:xfrm>
            <a:off x="2195640" y="54936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0" y="501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042920" y="4005360"/>
            <a:ext cx="7058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85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емецкий изобретатель Карл Бенц создал автомобиль с бензиновым мотором – мотоколяс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а двигалась со скоростью 20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ain14"/>
          <p:cNvPicPr/>
          <p:nvPr/>
        </p:nvPicPr>
        <p:blipFill>
          <a:blip r:embed="rId1"/>
          <a:stretch/>
        </p:blipFill>
        <p:spPr>
          <a:xfrm>
            <a:off x="1332000" y="404640"/>
            <a:ext cx="6291000" cy="3745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71640" y="4292640"/>
            <a:ext cx="74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96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мельцы Евгений Яковлев и Петр Фреде построили первый русски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передвигался со скоростью 22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45504595360"/>
          <p:cNvPicPr/>
          <p:nvPr/>
        </p:nvPicPr>
        <p:blipFill>
          <a:blip r:embed="rId1"/>
          <a:stretch/>
        </p:blipFill>
        <p:spPr>
          <a:xfrm>
            <a:off x="1692360" y="2924280"/>
            <a:ext cx="5719680" cy="3600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00000" y="404640"/>
            <a:ext cx="748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 1909 года на улицах и дорогах стали появляться первые дорожные знаки. Они помогали регулировать движение транспорта и пеше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дин знак означал целую фразу – дорожный сигн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484360" y="1916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упреждают водителя 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 приближении к опасному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частку доро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298764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812960" cy="160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1800000" cy="159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727280" cy="153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72728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195640" y="69228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771640" y="177336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Что-либо запрещают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водителю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987640" y="4724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е или синие кру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41680" cy="1741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741320" cy="174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3"/>
          <a:stretch/>
        </p:blipFill>
        <p:spPr>
          <a:xfrm>
            <a:off x="7020000" y="1623960"/>
            <a:ext cx="1695240" cy="166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4"/>
          <a:stretch/>
        </p:blipFill>
        <p:spPr>
          <a:xfrm>
            <a:off x="7093080" y="422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alakovo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040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1403280" y="40464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Балаково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4140360" y="155736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писывают направлени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движ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4427640" y="3789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932360" y="458136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979640" y="1498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16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124000" y="69228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2700360" y="4797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598760" cy="1598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1454040" cy="1454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37952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9"/>
          <p:cNvSpPr txBox="1"/>
          <p:nvPr/>
        </p:nvSpPr>
        <p:spPr>
          <a:xfrm>
            <a:off x="1835280" y="1700280"/>
            <a:ext cx="54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о нахожд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ешеходного переход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становки автобус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2195640" y="69228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2700360" y="429264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2843280" y="508464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692360" y="1413000"/>
            <a:ext cx="611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а отдых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лечения, питания, ремонт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1608120" y="2276640"/>
            <a:ext cx="1249560" cy="1771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1219320" cy="1726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200240" cy="16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00000" y="1484280"/>
            <a:ext cx="7631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1. Предупрежд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2. Запрещ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3. Предписыв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5. Знаки сервиса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468360" y="40464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группы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395280" y="105264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учайных знаков не существует. Все они придуманы для пользы дела. 30 лет назад было всего полсотни знаков. А сегодня их больше 10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рожные знаки яркие и видны уже издал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а дорожного знака в том и состоит, чтобы своевременно информировать водителя об опасности и условиях дви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gibdd_auto"/>
          <p:cNvPicPr/>
          <p:nvPr/>
        </p:nvPicPr>
        <p:blipFill>
          <a:blip r:embed="rId1"/>
          <a:stretch/>
        </p:blipFill>
        <p:spPr>
          <a:xfrm>
            <a:off x="4067280" y="2708280"/>
            <a:ext cx="4792680" cy="3809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24000" y="476280"/>
            <a:ext cx="554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государствен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И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инспек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безопас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дорожног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- дви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539640" y="404640"/>
            <a:ext cx="7561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вария – это бед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т нас с вами тоже зависит, произойдет на дороге авария или нет. Все мы – и водители, и пешеходы – участники дорожного движения. И поэтому должны соблюдать правила, действующие на дорог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5" descr="dscn4797"/>
          <p:cNvPicPr/>
          <p:nvPr/>
        </p:nvPicPr>
        <p:blipFill>
          <a:blip r:embed="rId1"/>
          <a:stretch/>
        </p:blipFill>
        <p:spPr>
          <a:xfrm>
            <a:off x="1908000" y="2708280"/>
            <a:ext cx="496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kidz033"/>
          <p:cNvPicPr/>
          <p:nvPr/>
        </p:nvPicPr>
        <p:blipFill>
          <a:blip r:embed="rId1"/>
          <a:stretch/>
        </p:blipFill>
        <p:spPr>
          <a:xfrm>
            <a:off x="5076720" y="620640"/>
            <a:ext cx="3591000" cy="4953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179280" y="476280"/>
            <a:ext cx="4680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чень важная наука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авила движени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И должны их соблю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се без исключения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нание правил дорожного движения – это показатель культуры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Будьте дисциплинированны на улице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Желаю вам безопасных дорог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Где может ходить пешеход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о мостов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По шосс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) По тротуар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На какой сигнал светофора можно переходить дорогу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На кр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На зелё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Куда надо посмотреть сначала, переходя улицу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Нале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Напра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перё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наземный переход, отмеченный на асфальте белыми полосам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55640" y="2852280"/>
            <a:ext cx="30956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) Ол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Зеб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Лошад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едущего в автобусе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управляющего транспортным средством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2565000"/>
            <a:ext cx="598644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5:56Z</dcterms:created>
  <dc:creator>Иришка</dc:creator>
  <dc:description/>
  <dc:language>en-US</dc:language>
  <cp:lastModifiedBy>Admin</cp:lastModifiedBy>
  <dcterms:modified xsi:type="dcterms:W3CDTF">2014-07-03T06:31:35Z</dcterms:modified>
  <cp:revision>9</cp:revision>
  <dc:subject/>
  <dc:title>Слайд 1</dc:title>
</cp:coreProperties>
</file>