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37E-A541-40E1-B26E-6E0010AE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809-FB2A-46D1-99AD-3CB005B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2BA-439C-4C9A-977F-BB336E56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BB5-0D8B-4516-963A-6E37337B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9001-3969-4994-BD72-29FFDBCE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0722-CDDF-4D27-971E-8BAA3B2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1B8-B29C-4097-AD32-A2CE0522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4B95-7D0C-423C-98F6-095257F1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B4F3-9011-4CA8-BC8C-C2B13D9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DF3D-80F6-4533-A015-3479052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5E5-E416-4A20-ABF8-21EDA30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B99-2B91-408A-AF53-D1FF8F9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266-5896-4793-A868-007E31F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59DD-6270-4C16-B3F0-28D8920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F346-F8C5-4D0B-8591-6B03C43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ED50-0AD3-4B7D-828F-7C6196D0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446-8731-436E-8840-6FD4547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CA0-6A5F-4243-A2E2-CB9A6250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0A3-6643-428F-ACDD-935F48AE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7F7-CDFA-42F0-A20D-D85AA22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F48-74D7-4F58-B382-110C76D7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94B-AAEB-469D-983D-8549C51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45E-E7E3-4CFF-8E90-ABE54F5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10F-3D9C-4F8F-840E-7712C20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24F-D0E8-4130-9CF3-EB9538DAFC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645-3274-46BB-9250-BF128EEB86F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97528370"/>
          <p:cNvPicPr/>
          <p:nvPr/>
        </p:nvPicPr>
        <p:blipFill>
          <a:blip r:embed="rId1"/>
          <a:stretch/>
        </p:blipFill>
        <p:spPr>
          <a:xfrm>
            <a:off x="214200" y="2928960"/>
            <a:ext cx="468180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00040" y="2142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572000" y="3857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Разработал учитель начальных классов : Тишина Татьяна Александ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ОШ №27 г. Балаков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аратовской об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lakovo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Балаков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Admin</cp:lastModifiedBy>
  <dcterms:modified xsi:type="dcterms:W3CDTF">2014-07-03T06:31:35Z</dcterms:modified>
  <cp:revision>9</cp:revision>
  <dc:subject/>
  <dc:title>Слайд 1</dc:title>
</cp:coreProperties>
</file>