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D04-C05A-4F1D-B203-49240F4E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E0E-F60E-418D-BD72-FC4937D5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D5B92-F41E-4FF7-9397-2CC689C0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784A6-C2F8-461B-9388-84D3CF04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CC574-905C-4A1B-9E79-CB932796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EFE4E-4B6D-4121-B5E7-2E277CD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A63E5-F5A5-463F-920B-85C0077E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37660-3295-4D07-8C62-B10E8F6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AD656-86B8-48C9-BB20-2C423360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ED752-BAE9-44CE-B447-2289E302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FE65E-37F4-4A42-95DA-03620B03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0400E-A4D3-4C2C-BC8C-03D1547E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21D-B37B-461D-B3F0-78DDA910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631D4-C199-4A00-9BCF-587D525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8999C-3498-4CB8-B2AE-9A751CB5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6440B-F9CC-4F52-9D32-6391A106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5A510-7E27-4329-B4B5-BDE21F4A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2E9ED-A878-4568-BC95-9309DC59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60A66-83C1-41CC-BF37-A78521C4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1BB2F-2E0C-404E-BA87-0CC2D50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063D8-804E-4085-8158-FEE63CA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23EC3-149B-453A-ADD4-DA2C0C9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98E1B-9A27-4350-82E6-00779AD0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6EA-2F99-40E7-9A30-DD9BC43D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FDB57-BEAB-46E6-A6BE-141A63F6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DEE3F-851D-4B7B-BDF0-0226E685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556CC-5688-401D-9AFC-54A348E2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D8AF6-5FE2-4859-8491-3A6612A5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01FD1-8767-4DCF-BB31-81459EB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03F0A-C7D1-420D-9929-9EE961B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A93B4-67E6-41CA-9B78-C5FAA6E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4A975-A88C-4724-9E4B-4EA2916D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0D652-499B-4886-8923-18B39709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80DD1-BD93-4D52-9DCD-DAFB176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7C98-3FA7-467F-8A41-B96E2405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ED96D-D4B0-4B07-B8A5-4B1E3A7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D6757-BE44-4B2D-9F83-A26381B1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1EB09-03D4-4EC3-AAF6-0436DE87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6BE79-6FD3-4B2C-B632-F13E7E4C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998ED-53E9-4FE7-8692-CE46D4E3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7A962-EEA3-47F4-8A73-395A296C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9B2CD-244B-444B-A4D0-D1CEF58D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8C8EA-8FD9-4F39-BE9B-0404F871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E9646-5209-46E8-B145-9FCEA5AF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1B2FF-2433-4762-8022-C5B7C04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43A3-BFE9-48E6-8A03-9B71ECF8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64D9D-7731-480C-864A-E279AB60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FB7A3-1B8D-45DF-8A52-31C4BE1F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961D7-4F1E-4075-A172-5447009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27893-2FDF-4225-A176-3B65FF34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59F6C-CF84-4299-BC7E-570857F3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B3FE2-26DB-4614-8C20-F49F4731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C16DC-AFD8-4F12-84E6-A1611078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D4BBC-AB1F-4A4E-964B-4397F273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DEE32-FA4E-4969-B2EC-EAA9D2C5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BD71E-E41D-4D36-9C15-1DEF0C77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1BF6-7AB8-48CF-BFE5-A1A00DFA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5EA13-EB8A-4B3B-812D-BBC0F0EE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9F045-9B27-44D1-A672-15AB968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0503A-F5CC-4C01-A580-27408D6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ACA0D-A941-4DE8-BC63-3D23CDC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E5F8F-7304-441C-B3F9-3D793EEF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6CEFF-A5AA-46A2-9B15-DF01C224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519FB-703F-461D-9443-FF6D385C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32A1-A383-4A56-99B9-1B831FAB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7543-DE4E-4A0A-A655-08539CD0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E97C-52E1-4E64-BA54-FAD77E1A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859B-8F0F-4F30-A092-8E3B6422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C8A-8BC7-47F5-932C-2BB621CD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1F7F-844E-4905-9148-D9849443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9C46-462D-4EF3-B663-14FD3612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FED2-96CF-4605-8F29-67BD6F6A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06E4-843F-4A6C-8802-D402012C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7DF3-1F71-4942-B70B-3B643236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D2B5-C52A-4C8B-B5DA-71DB7AEE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8486-EEFB-4E7F-A8D1-CB3DD52C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A976-95A3-48A1-9A22-BB991C17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4253-679B-46DC-A83D-66547B2A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974D-7007-4C18-9D5D-C0DB40B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31A-56DB-4DCB-B54A-5FA5BCF4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BD8E-BD42-467A-9A4D-D8D9C36A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AB59-FDBC-4594-9C86-F025FCD7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FA96-792B-4720-BF60-E0E9E06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5E32-A76F-4E1B-AB71-FF5BCEA5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A376-5C2E-4C5F-888E-110B232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51F6-F2F6-4D80-A88E-C743A64C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2301-531A-4F3C-93EA-7E98F9A6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B687-839B-406E-A567-ACD31B73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3EC5-F097-454A-8B3D-156E1A4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18BC2-6FBD-4DEE-BE00-AF39E0D6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1E2-FB05-4300-B1D5-024D4F54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DD6D-A1AE-4409-8940-530E8847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43D0-C98E-4F5C-8C8C-163712B9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E9F45-20AF-4152-8888-7F279483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AA1F-8AA3-4103-A15C-E3124AC6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3BFF-C0AE-4C19-B3D9-FAA8975A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AA87-E0BD-47BB-ACD1-E789261A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1EC7A-28A4-4CD2-9EEA-24FA9CB4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05BE-B7CD-4E67-9304-35E3E4B3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26F90-9C9D-4809-B8B1-A968F84B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F1C7-2929-48AA-8794-DD8B8DE7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002-C41D-4F66-8160-1E720E9C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135A1-47CB-492A-8B2A-1D5CCA59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84683-A521-43E2-A312-803B0CA6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45D1-93AD-475D-833E-8277870A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94C1-0B0F-4C91-915C-17E4E4DA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2FD3-8B6F-4BAF-A30A-B5680F59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F15A-879A-4740-A461-8490A10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CE2D1-B32A-41BE-8584-8D1E448C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6AC2-2938-4967-8413-0755D1F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CAE26-A05E-4F9B-AF1A-1B56CE71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CC72-7E0C-4D76-929E-30FD32EA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136-A85D-4E30-A5DC-FA6B7614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1E806-17D3-4A91-B0CC-B3E010C2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BA049-E867-47CA-BBF0-DE009FC3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C917-5055-4BF6-A6A2-1287D5FB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90AC5-A5D9-4590-B430-E6887B5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5BC1A-F6DB-44E4-82CE-ECA42DAD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076C0-2B31-4E4A-B1E0-A773B327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ED002-1158-49B4-A310-A4E50393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0D0A9-E0DE-4057-97B7-662AC0D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1D42-3E56-40B2-91A5-4CA2EB0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174AE-0A54-4836-BFCC-3233607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2D0-71C4-4C29-AB04-81D311CA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F7FE8-B0A2-4778-ADB8-FD5B983E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1DCF-53C4-4CFD-9EE8-591AC07C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7BCF-E013-4BC1-A434-24A8C90B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D768E-136E-4986-8633-081B52F8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80670-D8CD-435D-A324-B3B61405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9066D-1DFE-452D-967A-D6274D7E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D2CF-F5ED-411F-A35D-5551E0A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569D-BF77-44B0-B8A9-C488E294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DE8FE-E070-4898-B9E6-0FE2C63E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603B0-6A91-41CF-B5F5-9F1917D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406-EFE2-418D-90BD-316AE7CB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D5C71-36D5-4FE2-B932-33E6D231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FD06-2F1F-424E-B2D1-C3F14B18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2ECCB-EB23-4351-B2C5-7CA22BAC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03BF-DB2A-47AB-B66B-6C8440F7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27EE0-4D98-4815-BBC4-769E5DF1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48B9C-AA5B-454E-96A6-2FA0E99F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AF8FB-798E-432F-94DB-CCC24E2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D5644-4078-45BD-A0C9-5DA48E8B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03453-03D5-4515-9ECA-C6F24908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F39A9-8354-4BD2-8C4F-A85FB3ED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380-C23D-4BA1-9454-D91CEFBB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2B53E-7705-4C0C-889E-C79E34E0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8BAE-2F38-4C3B-ACEF-E452E43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153B0-978A-42A7-B3A1-73BFF57A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C0BDC-F815-46F4-A498-5AB3F04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0FF69-8247-412E-9D11-2721B63A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9CE7D-99CC-4882-9FCA-AD0A1B0F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6806-3930-438F-852D-D2BBFC7A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3B3CF-9870-4995-8EA4-EEAD7AE9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0A068-2B9C-4C2B-9B66-49A936F8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A9CA3-DCD9-4539-9642-923B25F0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1B2F-08C3-4646-8991-903A7D0582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C07-9E79-4102-AA88-59AAA83480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7805-47F6-4EB8-8DC4-F94F79D19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77E0-627B-4EED-B2B0-B4E108F310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5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513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516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19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4FA-737A-4E2F-AA50-532ECA2C7D9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E95-5F05-4715-8D5E-059E1B2E4C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cc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>
                    <a:alpha val="0"/>
                  </a:srgbClr>
                </a:gs>
                <a:gs pos="100000">
                  <a:srgbClr val="d1a7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279"/>
                </a:gs>
                <a:gs pos="100000">
                  <a:srgbClr val="ffcc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94A-B169-41B8-8FF9-F5C40AE19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5070-46E0-4DC4-BF43-1CDBCEDDC3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D255-70FD-484C-B462-DD2AF3D444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540-C9F2-42A0-B196-BE66652090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FF5-6B98-48ED-89AB-320E5FE7CE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6F15-04D4-4640-8475-CBB955B22C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721-7EC6-48CD-93E1-887A1BC924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5/FirePhotography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Пожар</a:t>
            </a:r>
            <a:br>
              <a:rPr sz="9600"/>
            </a:br>
            <a:endParaRPr b="1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2743200" y="4648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зентация для 2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гулова Виктория Серге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У СОШ №21, г. Благовещенск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Picture 4" descr="Файл:FirePhotograp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962520"/>
            <a:ext cx="381312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8" name="Picture 4" descr="IMG_0006"/>
          <p:cNvPicPr/>
          <p:nvPr/>
        </p:nvPicPr>
        <p:blipFill>
          <a:blip r:embed="rId1"/>
          <a:stretch/>
        </p:blipFill>
        <p:spPr>
          <a:xfrm>
            <a:off x="3276720" y="380880"/>
            <a:ext cx="4800600" cy="613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4" descr="IMG_0009"/>
          <p:cNvPicPr/>
          <p:nvPr/>
        </p:nvPicPr>
        <p:blipFill>
          <a:blip r:embed="rId1"/>
          <a:stretch/>
        </p:blipFill>
        <p:spPr>
          <a:xfrm>
            <a:off x="1219320" y="380880"/>
            <a:ext cx="502920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Picture 4" descr="IMG_0010"/>
          <p:cNvPicPr/>
          <p:nvPr/>
        </p:nvPicPr>
        <p:blipFill>
          <a:blip r:embed="rId1"/>
          <a:stretch/>
        </p:blipFill>
        <p:spPr>
          <a:xfrm>
            <a:off x="1981080" y="228600"/>
            <a:ext cx="5257800" cy="64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итература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ая книга правил поведения для воспитанных детей / Г.П. Шалаева. – М.: Филол. о-во СЛОВО, ЭКСМО, 200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жарная безопасность в начальной школе: конспекты занятий и классных часов / О.В. Павлова, Г.П. Попова, Г.Н. Шевченко. – Волгоград: Учитель, 200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Загадки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рмишь – живёт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оишь – помрёт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деревне прошёл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чего не осталос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аленьком амба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ржат сто пожар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6" descr="spichki"/>
          <p:cNvPicPr/>
          <p:nvPr/>
        </p:nvPicPr>
        <p:blipFill>
          <a:blip r:embed="rId1"/>
          <a:stretch/>
        </p:blipFill>
        <p:spPr>
          <a:xfrm>
            <a:off x="7010280" y="3124080"/>
            <a:ext cx="1600200" cy="1551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" descr="Файл:FirePhotography.jpg"/>
          <p:cNvPicPr/>
          <p:nvPr/>
        </p:nvPicPr>
        <p:blipFill>
          <a:blip r:embed="rId2"/>
          <a:stretch/>
        </p:blipFill>
        <p:spPr>
          <a:xfrm>
            <a:off x="5181480" y="4876920"/>
            <a:ext cx="2212920" cy="1576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i15"/>
          <p:cNvPicPr/>
          <p:nvPr/>
        </p:nvPicPr>
        <p:blipFill>
          <a:blip r:embed="rId3"/>
          <a:stretch/>
        </p:blipFill>
        <p:spPr>
          <a:xfrm>
            <a:off x="5638680" y="838080"/>
            <a:ext cx="141300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словицы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да в огне не горит и в воде не то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м без огня не быва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воре и шапка гор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гко чужими руками жар загреб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искры возгорится плам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тские произвед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теперь про чей-то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говор мы поведё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ём богатая хозяй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певаючи жи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 беда пришла неждан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т дом сгорел дотл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4" name="Picture 4" descr="IMG_0004"/>
          <p:cNvPicPr/>
          <p:nvPr/>
        </p:nvPicPr>
        <p:blipFill>
          <a:blip r:embed="rId1"/>
          <a:stretch/>
        </p:blipFill>
        <p:spPr>
          <a:xfrm>
            <a:off x="5334120" y="2743200"/>
            <a:ext cx="3502080" cy="383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мяукали котя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Надоело нам мяук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хотим, как поросят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рюкать!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7" name="Picture 4" descr="IMG_0007"/>
          <p:cNvPicPr/>
          <p:nvPr/>
        </p:nvPicPr>
        <p:blipFill>
          <a:blip r:embed="rId1"/>
          <a:stretch/>
        </p:blipFill>
        <p:spPr>
          <a:xfrm>
            <a:off x="5257800" y="1905120"/>
            <a:ext cx="3565440" cy="46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ут пожарны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ет мили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щут фотогра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нашей столиц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5" descr="картинка"/>
          <p:cNvPicPr/>
          <p:nvPr/>
        </p:nvPicPr>
        <p:blipFill>
          <a:blip r:embed="rId1"/>
          <a:stretch/>
        </p:blipFill>
        <p:spPr>
          <a:xfrm>
            <a:off x="5256360" y="2971800"/>
            <a:ext cx="27446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ебусы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3" name="Picture 5" descr="IMG_0008"/>
          <p:cNvPicPr/>
          <p:nvPr/>
        </p:nvPicPr>
        <p:blipFill>
          <a:blip r:embed="rId1"/>
          <a:stretch/>
        </p:blipFill>
        <p:spPr>
          <a:xfrm>
            <a:off x="5334120" y="4191120"/>
            <a:ext cx="3373200" cy="2381040"/>
          </a:xfrm>
          <a:prstGeom prst="rect">
            <a:avLst/>
          </a:prstGeom>
          <a:ln w="0">
            <a:noFill/>
          </a:ln>
        </p:spPr>
      </p:pic>
      <p:sp>
        <p:nvSpPr>
          <p:cNvPr id="584" name="WordArt 6"/>
          <p:cNvSpPr txBox="1"/>
          <p:nvPr/>
        </p:nvSpPr>
        <p:spPr>
          <a:xfrm>
            <a:off x="457200" y="1752480"/>
            <a:ext cx="305280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5" name="WordArt 9"/>
          <p:cNvSpPr txBox="1"/>
          <p:nvPr/>
        </p:nvSpPr>
        <p:spPr>
          <a:xfrm>
            <a:off x="2895480" y="2590920"/>
            <a:ext cx="4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WordArt 10"/>
          <p:cNvSpPr txBox="1"/>
          <p:nvPr/>
        </p:nvSpPr>
        <p:spPr>
          <a:xfrm>
            <a:off x="1828800" y="1600200"/>
            <a:ext cx="46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WordArt 11"/>
          <p:cNvSpPr txBox="1"/>
          <p:nvPr/>
        </p:nvSpPr>
        <p:spPr>
          <a:xfrm>
            <a:off x="762120" y="2743200"/>
            <a:ext cx="46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WordArt 12"/>
          <p:cNvSpPr txBox="1"/>
          <p:nvPr/>
        </p:nvSpPr>
        <p:spPr>
          <a:xfrm>
            <a:off x="4572000" y="1295280"/>
            <a:ext cx="2590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го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авила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Picture 4" descr="IMG_0003"/>
          <p:cNvPicPr/>
          <p:nvPr/>
        </p:nvPicPr>
        <p:blipFill>
          <a:blip r:embed="rId1"/>
          <a:stretch/>
        </p:blipFill>
        <p:spPr>
          <a:xfrm>
            <a:off x="2514600" y="990720"/>
            <a:ext cx="3994200" cy="556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4" name="Picture 4" descr="IMG_0002"/>
          <p:cNvPicPr/>
          <p:nvPr/>
        </p:nvPicPr>
        <p:blipFill>
          <a:blip r:embed="rId1"/>
          <a:stretch/>
        </p:blipFill>
        <p:spPr>
          <a:xfrm>
            <a:off x="228600" y="685800"/>
            <a:ext cx="4168800" cy="5877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IMG_0005"/>
          <p:cNvPicPr/>
          <p:nvPr/>
        </p:nvPicPr>
        <p:blipFill>
          <a:blip r:embed="rId2"/>
          <a:stretch/>
        </p:blipFill>
        <p:spPr>
          <a:xfrm>
            <a:off x="4495680" y="685800"/>
            <a:ext cx="433224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6-30T07:09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