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1E0-F17D-442B-9D0E-98F7B739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2B7-E80B-46E2-9709-FA06ACB3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D31F8-C80C-4140-83FC-77EC4DE7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D1C5C-A4B7-471E-943C-936E337E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2CE39-FF0A-4FC9-B4BF-7F713C49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7B4DE-CADB-4533-B913-CA035F0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3A5A6-EB8B-4C91-AA39-6C27FD60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5F3F2-0CBE-45AF-8FD8-C11A4654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E5D46-D963-413B-A668-C3AE9A22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1F55B-F208-448D-AD2F-6F29FC6D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CE677-2615-4F7E-BDA3-E39A0702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DB8B3-6C13-44BC-8245-ABDB9743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4D5-79C7-4B69-81B5-8B8568BB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B6F41-687E-4854-9C41-A786571F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2BEEA-D428-4717-9EBB-0C618DFD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F35B1-8E56-4A95-8867-DB0F9C6E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74BF9-EE3B-4578-8316-1DDD7AE9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6CDFD-15D9-4EDB-814E-EC60488F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483D0-2C18-4127-8AB5-52E5D93A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A0AC9-05F0-4DBD-A974-D1B08487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4D7AE-2CD4-469A-9E85-D53F1D96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DB3D7-5474-4DB3-8332-FBBCD3A3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2E349-F37B-4496-8475-68FAE56A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061-DA0E-4F89-BAFC-EFFE4772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C5EDE-B401-4A6D-B7FE-A6C0AA20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3CEFA-85E0-4A54-A0D5-2A62E2F4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94A14-5656-43DE-96C1-F7F38587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3369A-A662-44B4-800E-9A65B086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FA864-1D5F-4896-B978-315FF14C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5609E-0306-4ACD-B3E6-D862F39B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B3CEA-DF47-4810-99B7-CEC65041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4FDB8-7545-4347-BB28-088CD0A1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27215-760A-4466-A2BC-B171877B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0CA2B-4405-471A-9E2A-37B9BDAF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B2EA-1D55-465A-B3B2-5D1FF7AE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BD1F3-73C4-49D0-97F0-C48EA15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8CE3D-6729-4902-B77B-2C1D262D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F124D-21A4-46C3-89A7-05837011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8D324-B096-4087-AF85-35B2CC3B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82B19-2546-4C2D-B536-C31799A2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296E2-6207-46E2-A320-F1178EC2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14CF6-E5CA-4F12-AB46-15536F6B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B5482-4269-4FA0-B352-4438CD37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3401E-A73A-4822-84A7-87EA2BE4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08478-FD66-4EF9-9AC9-3A85EF8E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AEC4-BDCA-40F6-B684-FBED9314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72ED1-26A1-40D5-A692-2E78AF1F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72200-9D37-4360-B4D5-CC2BA6D6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BE5B3-3AFF-4089-8A17-3A0C981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F1907-B1F4-472E-8E2D-C5EA8C91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B4BAA-0374-4E1F-8FF9-07806778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6E929-E4B9-45AD-901E-16EA6D77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CE158-07C9-4A25-85B8-DE244715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BD34C-9E0B-44EE-B35E-F1D24783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4B231-A4A2-49AE-8081-DBF044DD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9D2A7-F07C-463D-B4D4-9E7196E6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4D7A-63F4-40E5-A0F4-FDA4A907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057EA-D863-43A2-B962-0A395073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A61EA-624C-4567-906D-447241EB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607D0-EAAC-46A7-ADD3-6F44E4E0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05A58-ECD9-4B16-B616-E48F1530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CE922-4C56-463D-9350-E1FE8D1A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CFBA2-14C5-4DBD-9623-E02E4DF5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DD8CE-6A89-4FCD-85AA-92EB82C4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121D-1E76-499D-A38D-BF5BB282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03A1-7E6A-49C8-816A-96A22F7D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A480-FCD6-4CCC-9606-A377A8A6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4CB9-445D-4E58-91FF-1EBEF2B2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D39-A901-4DA4-9E3C-5BE0E8C9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B254-2945-4901-A363-15793942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95FC-4939-4097-9567-35F30115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6002-349F-4524-AB2E-CC74D8A8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0858-A3D2-43B2-BDE4-4F5FE709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A463-42D2-4C94-9C5E-B778446F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324F-84B2-42E4-A7CD-888495F7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6E7A-89D0-4AE0-88A0-577FE93C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AB90E-713E-4C98-9CAE-83E8C5AF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569A-CA7C-4003-9002-1B46BBA0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8ED6-9FB8-45BD-8125-3FB96D9B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844-6274-4989-8705-D7C4CC80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760D-DFB6-4C5C-964D-8F7C0621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0C4B-22B7-403A-8616-4E579F6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FF8CF-A969-4E41-A2BC-29C8DF58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2931A-6056-46DF-99F3-D12CFA4E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4D8A-19D0-4061-B805-D8F7C132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4D9ED-BBC6-49A5-9A19-91E4A032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7704-3514-4376-BC26-D03D6578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04702-842E-4ACB-AD82-B5A29C5C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409EF-B0F9-42F7-9B55-CFF0496C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4404-0146-4D17-AF0A-7D14BCE2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0FB-E049-449B-8059-F7C97AFD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197BA-7594-40BA-A891-1752558F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B7B6F-0407-4EA1-98D9-904B653A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DC9C8-823C-494D-A047-6F66A1F9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A5DC-4838-44DF-B56B-EAC7057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859A-E918-45DF-8749-F931D35B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ACCFC-21DC-42B7-BC1E-0730D29E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0E499-AA51-4686-862E-826AA8D1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D03BC-4AA9-4F0D-BA6E-94ABA8F8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B63C-788A-4ACF-9EB7-182834C8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50E80-9DF5-44E4-A561-1D379E86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6C7-ACB9-4ECA-A858-C682CE7A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9B6EE-C8EB-4CFA-8066-38E81D4E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474DE-5406-4124-89B2-D65597EE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E0DFA-1B86-49B7-A15B-729BD392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6BD2-39D6-4D1C-AD94-59AE3700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5FA68-7EEE-4633-917D-9D485797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FD2A-1628-4F3F-B313-D435E6A1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06606-A26A-4C85-9923-D8E40AC2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596A-CCDF-4922-AA33-D40B5D15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3E8F6-DFAD-4596-B127-02BFA257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66635-1DCF-498D-B8A6-33335640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F69-1CCB-41C8-ADDC-3381C1A0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BE84C-C4DD-4199-A822-8D8C40E9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9CB46-A4E7-49A6-A13D-80579E97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E5E84-7883-4A43-A25F-A82318E2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B9AF8-A5A0-4766-8191-36F1A1FC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4F2F3-7264-4DE0-A068-97103B55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E21EE-AE3F-4116-A57E-9046F249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BC949-4571-48AE-BB19-FF02DDE9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094C3-9785-4BF3-8078-F530B6DF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F2626-D048-4D56-9D3C-1F8D08CD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C00C7-F4AD-4F96-8484-6ABADFE3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1AB-8C8A-4506-8D6A-D4292304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0916-66DA-45D6-AC18-25B0504F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9EF9-C760-4CA1-A476-38EA3B19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E3139-1733-414F-89C1-26F80EA5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588B2-AD59-4F94-A33D-4FE3C03B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242D5-0A96-4E95-B3A4-7646EDE9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C177B-B057-4CFD-B647-901401BA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F6708-8C93-4D66-A333-E995CE20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F5FC3-2F36-43B6-BCEB-59B3F3B5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C474A-83C6-48DD-A178-279B8995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E0329-A1A2-4DAA-8254-1BA6AA44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8AB-68DA-4318-88FF-3C450544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A1DDA-CD33-4067-87EC-D0DD4965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7A71D-4C7A-4A27-BCFE-20A8A31E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F3EF4-28A3-4F87-954F-09A17C43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B9101-B94D-42D0-ACDC-95C2B6AF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0E57E-34D6-4201-A1E4-66253768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B5DF8-0595-42F7-8FD6-A2F628F8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B4E84-DD8B-4865-8660-D7B840CD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F5C6B-8DB5-4D7A-9A29-6C1E213D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8621A-43D4-4ADF-BE25-0642FD62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26B6D-FD56-4C4F-90F5-A1383F00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F8A-FCCB-487D-87FF-629C6B99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1EBA1-0DF7-4EC1-8D43-B45068BC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3AFF7-5E66-4FA4-8367-9925B794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F3B37-D4DD-474D-8F25-4C590FA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0DA5C-5B8A-4E2A-B7BC-ED4838D7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2ABB3-AC39-4998-BC84-78469B98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825BC-EB0B-4F45-861E-4661E1D1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61E54-6A4D-4A65-BAB6-4978B3AD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78A40-907C-4070-B901-0E84A225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E4948-054C-4647-96DC-89CBE30A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0C922-3DAF-4552-8F5E-ED52F3DB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5FEC-146C-4A79-BF6D-61A632FC72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4B0A-780B-4302-A246-976406B1B0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85EB-908D-4BAF-8A72-6A3D225B75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5EF7-ECA7-48D7-8360-526EED477C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f5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513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516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19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D5A2-9A55-4E2D-B8A9-C6805F850B9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d1a7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d1a7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ADAA-6EC1-4DB5-92FA-4EC719150C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cc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d1a7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d1a7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141C-3AC0-48D1-92FA-9B9D0BF485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0B5D-EC35-44B2-B16F-DC12474692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91F3-341F-43E6-A7A0-E59CAB1AAC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E765-8EA7-4B95-B3FC-CC0F9633D6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6FB-9035-4867-B036-BFFFF01E6B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7C84-5171-481D-9FED-4ADC38EB9F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FF9-8084-4551-A2C9-D18569C46D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5/FirePhotography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Пожар</a:t>
            </a:r>
            <a:br>
              <a:rPr sz="9600"/>
            </a:br>
            <a:endParaRPr b="1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2743200" y="4648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зентация для 2 кла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егулова Виктория Серге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У СОШ №21, г. Благовещенск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4" name="Picture 4" descr="Файл:FirePhotograph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962520"/>
            <a:ext cx="3813120" cy="271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8" name="Picture 4" descr="IMG_0006"/>
          <p:cNvPicPr/>
          <p:nvPr/>
        </p:nvPicPr>
        <p:blipFill>
          <a:blip r:embed="rId1"/>
          <a:stretch/>
        </p:blipFill>
        <p:spPr>
          <a:xfrm>
            <a:off x="3276720" y="380880"/>
            <a:ext cx="4800600" cy="613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4" descr="IMG_0009"/>
          <p:cNvPicPr/>
          <p:nvPr/>
        </p:nvPicPr>
        <p:blipFill>
          <a:blip r:embed="rId1"/>
          <a:stretch/>
        </p:blipFill>
        <p:spPr>
          <a:xfrm>
            <a:off x="1219320" y="380880"/>
            <a:ext cx="502920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4" name="Picture 4" descr="IMG_0010"/>
          <p:cNvPicPr/>
          <p:nvPr/>
        </p:nvPicPr>
        <p:blipFill>
          <a:blip r:embed="rId1"/>
          <a:stretch/>
        </p:blipFill>
        <p:spPr>
          <a:xfrm>
            <a:off x="1981080" y="228600"/>
            <a:ext cx="5257800" cy="642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Литература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ьшая книга правил поведения для воспитанных детей / Г.П. Шалаева. – М.: Филол. о-во СЛОВО, ЭКСМО, 200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жарная безопасность в начальной школе: конспекты занятий и классных часов / О.В. Павлова, Г.П. Попова, Г.Н. Шевченко. – Волгоград: Учитель, 200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Загадки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рмишь – живёт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оишь – помрёт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деревне прошёл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чего не осталос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аленьком амба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ржат сто пожар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Picture 6" descr="spichki"/>
          <p:cNvPicPr/>
          <p:nvPr/>
        </p:nvPicPr>
        <p:blipFill>
          <a:blip r:embed="rId1"/>
          <a:stretch/>
        </p:blipFill>
        <p:spPr>
          <a:xfrm>
            <a:off x="7010280" y="3124080"/>
            <a:ext cx="1600200" cy="15512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0" descr="Файл:FirePhotography.jpg"/>
          <p:cNvPicPr/>
          <p:nvPr/>
        </p:nvPicPr>
        <p:blipFill>
          <a:blip r:embed="rId2"/>
          <a:stretch/>
        </p:blipFill>
        <p:spPr>
          <a:xfrm>
            <a:off x="5181480" y="4876920"/>
            <a:ext cx="2212920" cy="15764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i15"/>
          <p:cNvPicPr/>
          <p:nvPr/>
        </p:nvPicPr>
        <p:blipFill>
          <a:blip r:embed="rId3"/>
          <a:stretch/>
        </p:blipFill>
        <p:spPr>
          <a:xfrm>
            <a:off x="5638680" y="838080"/>
            <a:ext cx="141300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словицы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да в огне не горит и в воде не тон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ым без огня не быва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воре и шапка гор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гко чужими руками жар загреб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искры возгорится плам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тские произведени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теперь про чей-то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говор мы поведё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ём богатая хозяй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певаючи жи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 беда пришла нежданн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т дом сгорел дотла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4" name="Picture 4" descr="IMG_0004"/>
          <p:cNvPicPr/>
          <p:nvPr/>
        </p:nvPicPr>
        <p:blipFill>
          <a:blip r:embed="rId1"/>
          <a:stretch/>
        </p:blipFill>
        <p:spPr>
          <a:xfrm>
            <a:off x="5334120" y="2743200"/>
            <a:ext cx="3502080" cy="383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мяукали котят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Надоело нам мяук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 хотим, как поросят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рюкать!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7" name="Picture 4" descr="IMG_0007"/>
          <p:cNvPicPr/>
          <p:nvPr/>
        </p:nvPicPr>
        <p:blipFill>
          <a:blip r:embed="rId1"/>
          <a:stretch/>
        </p:blipFill>
        <p:spPr>
          <a:xfrm>
            <a:off x="5257800" y="1905120"/>
            <a:ext cx="3565440" cy="464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щут пожарны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щет мили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щут фотограф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нашей столице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Picture 5" descr="картинка"/>
          <p:cNvPicPr/>
          <p:nvPr/>
        </p:nvPicPr>
        <p:blipFill>
          <a:blip r:embed="rId1"/>
          <a:stretch/>
        </p:blipFill>
        <p:spPr>
          <a:xfrm>
            <a:off x="5256360" y="2971800"/>
            <a:ext cx="27446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ебусы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3" name="Picture 5" descr="IMG_0008"/>
          <p:cNvPicPr/>
          <p:nvPr/>
        </p:nvPicPr>
        <p:blipFill>
          <a:blip r:embed="rId1"/>
          <a:stretch/>
        </p:blipFill>
        <p:spPr>
          <a:xfrm>
            <a:off x="5334120" y="4191120"/>
            <a:ext cx="3373200" cy="2381040"/>
          </a:xfrm>
          <a:prstGeom prst="rect">
            <a:avLst/>
          </a:prstGeom>
          <a:ln w="0">
            <a:noFill/>
          </a:ln>
        </p:spPr>
      </p:pic>
      <p:sp>
        <p:nvSpPr>
          <p:cNvPr id="584" name="WordArt 6"/>
          <p:cNvSpPr txBox="1"/>
          <p:nvPr/>
        </p:nvSpPr>
        <p:spPr>
          <a:xfrm>
            <a:off x="457200" y="1752480"/>
            <a:ext cx="305280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5" name="WordArt 9"/>
          <p:cNvSpPr txBox="1"/>
          <p:nvPr/>
        </p:nvSpPr>
        <p:spPr>
          <a:xfrm>
            <a:off x="2895480" y="2590920"/>
            <a:ext cx="4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6" name="WordArt 10"/>
          <p:cNvSpPr txBox="1"/>
          <p:nvPr/>
        </p:nvSpPr>
        <p:spPr>
          <a:xfrm>
            <a:off x="1828800" y="1600200"/>
            <a:ext cx="466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WordArt 11"/>
          <p:cNvSpPr txBox="1"/>
          <p:nvPr/>
        </p:nvSpPr>
        <p:spPr>
          <a:xfrm>
            <a:off x="762120" y="2743200"/>
            <a:ext cx="466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WordArt 12"/>
          <p:cNvSpPr txBox="1"/>
          <p:nvPr/>
        </p:nvSpPr>
        <p:spPr>
          <a:xfrm>
            <a:off x="4572000" y="1295280"/>
            <a:ext cx="2590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го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авила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1" name="Picture 4" descr="IMG_0003"/>
          <p:cNvPicPr/>
          <p:nvPr/>
        </p:nvPicPr>
        <p:blipFill>
          <a:blip r:embed="rId1"/>
          <a:stretch/>
        </p:blipFill>
        <p:spPr>
          <a:xfrm>
            <a:off x="2514600" y="990720"/>
            <a:ext cx="3994200" cy="556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4" name="Picture 4" descr="IMG_0002"/>
          <p:cNvPicPr/>
          <p:nvPr/>
        </p:nvPicPr>
        <p:blipFill>
          <a:blip r:embed="rId1"/>
          <a:stretch/>
        </p:blipFill>
        <p:spPr>
          <a:xfrm>
            <a:off x="228600" y="685800"/>
            <a:ext cx="4168800" cy="5877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IMG_0005"/>
          <p:cNvPicPr/>
          <p:nvPr/>
        </p:nvPicPr>
        <p:blipFill>
          <a:blip r:embed="rId2"/>
          <a:stretch/>
        </p:blipFill>
        <p:spPr>
          <a:xfrm>
            <a:off x="4495680" y="685800"/>
            <a:ext cx="4332240" cy="5867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6-30T07:09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