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8.gif" ContentType="image/gif"/>
  <Override PartName="/ppt/media/image18.jpeg" ContentType="image/jpeg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088E-0D43-4560-B934-69A40AEDD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CADF-E52A-4724-9EC8-772B6F72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B6DBC5-524A-4426-91C7-963716FB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2CB5E8-010E-4193-9C75-865EAEE2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AE465-814B-4AE9-8D6E-A7ABE2D9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044A8-C16E-4E46-B2DC-A0E45BAB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9E83E9-D851-4909-A684-7FB7C082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374369-D391-4D43-B48C-1C2A953A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D9A05-1E63-4BFF-BDBB-472BE679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7F4954-CAA2-43AA-AA5C-18C2A175C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649FE-4490-4661-9D95-CEAAD6020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9D5A3B-BA26-491B-9E8C-90C29CAE0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5257-3E4C-49C7-8A4B-C47E7D996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184EA2-87D9-4F6A-9997-EA314FA2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C0051-9EAA-46A9-8313-4E2DB8BB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3C5B69-21A6-4967-972E-50C60378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FDD75E-A013-41B2-9E35-00EE3091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5C72C1-F445-468E-ACB8-6FA643B3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13ADB-04EA-4528-BBF8-6F37D6FD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DA6A9-072E-4083-9536-6810A0B4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35B6E-B5FE-45F5-97E3-960FFB1A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8D5D96-D985-4AD8-B580-F5F21AEC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3CD2D1-6DC8-4D55-9313-61C5799D8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7A94-AF09-4FF6-9AC7-2112C0FFE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62C176-0010-4EB2-89F9-CA6FDA9D6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37ADB-66C0-432A-8D79-EB0ECD2AC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F5AA1-92D5-47E6-8DD0-4B0EFB80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A845D-894A-439D-8F83-3006FB84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F725E-EC20-45CF-8F1F-F7DBFE59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CDA638-4E67-42AB-B1C3-D4A9CC74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1E05E-AE83-4B04-8054-B4E6DF10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489DF-CDFE-488E-9582-B4A7D940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25490-52E2-4963-BB0B-0EC89ABA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42514-3B58-4F97-BCC1-48E36FC9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8637-2621-4643-AC4C-BFAACB576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ACE6A-DDFD-4374-A332-5FECBD59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1CDAD-1941-4F86-B871-0AB29F3ED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2E109-E462-4B72-8116-909B90EDE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408716-B4B4-4AB8-AEE8-D637895BC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26B909-C674-4B16-BF8C-FC94C512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9A9841-8756-41F3-917F-6CCE3474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B6750A-5F31-4DEB-9CAC-9A0C700E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E7111E-0737-4814-92E7-DBD42A02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CA1542-4A64-4968-A14A-19D9DEA4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DA76B4-8FFC-45F5-A3EC-521B9B1C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F5D0-3B4D-49DB-BAA6-F79FF62C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BFB2DE-CD19-4FD8-93DA-70EC0588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600457-29B1-4A14-9313-3B00F77D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1DC1C9-63E7-4F29-8E9E-317B1A07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83D31E-D1EB-4B09-A80D-BC6A0539D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5F349F-37CF-4FB8-B870-96E58D972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D81EAC-3ECB-4408-8B1D-A9D7F34D5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21B39F-88D8-49FF-B747-5A2EF822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E21283-EF96-4F02-A106-0F71F607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2AE945-811F-416C-9869-5FEB8817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479454-181D-43C9-981E-0558D55F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CB7D-8A1B-4FFA-B7D2-37DFF6F9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F9B765-661C-48FD-A80E-806A7DBA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C8446C-97EC-48EA-B515-BBF5435A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0EBFA5-3AF4-4020-9105-6D37FF64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55C3B4-91C0-40A6-8DFC-7960ECEC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F6EB6D-1139-4F6C-9E0A-8DD29C44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C7CDF3-ED41-4F57-8053-26633B9E0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746BE4-CA15-4CF2-8286-BB6755B60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A839-DEBB-4EAD-A53B-04260CD5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45EF-D6E5-4BAA-8082-41A42D42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75E7-0BA8-488C-BF18-102FB51C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8D6D-B9C6-4769-854B-1354BA46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79E3-218B-414B-AD4B-84A0FA3D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F8B4-690B-416E-B551-D35B2294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05F1-5B31-465E-9FDF-BC22FD8C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D644-D204-4F37-AE20-2A5D831F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C273-AA0D-4AA5-ADC6-DC3C97A0D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0980-91B1-4036-864A-11827A637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33415-299C-494F-9F5B-29A34A232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2A88C-7A4D-43DC-B8D1-02BB5FE2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5BCA6-A415-4EE0-843E-0DA6F674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CE052-FADC-4314-8742-8447C10E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7BB1A-2EB7-4E22-B424-62301B37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5A6E-78B2-4DD7-8719-4D1E220E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E412D-C4F3-4AF2-AAD4-5CD38868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C5C9D-2CB4-464B-BB4C-FBABB200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DC66D-8114-47EE-9A6C-91942F61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B04B3-9651-484C-95DF-4166A1ED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9B818-91CA-497B-9820-20BD42D7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8B5D9-6579-435A-A55A-86112E781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A058E-6BEA-4FAF-99DD-F83F8ACC2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2134F-199D-41D1-96A5-3AB1FBF51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EEDE5-9127-4B6D-BFAB-798F482F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54422-F31A-4B8A-95C0-5DB59F3C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B1B2-8947-4199-9973-CEC249AC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A0D97-EA36-455A-AF51-9E471BAD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57612-1BA2-4983-B3A4-A93844DE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CD628-90C7-421D-9F68-322BDBCA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07B8B-7CD5-417C-B70E-CFC78F4E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0B304-16F3-4444-B34F-A368A546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6E165-0F9A-4586-B8F9-AD09BA9F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5F426-B27C-4E84-9D78-028F6C67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678EF-7221-430C-B8D0-AD0F228B5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73A6F-40BE-41DA-A6F0-CACD6AF6F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CA0A1-34E7-4402-AEF1-45893C1EE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D848-7225-4F25-966E-F942397C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7D74A-2332-4AB9-8E38-ACDCCEB6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E08A2-A97A-4C07-9342-B73711FB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D15C7-143B-448D-BFA2-D945ED71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6CBF2-DFE7-4009-A5C0-BCBCCBA7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0DB1A-4315-4A97-B43E-B19D6454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9F529-7141-496C-8932-3BC650D4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8AA1B-8635-403E-8014-732E818C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57A8B-A763-4AB6-8AC6-74B14C36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F0F15-2FEC-4342-957A-AF2F72A2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AB19E-70EC-48B6-AD67-9B974CF81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767D-1ACF-4C41-A874-B2A7AB8A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C0847-3F58-4F03-80B5-A862CF239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7032A-CC2E-4335-B509-D8DD865EA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F44DF-032B-4F3C-A4A2-FA35C439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DC25F-939C-4474-96FA-F04C9EE7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58844-3E38-4C37-A3DC-196B89AC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282D8-37CF-4AE2-8C06-2ED9F100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73201-4DCA-4668-9AAA-454EABFD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42B97-1396-4698-A1FD-634DEFAE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64B35-76C3-4DA2-83C5-36DC2D01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3751F-3DE1-4327-8162-B1E3DBE7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4642-2429-416A-9660-CCEA27E6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FB7E0-55A8-42D7-A6D7-5CE43D5F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423AB-DF00-41A8-8DC8-EBE6269F0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250FB-73CB-4EC6-9842-43C3CAC80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96B2D-ADC0-4E27-ADA3-65127F16C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358F2-651F-469A-8195-BDEFE816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8AFBD-D8CF-4AE7-8CD7-D3331192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7BB6C-12BE-4214-A579-C0B3F775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D7B87-1CB0-4D3B-BDFD-A224DE9A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32AD0-E85A-4947-8C07-6ABBA3F5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F4AD0-4B1E-4758-ABB4-39EF1E23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34B5-0B36-45B3-810E-C92A61D4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AC06B-4224-418B-8E3B-5F9E0684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F5826-6FCE-46A9-B5A2-11BA96B6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916B5-AF1F-44DB-98BC-15223D0F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315D9-3C3F-41B9-8E6B-E74957428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7D29A-CECD-417E-A090-4CE1FC7A6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EA5DE-2C01-4E71-8C5A-561E66916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BB326-4579-4CE6-9B20-59B7ACA6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D4635-A331-4C55-93EA-753FF3FA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7E075-0BDF-447D-A0CA-3727F5DF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C26CB-6721-4F63-B6C0-5BB27198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386A-5E67-43BE-A460-76B161F6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5A972-6EEB-416B-9930-572E18D0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D803E-BE26-45C6-B352-0B9E0030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6C2F7-B911-4B23-8E02-517FE2BC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3C8B8-3442-4DA6-961B-986167B2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5811A-CCC6-43B9-A5CF-89F96D4D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860D7-F1FD-4DD5-BF15-7C5541F28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92379-A29E-4CA5-83FB-C5688D2F4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CDD869-AFFB-4B1D-B0B5-6E474B512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B0B8B-D53D-4BC2-A342-7860A22E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D8E6D-4DCD-4D84-BD4D-60068111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626F-D1E4-4F4F-A3A8-C2227864DA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ADF9-C108-475F-92F4-4B5F906800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39AE-26AA-4B88-AE9A-7F0F85DE97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1856-EF02-48F7-A094-BC38D85A50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f5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Freeform 6"/>
          <p:cNvSpPr/>
          <p:nvPr/>
        </p:nvSpPr>
        <p:spPr>
          <a:xfrm>
            <a:off x="0" y="0"/>
            <a:ext cx="9153360" cy="1862280"/>
          </a:xfrm>
          <a:custGeom>
            <a:avLst/>
            <a:gdLst/>
            <a:ahLst/>
            <a:rect l="l" t="t" r="r" b="b"/>
            <a:pathLst>
              <a:path w="9153196" h="1862136">
                <a:moveTo>
                  <a:pt x="52" y="1284"/>
                </a:moveTo>
                <a:cubicBezTo>
                  <a:pt x="35" y="491948"/>
                  <a:pt x="17" y="1371472"/>
                  <a:pt x="0" y="1862136"/>
                </a:cubicBezTo>
                <a:cubicBezTo>
                  <a:pt x="304800" y="1706688"/>
                  <a:pt x="1952287" y="1117060"/>
                  <a:pt x="2999284" y="1051560"/>
                </a:cubicBezTo>
                <a:cubicBezTo>
                  <a:pt x="4046281" y="986060"/>
                  <a:pt x="5541316" y="1353820"/>
                  <a:pt x="6281980" y="1469136"/>
                </a:cubicBezTo>
                <a:cubicBezTo>
                  <a:pt x="7022644" y="1584452"/>
                  <a:pt x="8247940" y="1834896"/>
                  <a:pt x="9144052" y="1487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Freeform 7"/>
          <p:cNvSpPr/>
          <p:nvPr/>
        </p:nvSpPr>
        <p:spPr>
          <a:xfrm>
            <a:off x="0" y="0"/>
            <a:ext cx="9153360" cy="1481040"/>
          </a:xfrm>
          <a:custGeom>
            <a:avLst/>
            <a:gdLst/>
            <a:ahLst/>
            <a:rect l="l" t="t" r="r" b="b"/>
            <a:pathLst>
              <a:path w="9153196" h="1481136">
                <a:moveTo>
                  <a:pt x="52" y="1284"/>
                </a:moveTo>
                <a:cubicBezTo>
                  <a:pt x="35" y="491948"/>
                  <a:pt x="17" y="990472"/>
                  <a:pt x="0" y="1481136"/>
                </a:cubicBezTo>
                <a:cubicBezTo>
                  <a:pt x="414528" y="1319592"/>
                  <a:pt x="1857799" y="987520"/>
                  <a:pt x="2980996" y="960120"/>
                </a:cubicBezTo>
                <a:cubicBezTo>
                  <a:pt x="4104193" y="932720"/>
                  <a:pt x="6019852" y="1271016"/>
                  <a:pt x="6739180" y="1316736"/>
                </a:cubicBezTo>
                <a:cubicBezTo>
                  <a:pt x="7458508" y="1362456"/>
                  <a:pt x="8247940" y="1453896"/>
                  <a:pt x="9144052" y="1106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gradFill rotWithShape="0">
            <a:gsLst>
              <a:gs pos="0">
                <a:srgbClr val="249eae">
                  <a:alpha val="69019"/>
                </a:srgbClr>
              </a:gs>
              <a:gs pos="100000">
                <a:srgbClr val="40c6d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Freeform 6"/>
          <p:cNvSpPr/>
          <p:nvPr/>
        </p:nvSpPr>
        <p:spPr>
          <a:xfrm>
            <a:off x="0" y="1335240"/>
            <a:ext cx="9147240" cy="4084560"/>
          </a:xfrm>
          <a:custGeom>
            <a:avLst/>
            <a:gdLst/>
            <a:ahLst/>
            <a:rect l="l" t="t" r="r" b="b"/>
            <a:pathLst>
              <a:path w="9147403" h="3043297">
                <a:moveTo>
                  <a:pt x="0" y="140794"/>
                </a:moveTo>
                <a:cubicBezTo>
                  <a:pt x="784860" y="19414"/>
                  <a:pt x="1778000" y="0"/>
                  <a:pt x="2828544" y="80024"/>
                </a:cubicBezTo>
                <a:cubicBezTo>
                  <a:pt x="3879088" y="160048"/>
                  <a:pt x="5543207" y="732168"/>
                  <a:pt x="6595872" y="757213"/>
                </a:cubicBezTo>
                <a:cubicBezTo>
                  <a:pt x="7648537" y="782258"/>
                  <a:pt x="8376437" y="535486"/>
                  <a:pt x="9144533" y="230295"/>
                </a:cubicBezTo>
                <a:cubicBezTo>
                  <a:pt x="9147403" y="1073565"/>
                  <a:pt x="9138437" y="1917938"/>
                  <a:pt x="9141307" y="2761208"/>
                </a:cubicBezTo>
                <a:cubicBezTo>
                  <a:pt x="8237575" y="2914438"/>
                  <a:pt x="7736391" y="2822363"/>
                  <a:pt x="6690360" y="2746696"/>
                </a:cubicBezTo>
                <a:cubicBezTo>
                  <a:pt x="5644329" y="2671029"/>
                  <a:pt x="3979910" y="2257771"/>
                  <a:pt x="2865120" y="2307204"/>
                </a:cubicBezTo>
                <a:cubicBezTo>
                  <a:pt x="1750330" y="2356637"/>
                  <a:pt x="734663" y="2709091"/>
                  <a:pt x="1619" y="3043297"/>
                </a:cubicBezTo>
                <a:cubicBezTo>
                  <a:pt x="1079" y="2075796"/>
                  <a:pt x="540" y="1108295"/>
                  <a:pt x="0" y="140794"/>
                </a:cubicBezTo>
                <a:close/>
              </a:path>
            </a:pathLst>
          </a:cu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Freeform 7"/>
          <p:cNvSpPr/>
          <p:nvPr/>
        </p:nvSpPr>
        <p:spPr>
          <a:xfrm>
            <a:off x="0" y="1728720"/>
            <a:ext cx="9144000" cy="3308400"/>
          </a:xfrm>
          <a:custGeom>
            <a:avLst/>
            <a:gdLst/>
            <a:ahLst/>
            <a:rect l="l" t="t" r="r" b="b"/>
            <a:pathLst>
              <a:path w="9144647" h="3309112">
                <a:moveTo>
                  <a:pt x="381" y="310896"/>
                </a:moveTo>
                <a:cubicBezTo>
                  <a:pt x="779145" y="155448"/>
                  <a:pt x="1484757" y="0"/>
                  <a:pt x="2652141" y="45720"/>
                </a:cubicBezTo>
                <a:cubicBezTo>
                  <a:pt x="3819525" y="91440"/>
                  <a:pt x="5904313" y="763815"/>
                  <a:pt x="6986397" y="804672"/>
                </a:cubicBezTo>
                <a:cubicBezTo>
                  <a:pt x="8068481" y="845529"/>
                  <a:pt x="8437511" y="566706"/>
                  <a:pt x="9144647" y="290862"/>
                </a:cubicBezTo>
                <a:cubicBezTo>
                  <a:pt x="9144558" y="1147932"/>
                  <a:pt x="9144470" y="2005002"/>
                  <a:pt x="9144381" y="2862072"/>
                </a:cubicBezTo>
                <a:cubicBezTo>
                  <a:pt x="8450961" y="3142488"/>
                  <a:pt x="7965313" y="3309112"/>
                  <a:pt x="6986397" y="3246120"/>
                </a:cubicBezTo>
                <a:cubicBezTo>
                  <a:pt x="6007481" y="3183128"/>
                  <a:pt x="4435284" y="2501217"/>
                  <a:pt x="3270885" y="2484120"/>
                </a:cubicBezTo>
                <a:cubicBezTo>
                  <a:pt x="2106486" y="2467023"/>
                  <a:pt x="830580" y="2857024"/>
                  <a:pt x="0" y="3143536"/>
                </a:cubicBezTo>
                <a:lnTo>
                  <a:pt x="381" y="310896"/>
                </a:lnTo>
                <a:close/>
              </a:path>
            </a:pathLst>
          </a:custGeom>
          <a:solidFill>
            <a:srgbClr val="40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2" name="Oval 8"/>
          <p:cNvGrpSpPr/>
          <p:nvPr/>
        </p:nvGrpSpPr>
        <p:grpSpPr>
          <a:xfrm>
            <a:off x="7693200" y="1292400"/>
            <a:ext cx="1000080" cy="1000080"/>
            <a:chOff x="7693200" y="1292400"/>
            <a:chExt cx="1000080" cy="1000080"/>
          </a:xfrm>
        </p:grpSpPr>
        <p:pic>
          <p:nvPicPr>
            <p:cNvPr id="513" name="Oval 8" descr=""/>
            <p:cNvPicPr/>
            <p:nvPr/>
          </p:nvPicPr>
          <p:blipFill>
            <a:blip r:embed="rId2"/>
            <a:stretch/>
          </p:blipFill>
          <p:spPr>
            <a:xfrm>
              <a:off x="7693200" y="1292400"/>
              <a:ext cx="10000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7843680" y="1442880"/>
              <a:ext cx="698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5" name="Oval 9"/>
          <p:cNvGrpSpPr/>
          <p:nvPr/>
        </p:nvGrpSpPr>
        <p:grpSpPr>
          <a:xfrm>
            <a:off x="7010280" y="1925640"/>
            <a:ext cx="524160" cy="525600"/>
            <a:chOff x="7010280" y="1925640"/>
            <a:chExt cx="524160" cy="525600"/>
          </a:xfrm>
        </p:grpSpPr>
        <p:pic>
          <p:nvPicPr>
            <p:cNvPr id="516" name="Oval 9" descr=""/>
            <p:cNvPicPr/>
            <p:nvPr/>
          </p:nvPicPr>
          <p:blipFill>
            <a:blip r:embed="rId3"/>
            <a:stretch/>
          </p:blipFill>
          <p:spPr>
            <a:xfrm>
              <a:off x="7010280" y="1925640"/>
              <a:ext cx="52416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7088040" y="2004840"/>
              <a:ext cx="3621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8" name="Oval 10"/>
          <p:cNvGrpSpPr/>
          <p:nvPr/>
        </p:nvGrpSpPr>
        <p:grpSpPr>
          <a:xfrm>
            <a:off x="682560" y="4108320"/>
            <a:ext cx="1225440" cy="1231920"/>
            <a:chOff x="682560" y="4108320"/>
            <a:chExt cx="1225440" cy="1231920"/>
          </a:xfrm>
        </p:grpSpPr>
        <p:pic>
          <p:nvPicPr>
            <p:cNvPr id="519" name="Oval 10" descr=""/>
            <p:cNvPicPr/>
            <p:nvPr/>
          </p:nvPicPr>
          <p:blipFill>
            <a:blip r:embed="rId4"/>
            <a:stretch/>
          </p:blipFill>
          <p:spPr>
            <a:xfrm>
              <a:off x="682560" y="4108320"/>
              <a:ext cx="122544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863640" y="4292640"/>
              <a:ext cx="860400" cy="8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7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8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9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1BF4-6DA9-4145-983E-83E8ED823445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cc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c66">
                    <a:alpha val="0"/>
                  </a:srgbClr>
                </a:gs>
                <a:gs pos="100000">
                  <a:srgbClr val="d1a7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d279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fd279"/>
                </a:gs>
                <a:gs pos="100000">
                  <a:srgbClr val="ffcc6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c66">
                    <a:alpha val="0"/>
                  </a:srgbClr>
                </a:gs>
                <a:gs pos="100000">
                  <a:srgbClr val="d1a7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d279"/>
                </a:gs>
                <a:gs pos="100000">
                  <a:srgbClr val="ffcc66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CB3C-E9F9-4C0E-B9A5-DE87FF49F6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cc6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c66">
                    <a:alpha val="0"/>
                  </a:srgbClr>
                </a:gs>
                <a:gs pos="100000">
                  <a:srgbClr val="d1a7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c66">
                    <a:alpha val="0"/>
                  </a:srgbClr>
                </a:gs>
                <a:gs pos="100000">
                  <a:srgbClr val="d1a7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d279"/>
                </a:gs>
                <a:gs pos="100000">
                  <a:srgbClr val="ffcc6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d279"/>
                </a:gs>
                <a:gs pos="100000">
                  <a:srgbClr val="ffcc6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68DF-0DCA-4134-97EB-FBCD0E3266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3147-BD22-49EF-9EFB-FF212AF88F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0BCE-2FB6-481F-A0EC-D251DE4549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144C-5B89-4295-8947-287E36D90B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AC05-ED27-4F90-B5F0-9DBCC7C5CB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6E41-B5A1-441E-9216-A0C97360F3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E0F1-D1ED-4D04-9D70-E590959D0C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9/95/FirePhotography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Tahoma"/>
              </a:rPr>
              <a:t>Пожар</a:t>
            </a:r>
            <a:br>
              <a:rPr sz="9600"/>
            </a:br>
            <a:endParaRPr b="1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2743200" y="46483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езентация для 2 класс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регулова Виктория Сергеев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У СОШ №21, г. Благовещенск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4" name="Picture 4" descr="Файл:FirePhotograph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962520"/>
            <a:ext cx="3813120" cy="2716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8" name="Picture 4" descr="IMG_0006"/>
          <p:cNvPicPr/>
          <p:nvPr/>
        </p:nvPicPr>
        <p:blipFill>
          <a:blip r:embed="rId1"/>
          <a:stretch/>
        </p:blipFill>
        <p:spPr>
          <a:xfrm>
            <a:off x="3276720" y="380880"/>
            <a:ext cx="4800600" cy="6131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1" name="Picture 4" descr="IMG_0009"/>
          <p:cNvPicPr/>
          <p:nvPr/>
        </p:nvPicPr>
        <p:blipFill>
          <a:blip r:embed="rId1"/>
          <a:stretch/>
        </p:blipFill>
        <p:spPr>
          <a:xfrm>
            <a:off x="1219320" y="380880"/>
            <a:ext cx="5029200" cy="6215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4" name="Picture 4" descr="IMG_0010"/>
          <p:cNvPicPr/>
          <p:nvPr/>
        </p:nvPicPr>
        <p:blipFill>
          <a:blip r:embed="rId1"/>
          <a:stretch/>
        </p:blipFill>
        <p:spPr>
          <a:xfrm>
            <a:off x="1981080" y="228600"/>
            <a:ext cx="5257800" cy="6427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Литература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ольшая книга правил поведения для воспитанных детей / Г.П. Шалаева. – М.: Филол. о-во СЛОВО, ЭКСМО, 2008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жарная безопасность в начальной школе: конспекты занятий и классных часов / О.В. Павлова, Г.П. Попова, Г.Н. Шевченко. – Волгоград: Учитель, 2007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Загадки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кормишь – живёт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поишь – помрёт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 деревне прошёл 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ичего не осталос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маленьком амбар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ержат сто пожаров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7" name="Picture 6" descr="spichki"/>
          <p:cNvPicPr/>
          <p:nvPr/>
        </p:nvPicPr>
        <p:blipFill>
          <a:blip r:embed="rId1"/>
          <a:stretch/>
        </p:blipFill>
        <p:spPr>
          <a:xfrm>
            <a:off x="7010280" y="3124080"/>
            <a:ext cx="1600200" cy="155124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10" descr="Файл:FirePhotography.jpg"/>
          <p:cNvPicPr/>
          <p:nvPr/>
        </p:nvPicPr>
        <p:blipFill>
          <a:blip r:embed="rId2"/>
          <a:stretch/>
        </p:blipFill>
        <p:spPr>
          <a:xfrm>
            <a:off x="5181480" y="4876920"/>
            <a:ext cx="2212920" cy="15764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1" descr="i15"/>
          <p:cNvPicPr/>
          <p:nvPr/>
        </p:nvPicPr>
        <p:blipFill>
          <a:blip r:embed="rId3"/>
          <a:stretch/>
        </p:blipFill>
        <p:spPr>
          <a:xfrm>
            <a:off x="5638680" y="838080"/>
            <a:ext cx="1413000" cy="244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ословицы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авда в огне не горит и в воде не тоне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ым без огня не бывае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воре и шапка гори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егко чужими руками жар загреба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 искры возгорится плам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етские произведения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 теперь про чей-то дом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говор мы поведё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нём богатая хозяй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певаючи жил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о беда пришла нежданно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тот дом сгорел дотла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4" name="Picture 4" descr="IMG_0004"/>
          <p:cNvPicPr/>
          <p:nvPr/>
        </p:nvPicPr>
        <p:blipFill>
          <a:blip r:embed="rId1"/>
          <a:stretch/>
        </p:blipFill>
        <p:spPr>
          <a:xfrm>
            <a:off x="5334120" y="2743200"/>
            <a:ext cx="3502080" cy="3838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мяукали котят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Надоело нам мяука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ы хотим, как поросята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рюкать!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7" name="Picture 4" descr="IMG_0007"/>
          <p:cNvPicPr/>
          <p:nvPr/>
        </p:nvPicPr>
        <p:blipFill>
          <a:blip r:embed="rId1"/>
          <a:stretch/>
        </p:blipFill>
        <p:spPr>
          <a:xfrm>
            <a:off x="5257800" y="1905120"/>
            <a:ext cx="3565440" cy="4645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щут пожарные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щет милици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щут фотограф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нашей столице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0" name="Picture 5" descr="картинка"/>
          <p:cNvPicPr/>
          <p:nvPr/>
        </p:nvPicPr>
        <p:blipFill>
          <a:blip r:embed="rId1"/>
          <a:stretch/>
        </p:blipFill>
        <p:spPr>
          <a:xfrm>
            <a:off x="5256360" y="2971800"/>
            <a:ext cx="2744640" cy="348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Ребусы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3" name="Picture 5" descr="IMG_0008"/>
          <p:cNvPicPr/>
          <p:nvPr/>
        </p:nvPicPr>
        <p:blipFill>
          <a:blip r:embed="rId1"/>
          <a:stretch/>
        </p:blipFill>
        <p:spPr>
          <a:xfrm>
            <a:off x="5334120" y="4191120"/>
            <a:ext cx="3373200" cy="2381040"/>
          </a:xfrm>
          <a:prstGeom prst="rect">
            <a:avLst/>
          </a:prstGeom>
          <a:ln w="0">
            <a:noFill/>
          </a:ln>
        </p:spPr>
      </p:pic>
      <p:sp>
        <p:nvSpPr>
          <p:cNvPr id="584" name="WordArt 6"/>
          <p:cNvSpPr txBox="1"/>
          <p:nvPr/>
        </p:nvSpPr>
        <p:spPr>
          <a:xfrm>
            <a:off x="457200" y="1752480"/>
            <a:ext cx="3052800" cy="193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ж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85" name="WordArt 9"/>
          <p:cNvSpPr txBox="1"/>
          <p:nvPr/>
        </p:nvSpPr>
        <p:spPr>
          <a:xfrm>
            <a:off x="2895480" y="2590920"/>
            <a:ext cx="466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6" name="WordArt 10"/>
          <p:cNvSpPr txBox="1"/>
          <p:nvPr/>
        </p:nvSpPr>
        <p:spPr>
          <a:xfrm>
            <a:off x="1828800" y="1600200"/>
            <a:ext cx="466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7" name="WordArt 11"/>
          <p:cNvSpPr txBox="1"/>
          <p:nvPr/>
        </p:nvSpPr>
        <p:spPr>
          <a:xfrm>
            <a:off x="762120" y="2743200"/>
            <a:ext cx="466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8" name="WordArt 12"/>
          <p:cNvSpPr txBox="1"/>
          <p:nvPr/>
        </p:nvSpPr>
        <p:spPr>
          <a:xfrm>
            <a:off x="4572000" y="1295280"/>
            <a:ext cx="2590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го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ipe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равила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1" name="Picture 4" descr="IMG_0003"/>
          <p:cNvPicPr/>
          <p:nvPr/>
        </p:nvPicPr>
        <p:blipFill>
          <a:blip r:embed="rId1"/>
          <a:stretch/>
        </p:blipFill>
        <p:spPr>
          <a:xfrm>
            <a:off x="2514600" y="990720"/>
            <a:ext cx="3994200" cy="5562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4" name="Picture 4" descr="IMG_0002"/>
          <p:cNvPicPr/>
          <p:nvPr/>
        </p:nvPicPr>
        <p:blipFill>
          <a:blip r:embed="rId1"/>
          <a:stretch/>
        </p:blipFill>
        <p:spPr>
          <a:xfrm>
            <a:off x="228600" y="685800"/>
            <a:ext cx="4168800" cy="58770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5" descr="IMG_0005"/>
          <p:cNvPicPr/>
          <p:nvPr/>
        </p:nvPicPr>
        <p:blipFill>
          <a:blip r:embed="rId2"/>
          <a:stretch/>
        </p:blipFill>
        <p:spPr>
          <a:xfrm>
            <a:off x="4495680" y="685800"/>
            <a:ext cx="4332240" cy="5867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6-30T07:09:5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