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25.jpeg" ContentType="image/jpeg"/>
  <Override PartName="/ppt/media/image30.jpeg" ContentType="image/jpeg"/>
  <Override PartName="/ppt/media/image7.wmf" ContentType="image/x-wmf"/>
  <Override PartName="/ppt/media/image3.jpeg" ContentType="image/jpeg"/>
  <Override PartName="/ppt/media/image37.jpeg" ContentType="image/jpeg"/>
  <Override PartName="/ppt/media/image60.jpeg" ContentType="image/jpeg"/>
  <Override PartName="/ppt/media/image50.jpeg" ContentType="image/jpeg"/>
  <Override PartName="/ppt/media/image27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52.jpeg" ContentType="image/jpeg"/>
  <Override PartName="/ppt/media/image12.jpeg" ContentType="image/jpeg"/>
  <Override PartName="/ppt/media/image29.jpeg" ContentType="image/jpeg"/>
  <Override PartName="/ppt/media/image17.jpeg" ContentType="image/jpeg"/>
  <Override PartName="/ppt/media/image26.jpeg" ContentType="image/jpeg"/>
  <Override PartName="/ppt/media/image19.png" ContentType="image/png"/>
  <Override PartName="/ppt/media/image61.png" ContentType="image/png"/>
  <Override PartName="/ppt/media/image20.jpeg" ContentType="image/jpeg"/>
  <Override PartName="/ppt/media/image28.png" ContentType="image/png"/>
  <Override PartName="/ppt/media/image43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9.png" ContentType="image/png"/>
  <Override PartName="/ppt/media/image23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4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6.jpeg" ContentType="image/jpeg"/>
  <Override PartName="/ppt/media/image53.png" ContentType="image/png"/>
  <Override PartName="/ppt/media/image58.jpeg" ContentType="image/jpeg"/>
  <Override PartName="/ppt/media/image33.png" ContentType="image/png"/>
  <Override PartName="/ppt/media/image54.jpeg" ContentType="image/jpeg"/>
  <Override PartName="/ppt/media/image57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FFA-94D2-49E3-81D3-BD92E14CD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90D-CE9B-496E-9BCB-BBD52490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237-DD7A-472A-8003-4906F1335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DDB-9E39-40B4-B148-9F7072AA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A50A-1E3C-4943-A816-B63B71D1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2A9F-2D67-445C-87C9-AD1ADE0FB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644-51DD-4B67-9542-E103AC54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C695-8F3B-4155-A1EA-3890F798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A580-D171-42F5-A2C4-372481DB0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2A9-0729-400E-BB74-259375BA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8E36-B43D-4F8C-8CAF-B8FF19DB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E748-069F-4618-A448-33A4C7D5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FA49-A322-4EBC-ABD2-E5B0C8D35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javascript:self.close()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png"/><Relationship Id="rId3" Type="http://schemas.openxmlformats.org/officeDocument/2006/relationships/image" Target="../media/image24.png"/><Relationship Id="rId4" Type="http://schemas.openxmlformats.org/officeDocument/2006/relationships/image" Target="../media/image6.png"/><Relationship Id="rId5" Type="http://schemas.openxmlformats.org/officeDocument/2006/relationships/image" Target="../media/image24.png"/><Relationship Id="rId6" Type="http://schemas.openxmlformats.org/officeDocument/2006/relationships/image" Target="../media/image6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ru/imgres?imgurl=http://orenpair.ru/wp-content/uploads/2014/05/P5035461.jpg&amp;imgrefurl=http://orenpair.ru/cvety_vesennei_stepi.html&amp;h=1920&amp;w=1440&amp;tbnid=tcIUWn8nzg0RsM:&amp;docid=HDOjGtgS8cqX8M&amp;ei=FvtSVu-RF6v4ywOYlqnwCg&amp;tbm=isch&amp;ved=0ahUKEwjv9Kj-uqbJAhUr_HIKHRhLCq4QMwhjKDkwOQ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www.google.ru/url?sa=i&amp;rct=j&amp;q=&amp;esrc=s&amp;source=images&amp;cd=&amp;cad=rja&amp;uact=8&amp;ved=0ahUKEwjAg8itv6bJAhUhc3IKHeQ7A2MQjRwIBw&amp;url=http%3A%2F%2Fwww.pro-landshaft.ru%2Fplants%2Fdetail%2F941%2F&amp;psig=AFQjCNGGASiNe5AW9DFsQZge1mX_ZadYAw&amp;ust=1448366356432251" TargetMode="External"/><Relationship Id="rId4" Type="http://schemas.openxmlformats.org/officeDocument/2006/relationships/image" Target="../media/image35.jpeg"/><Relationship Id="rId5" Type="http://schemas.openxmlformats.org/officeDocument/2006/relationships/hyperlink" Target="http://www.google.ru/url?sa=i&amp;rct=j&amp;q=&amp;esrc=s&amp;source=images&amp;cd=&amp;cad=rja&amp;uact=8&amp;ved=0ahUKEwjY-bCBv6bJAhXivXIKHZNlCLsQjRwIBw&amp;url=http%3A%2F%2Frus-img2.com%2Fryabchik-shahmatnyy&amp;psig=AFQjCNGbZragFCYOMMvvc-hnzCubxJztfQ&amp;ust=1448366269435839" TargetMode="External"/><Relationship Id="rId6" Type="http://schemas.openxmlformats.org/officeDocument/2006/relationships/image" Target="../media/image36.jpeg"/><Relationship Id="rId7" Type="http://schemas.openxmlformats.org/officeDocument/2006/relationships/hyperlink" Target="http://www.google.ru/url?sa=i&amp;rct=j&amp;q=&amp;esrc=s&amp;source=images&amp;cd=&amp;cad=rja&amp;uact=8&amp;ved=0ahUKEwjq47m0vqbJAhVEz3IKHV2dBYoQjRwIBw&amp;url=http%3A%2F%2Fwww.prirodasibiri.ru%2F%3Fid_page%3D29%26id_razd%3D121&amp;psig=AFQjCNHiIpsnfIZOX_GaLutYo_So-uzstg&amp;ust=1448365665736447" TargetMode="External"/><Relationship Id="rId8" Type="http://schemas.openxmlformats.org/officeDocument/2006/relationships/image" Target="../media/image37.jpe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38.png"/><Relationship Id="rId12" Type="http://schemas.openxmlformats.org/officeDocument/2006/relationships/image" Target="../media/image38.png"/><Relationship Id="rId13" Type="http://schemas.openxmlformats.org/officeDocument/2006/relationships/image" Target="../media/image38.png"/><Relationship Id="rId14" Type="http://schemas.openxmlformats.org/officeDocument/2006/relationships/image" Target="../media/image38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ved=0ahUKEwjDpM_ex6bJAhVlw3IKHYwhCHIQjRwIBw&amp;url=http%3A%2F%2Fchervi-shop.ru%2Findex.php%2Fsite%2Fpages%2Fview%2Fbass-intro&amp;psig=AFQjCNFHlOy_YXekvRDxwR44npWfIRE3nA&amp;ust=1448368603855148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www.google.ru/url?sa=i&amp;rct=j&amp;q=&amp;esrc=s&amp;source=images&amp;cd=&amp;cad=rja&amp;uact=8&amp;ved=0ahUKEwim_diFyKbJAhWJwHIKHdQmDpcQjRwIBw&amp;url=http%3A%2F%2Fwww.fishingpiter.ru%2Fbook%2Flesh.html&amp;psig=AFQjCNGTE0hdZihDqb9doNXZX214KeA_JA&amp;ust=1448368683381655" TargetMode="External"/><Relationship Id="rId4" Type="http://schemas.openxmlformats.org/officeDocument/2006/relationships/image" Target="../media/image40.jpeg"/><Relationship Id="rId5" Type="http://schemas.openxmlformats.org/officeDocument/2006/relationships/hyperlink" Target="http://www.google.ru/url?sa=i&amp;rct=j&amp;q=&amp;esrc=s&amp;source=images&amp;cd=&amp;cad=rja&amp;uact=8&amp;ved=0ahUKEwiDh_i9yKbJAhUrkXIKHR4xBKEQjRwIBw&amp;url=http%3A%2F%2F1stkarp050.ru%2Ftaran&amp;psig=AFQjCNFtwUyjJqwmS_EjjFXHAJ1-gSCYKA&amp;ust=1448368767814856" TargetMode="External"/><Relationship Id="rId6" Type="http://schemas.openxmlformats.org/officeDocument/2006/relationships/image" Target="../media/image41.jpeg"/><Relationship Id="rId7" Type="http://schemas.openxmlformats.org/officeDocument/2006/relationships/hyperlink" Target="http://www.google.ru/url?sa=i&amp;rct=j&amp;q=&amp;esrc=s&amp;source=images&amp;cd=&amp;cad=rja&amp;uact=8&amp;ved=0ahUKEwi134j3yKbJAhVr83IKHewcD_4QjRwIBw&amp;url=http%3A%2F%2Fhharbour.ru%2F2012%2F03%2Fvobla-kaspijskaya-i-taran%2F&amp;psig=AFQjCNHzLvVDrr-FMOlOkK4CUYnSokFmnQ&amp;ust=1448368919163326" TargetMode="External"/><Relationship Id="rId8" Type="http://schemas.openxmlformats.org/officeDocument/2006/relationships/image" Target="../media/image42.jpeg"/><Relationship Id="rId9" Type="http://schemas.openxmlformats.org/officeDocument/2006/relationships/hyperlink" Target="http://www.google.ru/url?sa=i&amp;rct=j&amp;q=&amp;esrc=s&amp;source=images&amp;cd=&amp;cad=rja&amp;uact=8&amp;ved=0ahUKEwj34fy6yabJAhWEqnIKHSseCiMQjRwIBw&amp;url=http%3A%2F%2Frus-img2.com%2Fpodleshchik-gustera&amp;psig=AFQjCNG9myWpZyCG5S_qui-CfouY-vQwOw&amp;ust=1448369006592903" TargetMode="External"/><Relationship Id="rId10" Type="http://schemas.openxmlformats.org/officeDocument/2006/relationships/image" Target="../media/image43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www.google.ru/maps/place/&#1052;&#1072;&#1085;&#1099;&#1095;-&#1043;&#1091;&#1076;&#1080;&#1083;&#1086;/data=!4m2!3m1!1s0x40fdda48e74704ef:0x400bedb59f8a48a9?sa=X&amp;ved=0ahUKEwium8jP3abJAhUFXiwKHcw0B2QQ8gEIHjAA" TargetMode="External"/><Relationship Id="rId3" Type="http://schemas.openxmlformats.org/officeDocument/2006/relationships/image" Target="../media/image4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ved=0ahUKEwjR9dSi5KbJAhWBWSwKHccmDhwQjRwIBw&amp;url=http%3A%2F%2Fsupersadovnik.net%2Fzhitnyak-zasuxoustojchiv-zlak-v-ukraine%2F&amp;psig=AFQjCNFI8vRJx4o7Siien8NAZ76pw78eIA&amp;ust=1448376265595634" TargetMode="External"/><Relationship Id="rId2" Type="http://schemas.openxmlformats.org/officeDocument/2006/relationships/image" Target="../media/image46.jpeg"/><Relationship Id="rId3" Type="http://schemas.openxmlformats.org/officeDocument/2006/relationships/hyperlink" Target="http://www.google.ru/url?sa=i&amp;rct=j&amp;q=&amp;esrc=s&amp;source=images&amp;cd=&amp;cad=rja&amp;uact=8&amp;ved=0ahUKEwj6yPC15KbJAhVJjCwKHcgMAjkQjRwIBw&amp;url=http%3A%2F%2Fwww.5lepestkov.com%2F%3Fp%3D113&amp;psig=AFQjCNFU54b0gjOhr0qyxRP-DcY3liicSA&amp;ust=1448376326677827" TargetMode="External"/><Relationship Id="rId4" Type="http://schemas.openxmlformats.org/officeDocument/2006/relationships/image" Target="../media/image47.jpeg"/><Relationship Id="rId5" Type="http://schemas.openxmlformats.org/officeDocument/2006/relationships/hyperlink" Target="http://www.google.ru/url?sa=i&amp;rct=j&amp;q=&amp;esrc=s&amp;source=images&amp;cd=&amp;cad=rja&amp;uact=8&amp;ved=0ahUKEwirpcLa5KbJAhUJ3iwKHc_kCB8QjRwIBw&amp;url=http%3A%2F%2Fmed-plants.ru%2Fyenciklopediya-rastenij%2F48-tysyachelistnik-obyknovennyj.html&amp;psig=AFQjCNFPmua8ghTkhwPLk6pF1UkuPet9uQ&amp;ust=1448376374208919" TargetMode="External"/><Relationship Id="rId6" Type="http://schemas.openxmlformats.org/officeDocument/2006/relationships/image" Target="../media/image48.jpeg"/><Relationship Id="rId7" Type="http://schemas.openxmlformats.org/officeDocument/2006/relationships/hyperlink" Target="http://www.google.ru/url?sa=i&amp;rct=j&amp;q=&amp;esrc=s&amp;source=images&amp;cd=&amp;cad=rja&amp;uact=8&amp;ved=0ahUKEwiDpeWB5abJAhUHlCwKHc9RAi8QjRwIBw&amp;url=http%3A%2F%2Fvoroninsky.ru%2Fposts_full%2Fredkie_vidy%2Fkovyli_peristyy&amp;psig=AFQjCNFQZBcNJX8YQpjnzukdK-go5c9mSQ&amp;ust=1448376440155199" TargetMode="External"/><Relationship Id="rId8" Type="http://schemas.openxmlformats.org/officeDocument/2006/relationships/image" Target="../media/image49.jpeg"/><Relationship Id="rId9" Type="http://schemas.openxmlformats.org/officeDocument/2006/relationships/hyperlink" Target="http://www.google.ru/url?sa=i&amp;rct=j&amp;q=&amp;esrc=s&amp;source=images&amp;cd=&amp;cad=rja&amp;uact=8&amp;ved=0ahUKEwjt_6a85abJAhXEFCwKHc6OADMQjRwIBw&amp;url=http%3A%2F%2Fwww.floraprice.ru%2Farticles%2Fsad%2Fmnogolikaya-ovsyanica.html&amp;psig=AFQjCNHrtEeP4fnXfyqz_lZyTiGLvTBo9w&amp;ust=1448376549778552" TargetMode="External"/><Relationship Id="rId10" Type="http://schemas.openxmlformats.org/officeDocument/2006/relationships/image" Target="../media/image50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google.ru/url?sa=i&amp;rct=j&amp;q=&amp;esrc=s&amp;source=images&amp;cd=&amp;cad=rja&amp;uact=8&amp;ved=0ahUKEwjRlbv46qbJAhXh8HIKHXTGDxoQjRwIBw&amp;url=http%3A%2F%2Fwww.chem-astu.ru%2Fweblog%2Fall%2Fzooplankton%2F&amp;psig=AFQjCNGEYUM-gWdBmsJceAaYOGHQNAZjnQ&amp;ust=1448378077200137" TargetMode="External"/><Relationship Id="rId3" Type="http://schemas.openxmlformats.org/officeDocument/2006/relationships/image" Target="../media/image51.png"/><Relationship Id="rId4" Type="http://schemas.openxmlformats.org/officeDocument/2006/relationships/hyperlink" Target="http://www.google.ru/url?sa=i&amp;rct=j&amp;q=&amp;esrc=s&amp;source=images&amp;cd=&amp;cad=rja&amp;uact=8&amp;ved=0ahUKEwiamdi266bJAhXC8XIKHXCXDxkQjRwIBw&amp;url=http%3A%2F%2Fwww.moyavoda.com%2Fnews_details%2F1301&amp;psig=AFQjCNEzO3DZ-QUT9lsZNF1oCBSNGDkUcA&amp;ust=1448378148560068" TargetMode="External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hyperlink" Target="http://www.google.ru/url?sa=i&amp;rct=j&amp;q=&amp;esrc=s&amp;source=images&amp;cd=&amp;cad=rja&amp;uact=8&amp;ved=0ahUKEwj01oPY7qbJAhXG6nIKHZi8BLgQjRwIBw&amp;url=http%3A%2F%2Fgorod48.ru%2Fnews%2F60007%2F&amp;psig=AFQjCNHfk79gc5DvctUXWs8n4ybPNpJfLQ&amp;ust=1448379029846692" TargetMode="External"/><Relationship Id="rId3" Type="http://schemas.openxmlformats.org/officeDocument/2006/relationships/image" Target="../media/image54.jpeg"/><Relationship Id="rId4" Type="http://schemas.openxmlformats.org/officeDocument/2006/relationships/hyperlink" Target="http://www.google.ru/url?sa=i&amp;rct=j&amp;q=&amp;esrc=s&amp;source=images&amp;cd=&amp;cad=rja&amp;uact=8&amp;ved=0ahUKEwjD-5_z7qbJAhWFj3IKHen3CIsQjRwIBw&amp;url=http%3A%2F%2Fwexplain.ru%2Fpochemu-vodoplavayushhie-pticy-ne-tonut%2F&amp;psig=AFQjCNHfk79gc5DvctUXWs8n4ybPNpJfLQ&amp;ust=1448379029846692" TargetMode="External"/><Relationship Id="rId5" Type="http://schemas.openxmlformats.org/officeDocument/2006/relationships/image" Target="../media/image55.jpeg"/><Relationship Id="rId6" Type="http://schemas.openxmlformats.org/officeDocument/2006/relationships/hyperlink" Target="http://www.google.ru/url?sa=i&amp;rct=j&amp;q=&amp;esrc=s&amp;source=images&amp;cd=&amp;cad=rja&amp;uact=8&amp;ved=0ahUKEwj50_Ob76bJAhXG_HIKHRMoBA0QjRwIBw&amp;url=http%3A%2F%2Fwww.zooeco.com%2Fint%2Fint-ptici8-1.html&amp;psig=AFQjCNHgLQII-1QmzRwpMXgsr1tCfyit6A&amp;ust=1448379189990665" TargetMode="External"/><Relationship Id="rId7" Type="http://schemas.openxmlformats.org/officeDocument/2006/relationships/image" Target="../media/image56.jpeg"/><Relationship Id="rId8" Type="http://schemas.openxmlformats.org/officeDocument/2006/relationships/hyperlink" Target="http://www.google.ru/url?sa=i&amp;rct=j&amp;q=&amp;esrc=s&amp;source=images&amp;cd=&amp;cad=rja&amp;uact=8&amp;ved=0ahUKEwj2kKm-76bJAhWkfHIKHbxDB8wQjRwIBw&amp;url=http%3A%2F%2Fwww.graycell.ru%2Fsimplemask.php%3Fdef%3D%25D6%25E0%25EF%25EB%25FF&amp;psig=AFQjCNHk005nGiRsIQreUZtMhZTSH6enGw&amp;ust=1448379273022791" TargetMode="External"/><Relationship Id="rId9" Type="http://schemas.openxmlformats.org/officeDocument/2006/relationships/image" Target="../media/image57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google.ru/url?sa=i&amp;rct=j&amp;q=&amp;esrc=s&amp;source=images&amp;cd=&amp;cad=rja&amp;uact=8&amp;ved=0ahUKEwj5s_Oy9abJAhWH_HIKHRfcBXcQjRwIBw&amp;url=http%3A%2F%2Ffishtracker.ru%2Freport%2Fdetails%2F382%2Fveselaya-ribalka-znakomstvo-s-veselovskim-vodohranilischem-veselovskiy-rayon-rostovskaya-oblast-rossiya&amp;psig=AFQjCNHVrBP8Hfrv1S23hLpDAEM2_Ft7Fw&amp;ust=1448380835602367" TargetMode="External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javascript:self.close()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3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56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Исследование    водно –болотных        угодий Веселовского района и его окрестностей и их роли в благосостоянии челове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3059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267080" cy="249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Click to Clo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819520"/>
            <a:ext cx="4152960" cy="30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105520" y="175248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46" name="irc_mi" descr=""/>
          <p:cNvPicPr/>
          <p:nvPr/>
        </p:nvPicPr>
        <p:blipFill>
          <a:blip r:embed="rId5"/>
          <a:stretch/>
        </p:blipFill>
        <p:spPr>
          <a:xfrm>
            <a:off x="533520" y="4343400"/>
            <a:ext cx="4000320" cy="2514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825400" y="5904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76920" y="5029200"/>
            <a:ext cx="37335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Ашурбеков Руслан, ученик 9 класса МБОУ Краснознаменская ОО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ководитель: Орёл В.Ю., учитель ге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95280" y="1371600"/>
            <a:ext cx="6477120" cy="1556280"/>
          </a:xfrm>
          <a:prstGeom prst="rect">
            <a:avLst/>
          </a:prstGeom>
          <a:noFill/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дно из главных природных богатств Веселовского района –это водно-болотные угодь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905120" y="457200"/>
            <a:ext cx="4724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ы в о д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4800600"/>
            <a:ext cx="2743200" cy="1219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селовск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охран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4800600"/>
            <a:ext cx="2438640" cy="1295280"/>
          </a:xfrm>
          <a:prstGeom prst="rect">
            <a:avLst/>
          </a:prstGeom>
          <a:solidFill>
            <a:srgbClr val="0000ff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ка Маны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4800600"/>
            <a:ext cx="2286000" cy="1219320"/>
          </a:xfrm>
          <a:prstGeom prst="rect">
            <a:avLst/>
          </a:prstGeom>
          <a:solidFill>
            <a:srgbClr val="0000ff"/>
          </a:solidFill>
          <a:ln w="7632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зер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ныч-Гуди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219320" y="3657600"/>
            <a:ext cx="137160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365760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29400" y="3657600"/>
            <a:ext cx="152388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610480" y="64008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143000" y="1676520"/>
          <a:ext cx="6781680" cy="4400280"/>
        </p:xfrm>
        <a:graphic>
          <a:graphicData uri="http://schemas.openxmlformats.org/drawingml/2006/table">
            <a:tbl>
              <a:tblPr/>
              <a:tblGrid>
                <a:gridCol w="6781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ни накапливают и хранят пресную в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регулируют поверхностный и подземный 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оддерживают уровень грунтовых 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очищают вод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возвращают в атмосферу кисло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изымают из атмосферы и накапливают углер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держивают эрозию, стабилизируют положение бере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поддерживают биологическое разнообраз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Times New Roman"/>
                          <a:ea typeface="Times New Roman"/>
                        </a:rPr>
                        <a:t>служат местом обитания многих видов растений и живот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4cc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 txBox="1"/>
          <p:nvPr/>
        </p:nvSpPr>
        <p:spPr>
          <a:xfrm>
            <a:off x="2514600" y="1752480"/>
            <a:ext cx="350532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Функц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981080" y="152280"/>
            <a:ext cx="464832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Почему ? ? ?...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295280" y="838080"/>
            <a:ext cx="510552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Arial"/>
              </a:rPr>
              <a:t>Потому, что ! ! !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Arial"/>
              <a:ea typeface="Arial"/>
            </a:endParaRPr>
          </a:p>
        </p:txBody>
      </p:sp>
      <p:pic>
        <p:nvPicPr>
          <p:cNvPr id="126" name="Picture 2" descr="C:\Users\Марина\AppData\Local\Microsoft\Windows\Temporary Internet Files\Content.IE5\90JK3Q38\MC900434411[1].wmf"/>
          <p:cNvPicPr/>
          <p:nvPr/>
        </p:nvPicPr>
        <p:blipFill>
          <a:blip r:embed="rId1"/>
          <a:stretch/>
        </p:blipFill>
        <p:spPr>
          <a:xfrm>
            <a:off x="7543800" y="152280"/>
            <a:ext cx="1447920" cy="1295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05920" y="6095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2102040"/>
            <a:ext cx="83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одно-болотные угодья подвергаются интенсивному хозяйственному использованию для потребностей человека: - забор воды для орошения, бытовых и технических нужд, добыча торфа, биологических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52480" y="533520"/>
            <a:ext cx="464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Ы В О Д 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8610480" y="6324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442520"/>
            <a:ext cx="8534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служат основным источником питьевой и технически чистой воды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держивают уровень грунтовых 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служат базой для животноводства, птицеводства, для сеноко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еспечивают хозяйства топл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играют роль сырьевой базы различных промыслов: рыбный промысел,   охо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ставляют большие возможности для ту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380880"/>
            <a:ext cx="7772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ля  челове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280" y="3505320"/>
            <a:ext cx="38124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52280" y="2666880"/>
            <a:ext cx="419400" cy="390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2280" y="160020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52280" y="4419720"/>
            <a:ext cx="419400" cy="390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152280" y="5257800"/>
            <a:ext cx="38124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152280" y="6172200"/>
            <a:ext cx="419400" cy="390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610480" y="62485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133720" y="228600"/>
            <a:ext cx="4267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ВОД :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762120"/>
            <a:ext cx="685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Экосистемные  услуги</a:t>
            </a:r>
            <a:endParaRPr b="1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267080" cy="2495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886200" y="3581280"/>
            <a:ext cx="4371840" cy="2909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Озеро Маныч-Гудило, самое большое озеро Ростовской области"/>
          <p:cNvPicPr/>
          <p:nvPr/>
        </p:nvPicPr>
        <p:blipFill>
          <a:blip r:embed="rId3"/>
          <a:stretch/>
        </p:blipFill>
        <p:spPr>
          <a:xfrm>
            <a:off x="609480" y="4495680"/>
            <a:ext cx="2857680" cy="1981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105520" y="1370160"/>
            <a:ext cx="4038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ные ресурсы, водоснабжение, очистка воды, регулирование климата, регулирование паводков, охрана прибрежных зон, отдых,  туриз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86800" y="6248520"/>
            <a:ext cx="457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0880" y="0"/>
            <a:ext cx="7696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e84a18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ЕННОСТИ  УГОДИЙ</a:t>
            </a:r>
            <a:endParaRPr b="1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e84a18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447920"/>
            <a:ext cx="1524240" cy="121896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ыболов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914400"/>
            <a:ext cx="1828800" cy="10666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пл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1447920"/>
            <a:ext cx="1752840" cy="1143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276720"/>
            <a:ext cx="1828800" cy="13716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нерг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5334120"/>
            <a:ext cx="2057400" cy="1143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отничь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391520" y="3124080"/>
            <a:ext cx="1447560" cy="129564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029200"/>
            <a:ext cx="2209680" cy="11430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доснаб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5257800"/>
            <a:ext cx="2133720" cy="99072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2971800"/>
            <a:ext cx="1752840" cy="160020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д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о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од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362320" y="2438280"/>
            <a:ext cx="1218960" cy="6098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4190760" y="2133360"/>
            <a:ext cx="152280" cy="6094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257800" y="2590920"/>
            <a:ext cx="838080" cy="457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62720" y="3809880"/>
            <a:ext cx="160020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209320" y="3809880"/>
            <a:ext cx="121932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4267080"/>
            <a:ext cx="1066680" cy="838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495680" y="4724280"/>
            <a:ext cx="0" cy="5335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514240" y="4343400"/>
            <a:ext cx="1219320" cy="8380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58200" y="6324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52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8080" y="304920"/>
            <a:ext cx="769644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еловский район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4799520"/>
            <a:ext cx="8305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жотраслевые подходы к управлению водно-болотными угодьями, которые учитывают многообразные эффекты экосистемных услуг, могут эффективнее обеспечивать устойчивое развитие нашего Веселовского района, чем многие существующие отраслевые подх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5867280" cy="3200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 rot="5400000">
            <a:off x="-590400" y="2647800"/>
            <a:ext cx="2971800" cy="571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9966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</a:t>
            </a:r>
            <a:endParaRPr b="0" lang="en-US" sz="1800" spc="1" strike="noStrike">
              <a:ln w="38160">
                <a:solidFill>
                  <a:srgbClr val="9966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8534520" y="6248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762120" y="228600"/>
            <a:ext cx="7924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ёловское водохранилищ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2" name="photoshow_image" descr=""/>
          <p:cNvPicPr/>
          <p:nvPr/>
        </p:nvPicPr>
        <p:blipFill>
          <a:blip r:embed="rId2"/>
          <a:stretch/>
        </p:blipFill>
        <p:spPr>
          <a:xfrm>
            <a:off x="4876920" y="4191120"/>
            <a:ext cx="3962160" cy="2666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0" y="838080"/>
            <a:ext cx="4552920" cy="34862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Вид на остров Жеребков с кургана Грековой Балки."/>
          <p:cNvPicPr/>
          <p:nvPr/>
        </p:nvPicPr>
        <p:blipFill>
          <a:blip r:embed="rId4"/>
          <a:stretch/>
        </p:blipFill>
        <p:spPr>
          <a:xfrm>
            <a:off x="304920" y="4572000"/>
            <a:ext cx="4724280" cy="2057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572000" y="25146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бъем……………………1095млн.м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тяженность…………70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редняя глубина……….4,3 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ибольшая ширина….4 к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360" y="1905120"/>
            <a:ext cx="453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Характеристики водохранил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610480" y="6400800"/>
            <a:ext cx="533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cc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590920" y="228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Ис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8380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одных ресурсов водохранилищ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2209680"/>
            <a:ext cx="22860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удо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шлюзова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2209680"/>
            <a:ext cx="281916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ыб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озя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2209680"/>
            <a:ext cx="2666880" cy="838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ошение п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295280" y="1295280"/>
            <a:ext cx="1828800" cy="838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1295280"/>
            <a:ext cx="2057400" cy="762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12952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29000" y="33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1148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именение водно-болотных ресурсов может быть более эффективн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4800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Предло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486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Развивайте рекреационные услуги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3809880"/>
            <a:ext cx="0" cy="228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62520" y="5257800"/>
            <a:ext cx="0" cy="3049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irc_ilrp_i" descr=""/>
          <p:cNvPicPr/>
          <p:nvPr/>
        </p:nvPicPr>
        <p:blipFill>
          <a:blip r:embed="rId2"/>
          <a:stretch/>
        </p:blipFill>
        <p:spPr>
          <a:xfrm>
            <a:off x="7543800" y="457200"/>
            <a:ext cx="1428840" cy="1295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28520" cy="1123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602720" y="15084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став водной растительнос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годий Веселовского водохранилищ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28016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В состав водной растительности  входит около 30 видов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8080" y="1904040"/>
            <a:ext cx="76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В угодье встречаются  редкие виды растени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Картинки по запросу тюльпан шренка фот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971800"/>
            <a:ext cx="1847880" cy="2743200"/>
          </a:xfrm>
          <a:prstGeom prst="rect">
            <a:avLst/>
          </a:prstGeom>
          <a:ln w="0">
            <a:noFill/>
          </a:ln>
        </p:spPr>
      </p:pic>
      <p:pic>
        <p:nvPicPr>
          <p:cNvPr id="199" name="irc_mi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14600" y="289548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200" name="irc_mi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2895480"/>
            <a:ext cx="1942920" cy="2857680"/>
          </a:xfrm>
          <a:prstGeom prst="rect">
            <a:avLst/>
          </a:prstGeom>
          <a:ln w="0">
            <a:noFill/>
          </a:ln>
        </p:spPr>
      </p:pic>
      <p:pic>
        <p:nvPicPr>
          <p:cNvPr id="201" name="irc_mi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2895480"/>
            <a:ext cx="1942920" cy="2819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086600" y="5867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выль                Залес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5943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ябчик малы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5867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юльпан Шр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5943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юльпан Биберште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9"/>
          <a:stretch/>
        </p:blipFill>
        <p:spPr>
          <a:xfrm>
            <a:off x="380880" y="1295280"/>
            <a:ext cx="457200" cy="3812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0"/>
          <a:stretch/>
        </p:blipFill>
        <p:spPr>
          <a:xfrm>
            <a:off x="304920" y="1905120"/>
            <a:ext cx="457200" cy="3808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1"/>
          <a:stretch/>
        </p:blipFill>
        <p:spPr>
          <a:xfrm>
            <a:off x="1295280" y="2209680"/>
            <a:ext cx="463680" cy="762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2"/>
          <a:stretch/>
        </p:blipFill>
        <p:spPr>
          <a:xfrm>
            <a:off x="7467480" y="2209680"/>
            <a:ext cx="463680" cy="7621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3"/>
          <a:stretch/>
        </p:blipFill>
        <p:spPr>
          <a:xfrm>
            <a:off x="5486400" y="2133720"/>
            <a:ext cx="463680" cy="7617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4"/>
          <a:stretch/>
        </p:blipFill>
        <p:spPr>
          <a:xfrm>
            <a:off x="3352680" y="2209680"/>
            <a:ext cx="463680" cy="762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686800" y="6248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29600" y="6095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38095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дно – болотные угодья Веселовского района являются редкими и уникальными для степной зоны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0" y="1981080"/>
            <a:ext cx="30574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bbe0e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ктуальность</a:t>
            </a:r>
            <a:endParaRPr b="0" lang="en-US" sz="2400" spc="1" strike="noStrike">
              <a:ln w="12600">
                <a:solidFill>
                  <a:srgbClr val="bbe0e3"/>
                </a:solidFill>
                <a:miter/>
              </a:ln>
              <a:solidFill>
                <a:srgbClr val="bbe0e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be0e3"/>
                  </a:solidFill>
                  <a:miter/>
                </a:ln>
                <a:solidFill>
                  <a:srgbClr val="bbe0e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блемы</a:t>
            </a:r>
            <a:endParaRPr b="0" lang="en-US" sz="2400" spc="1" strike="noStrike">
              <a:ln w="12600">
                <a:solidFill>
                  <a:srgbClr val="bbe0e3"/>
                </a:solidFill>
                <a:miter/>
              </a:ln>
              <a:solidFill>
                <a:srgbClr val="bbe0e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90720" y="480024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дно-болотные угодья обеспечивают целый комплекс услуг, которые вносят свой вклад в благосостояние человек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52280" y="4876920"/>
            <a:ext cx="533520" cy="457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04920" y="228600"/>
            <a:ext cx="1295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a2edfc"/>
                </a:solidFill>
                <a:latin typeface="Arial"/>
              </a:rPr>
              <a:t>Проблема:</a:t>
            </a:r>
            <a:endParaRPr b="1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a2edfc"/>
              </a:solidFill>
              <a:latin typeface="Arial"/>
              <a:ea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28600" y="838080"/>
            <a:ext cx="861048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"Уникальность водно-болотных угодий Веселовского района"</a:t>
            </a:r>
            <a:endParaRPr b="1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8" name="Picture 2" descr="C:\Users\Марина\AppData\Local\Microsoft\Windows\Temporary Internet Files\Content.IE5\90JK3Q38\MC900434411[1].wmf"/>
          <p:cNvPicPr/>
          <p:nvPr/>
        </p:nvPicPr>
        <p:blipFill>
          <a:blip r:embed="rId4"/>
          <a:stretch/>
        </p:blipFill>
        <p:spPr>
          <a:xfrm>
            <a:off x="6858000" y="2362320"/>
            <a:ext cx="1295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52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2590920" y="228600"/>
            <a:ext cx="38098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ауна</a:t>
            </a:r>
            <a:endParaRPr b="0" lang="en-US" sz="2400" spc="1" strike="noStrike">
              <a:ln w="19080">
                <a:solidFill>
                  <a:srgbClr val="bbe0e3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523880" y="914400"/>
            <a:ext cx="632484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охранилища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bbe0e3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/>
          <p:nvPr/>
        </p:nvSpPr>
        <p:spPr>
          <a:xfrm>
            <a:off x="237240" y="1827720"/>
            <a:ext cx="89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В Веселовском водохранилище обитают 35 видов ры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2590920"/>
            <a:ext cx="335268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4a18"/>
                </a:solidFill>
                <a:latin typeface="Arial"/>
              </a:rPr>
              <a:t>Наиболее масс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3733920"/>
            <a:ext cx="1523880" cy="5331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ку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29200" y="3886200"/>
            <a:ext cx="1600200" cy="60948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е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3962520"/>
            <a:ext cx="1447920" cy="5331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р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3809880"/>
            <a:ext cx="1523880" cy="5335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у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5181480"/>
            <a:ext cx="2209680" cy="1447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52578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391520" y="5181480"/>
            <a:ext cx="1523880" cy="1089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162920" y="2514600"/>
            <a:ext cx="1676160" cy="11430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438280" y="5257800"/>
            <a:ext cx="2362320" cy="13716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 flipH="1">
            <a:off x="1447920" y="3276720"/>
            <a:ext cx="1371600" cy="380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581280" y="3276720"/>
            <a:ext cx="76320" cy="380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3276720"/>
            <a:ext cx="457200" cy="533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3276720"/>
            <a:ext cx="1600200" cy="53316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53452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90920" y="380880"/>
            <a:ext cx="3124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107932" dir="13500000" blurRad="0" rotWithShape="0">
                    <a:srgbClr val="b2b2b2">
                      <a:alpha val="50000"/>
                    </a:srgbClr>
                  </a:outerShdw>
                </a:effectLst>
                <a:latin typeface="Times New Roman"/>
              </a:rPr>
              <a:t>Птицы</a:t>
            </a:r>
            <a:endParaRPr b="1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107932" dir="13500000" blurRad="0" rotWithShape="0">
                  <a:srgbClr val="b2b2b2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1295280"/>
            <a:ext cx="2590920" cy="459720"/>
          </a:xfrm>
          <a:prstGeom prst="rect">
            <a:avLst/>
          </a:prstGeom>
          <a:solidFill>
            <a:srgbClr val="bbe0e3"/>
          </a:solidFill>
          <a:ln w="5724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мнофи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1295280"/>
            <a:ext cx="2438280" cy="45972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ндрофи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5880" y="2514600"/>
            <a:ext cx="2286000" cy="1631160"/>
          </a:xfrm>
          <a:prstGeom prst="rect">
            <a:avLst/>
          </a:prstGeom>
          <a:solidFill>
            <a:srgbClr val="bbe0e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ыкновенный жулан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ро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рокопу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2362320"/>
            <a:ext cx="2057400" cy="2253600"/>
          </a:xfrm>
          <a:prstGeom prst="rect">
            <a:avLst/>
          </a:prstGeom>
          <a:solidFill>
            <a:srgbClr val="bbe0e3"/>
          </a:solidFill>
          <a:ln w="76320">
            <a:solidFill>
              <a:srgbClr val="e84a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апл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ули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ай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у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1981080"/>
            <a:ext cx="1828800" cy="27432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угодь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незди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ви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т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525780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тицы — самая многочисленная и разнообразная группа наземных позвоночных в угодье водохранилищ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458200" y="6248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2514600" y="228600"/>
            <a:ext cx="335268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вод 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99000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еселовское водохранилищ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465640"/>
            <a:ext cx="2743200" cy="19234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сто длительной остановки мигрирующих птиц и место гнездования более 50 видов птиц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48520" y="2694240"/>
            <a:ext cx="2057400" cy="1313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сто для любительского лова рыбы и рак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05320" y="2617920"/>
            <a:ext cx="2133360" cy="16185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есто по разведению птенцов водоплавающей п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28800" y="1523880"/>
            <a:ext cx="0" cy="762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160020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160020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057400" y="4495680"/>
            <a:ext cx="45529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Map of Маныч-Гудило, Респ. Калмыкия, 35902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828800"/>
            <a:ext cx="4876560" cy="25336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3124080" y="304920"/>
            <a:ext cx="20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зеро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447920" y="1143000"/>
            <a:ext cx="5943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Маныч-Гудило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10080" y="2360880"/>
            <a:ext cx="3353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Протяженность озера более 150 км в длин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до 10-15 км в ширин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го глубина - 4 м и более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181480" y="1828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Характеристики оз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457200" y="4495680"/>
            <a:ext cx="63244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2590920"/>
            <a:ext cx="2629080" cy="2514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3505320"/>
            <a:ext cx="2809800" cy="3057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920" y="228600"/>
            <a:ext cx="3200400" cy="29718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8600" y="3809880"/>
            <a:ext cx="3200400" cy="26672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10080" y="22860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095880" y="2362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ипч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895480"/>
            <a:ext cx="20574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ысячелис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019920"/>
            <a:ext cx="114300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вы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00800" y="601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шалф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2520" y="4800600"/>
            <a:ext cx="1218960" cy="368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итня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610480" y="64911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133720" y="228600"/>
            <a:ext cx="37335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вод 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1869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озере высокая минерализация в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надводная растительность почти не развита. Очень высока продуктивность зоопланктона и бентоса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429000"/>
            <a:ext cx="4286520" cy="2590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3124080"/>
            <a:ext cx="4248360" cy="3181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5800" y="5943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оопланк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34120" y="6400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ент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2860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181480" y="380880"/>
            <a:ext cx="3791160" cy="305748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57200" y="3733920"/>
            <a:ext cx="3581280" cy="28191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952880" y="3733920"/>
            <a:ext cx="3743280" cy="27432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971800" y="15228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доплава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32004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колово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534520" y="6477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1676520" y="304920"/>
            <a:ext cx="4114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 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1371600"/>
            <a:ext cx="548640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Угодье Маныч-Гудило  -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819520"/>
            <a:ext cx="3048120" cy="1752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йон концентр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гpиpующ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т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2819520"/>
            <a:ext cx="320040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сто масс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нез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лони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оловодны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447920" y="1981080"/>
            <a:ext cx="121896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1981080"/>
            <a:ext cx="1143000" cy="685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rc_mi" descr=""/>
          <p:cNvPicPr/>
          <p:nvPr/>
        </p:nvPicPr>
        <p:blipFill>
          <a:blip r:embed="rId2"/>
          <a:stretch/>
        </p:blipFill>
        <p:spPr>
          <a:xfrm>
            <a:off x="2514600" y="4343400"/>
            <a:ext cx="3048120" cy="22478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8153280" y="6172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52280"/>
            <a:ext cx="4552920" cy="30290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4552920" cy="3543480"/>
          </a:xfrm>
          <a:prstGeom prst="rect">
            <a:avLst/>
          </a:prstGeom>
          <a:ln w="0">
            <a:noFill/>
          </a:ln>
        </p:spPr>
      </p:pic>
      <p:pic>
        <p:nvPicPr>
          <p:cNvPr id="289" name="photoshow_image" descr=""/>
          <p:cNvPicPr/>
          <p:nvPr/>
        </p:nvPicPr>
        <p:blipFill>
          <a:blip r:embed="rId4"/>
          <a:stretch/>
        </p:blipFill>
        <p:spPr>
          <a:xfrm>
            <a:off x="4495680" y="2971800"/>
            <a:ext cx="4114800" cy="36576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09480" y="4267080"/>
            <a:ext cx="358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Экологическая обстановка Веселовского водохранилищ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45720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есёловское водохранил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610480" y="63244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533520" y="3049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Arial"/>
              </a:rPr>
              <a:t>Охрана водно-болотных угодий Веселовского рай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1674720"/>
            <a:ext cx="79250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аспортизация  угодий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оздание искусственных мест, удобных для гнездования, кормежки и отдыха пт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жегодно из областного бюджета финансируются мероприятия по охране и развитию  водно –болотных угодий «Веселовское водохранилище» и «Озеро Маныч-Гудило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остановлением Администрации Ростовской области нормативно определены режим водно-болотных угодий международного значения, степень хозяйственной деятельности на их территории и необходимые меры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19400" cy="3924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4800600"/>
            <a:ext cx="419400" cy="3920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152280" y="3276720"/>
            <a:ext cx="419400" cy="3920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52280" y="2362320"/>
            <a:ext cx="419400" cy="3920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05920" y="62485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1880" y="601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4920" y="304920"/>
            <a:ext cx="861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9836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752b7"/>
                </a:solidFill>
                <a:latin typeface="Arial"/>
              </a:rPr>
              <a:t>Цель</a:t>
            </a:r>
            <a:r>
              <a:rPr b="0" lang="en-US" sz="1800" spc="-1" strike="noStrike">
                <a:solidFill>
                  <a:srgbClr val="4752b7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Провести исследование водно–болотных  ресурсов Веселовского района и его окрестностей»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C:\Users\Марина\AppData\Local\Microsoft\Windows\Temporary Internet Files\Content.IE5\90JK3Q38\MC900434411[1].wmf"/>
          <p:cNvPicPr/>
          <p:nvPr/>
        </p:nvPicPr>
        <p:blipFill>
          <a:blip r:embed="rId2"/>
          <a:stretch/>
        </p:blipFill>
        <p:spPr>
          <a:xfrm>
            <a:off x="4343400" y="1828800"/>
            <a:ext cx="1447920" cy="1219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152280" y="2514600"/>
            <a:ext cx="180036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дач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2280" y="380880"/>
            <a:ext cx="8668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ель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67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Изуч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Изучи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952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Проанализир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715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cc"/>
                </a:solidFill>
                <a:latin typeface="Arial"/>
              </a:rPr>
              <a:t>Исследова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3581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то такое водно-болотные угод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4191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собенности водно-болотных угодий Веселов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5562720"/>
            <a:ext cx="586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тительный и животный мир водно–болотных угодий Веселов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487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иды деятельности человека по управлению водно-болотными угодьями Веселовского рай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2133720" y="152280"/>
            <a:ext cx="6858000" cy="119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гипотеза подтвердилась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2971800"/>
            <a:ext cx="7467480" cy="1373760"/>
          </a:xfrm>
          <a:prstGeom prst="rect">
            <a:avLst/>
          </a:prstGeom>
          <a:solidFill>
            <a:srgbClr val="3b44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еселовский район располагает ныне уникальными ресурсами водно-болотных угодий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0" y="228600"/>
            <a:ext cx="16765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Я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752480" y="1143000"/>
            <a:ext cx="41911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2514600"/>
            <a:ext cx="723888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5" name=""/>
          <p:cNvSpPr/>
          <p:nvPr/>
        </p:nvSpPr>
        <p:spPr>
          <a:xfrm>
            <a:off x="8153280" y="6019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258840"/>
            <a:ext cx="80773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бъект исследован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дно –болотные угодья Веселовского  района и его окрест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8600"/>
            <a:ext cx="8915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Предмет исследования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селовское водохранилище и озеро Маныч-Гудил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388440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ипотез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 предполагаю, что Веселовский район располагает ныне уникальными ресурсами водно-болотных угодий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Марина\AppData\Local\Microsoft\Windows\Temporary Internet Files\Content.IE5\90JK3Q38\MC900434411[1].wmf"/>
          <p:cNvPicPr/>
          <p:nvPr/>
        </p:nvPicPr>
        <p:blipFill>
          <a:blip r:embed="rId2"/>
          <a:stretch/>
        </p:blipFill>
        <p:spPr>
          <a:xfrm>
            <a:off x="7086600" y="121932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610480" y="6248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137160"/>
            <a:ext cx="85345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Методы исследования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блюдение, изучение и анализ научных и литературных источников и интернет источников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3961440"/>
            <a:ext cx="86104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Практическая значимость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аключается в пополнении сведений по качественной и количественной характеристикам водно-болотных угодий Веселовского района. Результаты работы могут быть использованы на уроках географии и внеклассных мероприятия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571040"/>
            <a:ext cx="86868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be0e3"/>
                </a:solidFill>
                <a:latin typeface="Arial"/>
              </a:rPr>
              <a:t>Научная новизна</a:t>
            </a:r>
            <a:r>
              <a:rPr b="1" lang="en-US" sz="18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ссмотрены особенности  водно-болотных ресурсов Веселовского района- Веселовского водохранилища и озера Маныч-Гудил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 комплекс услуг, которые обеспечивают угодья для благосостояния челове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 Дана оценка состояния экосистемы по результатам изучения научных материа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Марина\AppData\Local\Microsoft\Windows\Temporary Internet Files\Content.IE5\90JK3Q38\MC900434411[1].wmf"/>
          <p:cNvPicPr/>
          <p:nvPr/>
        </p:nvPicPr>
        <p:blipFill>
          <a:blip r:embed="rId2"/>
          <a:stretch/>
        </p:blipFill>
        <p:spPr>
          <a:xfrm>
            <a:off x="7848720" y="838080"/>
            <a:ext cx="1143000" cy="1067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53452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724280" y="15228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4267440" cy="3505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Маныч на горизонте - на трассе перед рекой Западный Маныч"/>
          <p:cNvPicPr/>
          <p:nvPr/>
        </p:nvPicPr>
        <p:blipFill>
          <a:blip r:embed="rId3"/>
          <a:stretch/>
        </p:blipFill>
        <p:spPr>
          <a:xfrm>
            <a:off x="380880" y="3049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Click to Clos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371600"/>
            <a:ext cx="4152960" cy="3086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Маныч"/>
          <p:cNvPicPr/>
          <p:nvPr/>
        </p:nvPicPr>
        <p:blipFill>
          <a:blip r:embed="rId6"/>
          <a:stretch/>
        </p:blipFill>
        <p:spPr>
          <a:xfrm>
            <a:off x="609480" y="4800600"/>
            <a:ext cx="2857680" cy="1914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523880" y="1600200"/>
            <a:ext cx="4448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66"/>
                </a:solidFill>
                <a:latin typeface="Arial"/>
              </a:rPr>
              <a:t>веселовский район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66"/>
              </a:solidFill>
              <a:latin typeface="Arial"/>
              <a:ea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638680"/>
            <a:ext cx="3200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хранил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68680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Вид на остров Жеребков с кургана Грековой Балки."/>
          <p:cNvPicPr/>
          <p:nvPr/>
        </p:nvPicPr>
        <p:blipFill>
          <a:blip r:embed="rId1"/>
          <a:stretch/>
        </p:blipFill>
        <p:spPr>
          <a:xfrm>
            <a:off x="762120" y="3809880"/>
            <a:ext cx="3743280" cy="263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05520" y="2590920"/>
            <a:ext cx="3384360" cy="3898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4162320" cy="2771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715000" y="22860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Картинки по запросу река маныч рыба фото"/>
          <p:cNvPicPr/>
          <p:nvPr/>
        </p:nvPicPr>
        <p:blipFill>
          <a:blip r:embed="rId5"/>
          <a:stretch/>
        </p:blipFill>
        <p:spPr>
          <a:xfrm>
            <a:off x="3581280" y="2743200"/>
            <a:ext cx="2457720" cy="1866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5638680"/>
            <a:ext cx="830592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еселовский район расположен на уникальной территории водно-болотных угодий Веселовского водохранилища, которое богато рыбой, дичью, луговыми трав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 rot="5400000">
            <a:off x="3809880" y="1066680"/>
            <a:ext cx="236232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во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763120" y="6095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rc_mi" descr=""/>
          <p:cNvPicPr/>
          <p:nvPr/>
        </p:nvPicPr>
        <p:blipFill>
          <a:blip r:embed="rId2"/>
          <a:stretch/>
        </p:blipFill>
        <p:spPr>
          <a:xfrm>
            <a:off x="2438280" y="4572000"/>
            <a:ext cx="3353040" cy="2019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2120" y="914400"/>
            <a:ext cx="7543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Водно-болотные угодья — это районы болот, торфяных угодий или водоёмов — естественных или искусственных, постоянных или временных, стоячих или проточных, пресных, солоноватых или солёных, включая морские акватории, глубина которых при отливе не превышает шести мет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286000" y="228600"/>
            <a:ext cx="36669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пределение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534520" y="6019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19520" y="533520"/>
            <a:ext cx="3124080" cy="99036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дно-болотные угод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2057400"/>
            <a:ext cx="2590920" cy="11430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иологическ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нообраз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590920"/>
            <a:ext cx="2590920" cy="91440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сточники во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286000"/>
            <a:ext cx="2057400" cy="990720"/>
          </a:xfrm>
          <a:prstGeom prst="ellipse">
            <a:avLst/>
          </a:prstGeom>
          <a:solidFill>
            <a:srgbClr val="bbe0e3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дуктивн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828800" y="1447920"/>
            <a:ext cx="1295280" cy="45720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43400" y="1600200"/>
            <a:ext cx="0" cy="83808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1447920"/>
            <a:ext cx="1143000" cy="609480"/>
          </a:xfrm>
          <a:prstGeom prst="line">
            <a:avLst/>
          </a:prstGeom>
          <a:ln w="76320">
            <a:solidFill>
              <a:srgbClr val="ff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irc_mi" descr=""/>
          <p:cNvPicPr/>
          <p:nvPr/>
        </p:nvPicPr>
        <p:blipFill>
          <a:blip r:embed="rId1"/>
          <a:stretch/>
        </p:blipFill>
        <p:spPr>
          <a:xfrm>
            <a:off x="380880" y="4191120"/>
            <a:ext cx="3124440" cy="2209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Озеро Маныч-Гудило. Кроншнепы. Фотографии."/>
          <p:cNvPicPr/>
          <p:nvPr/>
        </p:nvPicPr>
        <p:blipFill>
          <a:blip r:embed="rId2"/>
          <a:stretch/>
        </p:blipFill>
        <p:spPr>
          <a:xfrm>
            <a:off x="5029200" y="3809880"/>
            <a:ext cx="3276720" cy="2743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610480" y="6095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2T15:02:23Z</dcterms:created>
  <dc:creator>1</dc:creator>
  <dc:description/>
  <dc:language>en-US</dc:language>
  <cp:lastModifiedBy>1</cp:lastModifiedBy>
  <dcterms:modified xsi:type="dcterms:W3CDTF">2016-12-30T15:51:23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