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5.jpeg" ContentType="image/jpeg"/>
  <Override PartName="/ppt/media/image30.jpeg" ContentType="image/jpeg"/>
  <Override PartName="/ppt/media/image7.wmf" ContentType="image/x-wmf"/>
  <Override PartName="/ppt/media/image3.jpeg" ContentType="image/jpeg"/>
  <Override PartName="/ppt/media/image37.jpeg" ContentType="image/jpeg"/>
  <Override PartName="/ppt/media/image60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52.jpeg" ContentType="image/jpeg"/>
  <Override PartName="/ppt/media/image12.jpeg" ContentType="image/jpeg"/>
  <Override PartName="/ppt/media/image29.jpeg" ContentType="image/jpeg"/>
  <Override PartName="/ppt/media/image17.jpeg" ContentType="image/jpeg"/>
  <Override PartName="/ppt/media/image26.jpeg" ContentType="image/jpeg"/>
  <Override PartName="/ppt/media/image19.png" ContentType="image/png"/>
  <Override PartName="/ppt/media/image61.png" ContentType="image/png"/>
  <Override PartName="/ppt/media/image20.jpeg" ContentType="image/jpeg"/>
  <Override PartName="/ppt/media/image28.png" ContentType="image/png"/>
  <Override PartName="/ppt/media/image4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9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80C-8CF9-40FD-87C5-C00EC812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C5B-D84F-4C8C-A952-E68A219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3ED-8A59-444C-9811-D2425BC9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A42-E6CB-4A2E-ACF4-B69CB572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2C4-F06E-44F0-92C3-EEA26C3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EAA-E3A7-4C60-ADA4-D7624D8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C4D-AEBB-4B89-9A24-ECD89C6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916-FD77-48A2-A598-21FF4913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0B0-1D64-4B0B-A0C0-D59A339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944-B1D6-4752-B5A4-1A7C2279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E4E-8F77-4EE5-B5EF-C1359E2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877-B1FB-4F95-BE44-143CA20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205-BF9B-4963-A460-9C68C2926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avascript:self.close()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orenpair.ru/wp-content/uploads/2014/05/P5035461.jpg&amp;imgrefurl=http://orenpair.ru/cvety_vesennei_stepi.html&amp;h=1920&amp;w=1440&amp;tbnid=tcIUWn8nzg0RsM:&amp;docid=HDOjGtgS8cqX8M&amp;ei=FvtSVu-RF6v4ywOYlqnwCg&amp;tbm=isch&amp;ved=0ahUKEwjv9Kj-uqbJAhUr_HIKHRhLCq4QMwhjKDkwOQ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ru/url?sa=i&amp;rct=j&amp;q=&amp;esrc=s&amp;source=images&amp;cd=&amp;cad=rja&amp;uact=8&amp;ved=0ahUKEwjAg8itv6bJAhUhc3IKHeQ7A2MQjRwIBw&amp;url=http%3A%2F%2Fwww.pro-landshaft.ru%2Fplants%2Fdetail%2F941%2F&amp;psig=AFQjCNGGASiNe5AW9DFsQZge1mX_ZadYAw&amp;ust=1448366356432251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google.ru/url?sa=i&amp;rct=j&amp;q=&amp;esrc=s&amp;source=images&amp;cd=&amp;cad=rja&amp;uact=8&amp;ved=0ahUKEwjY-bCBv6bJAhXivXIKHZNlCLsQjRwIBw&amp;url=http%3A%2F%2Frus-img2.com%2Fryabchik-shahmatnyy&amp;psig=AFQjCNGbZragFCYOMMvvc-hnzCubxJztfQ&amp;ust=1448366269435839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www.google.ru/url?sa=i&amp;rct=j&amp;q=&amp;esrc=s&amp;source=images&amp;cd=&amp;cad=rja&amp;uact=8&amp;ved=0ahUKEwjq47m0vqbJAhVEz3IKHV2dBYoQjRwIBw&amp;url=http%3A%2F%2Fwww.prirodasibiri.ru%2F%3Fid_page%3D29%26id_razd%3D121&amp;psig=AFQjCNHiIpsnfIZOX_GaLutYo_So-uzstg&amp;ust=1448365665736447" TargetMode="External"/><Relationship Id="rId8" Type="http://schemas.openxmlformats.org/officeDocument/2006/relationships/image" Target="../media/image37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DpM_ex6bJAhVlw3IKHYwhCHIQjRwIBw&amp;url=http%3A%2F%2Fchervi-shop.ru%2Findex.php%2Fsite%2Fpages%2Fview%2Fbass-intro&amp;psig=AFQjCNFHlOy_YXekvRDxwR44npWfIRE3nA&amp;ust=1448368603855148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google.ru/url?sa=i&amp;rct=j&amp;q=&amp;esrc=s&amp;source=images&amp;cd=&amp;cad=rja&amp;uact=8&amp;ved=0ahUKEwim_diFyKbJAhWJwHIKHdQmDpcQjRwIBw&amp;url=http%3A%2F%2Fwww.fishingpiter.ru%2Fbook%2Flesh.html&amp;psig=AFQjCNGTE0hdZihDqb9doNXZX214KeA_JA&amp;ust=1448368683381655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www.google.ru/url?sa=i&amp;rct=j&amp;q=&amp;esrc=s&amp;source=images&amp;cd=&amp;cad=rja&amp;uact=8&amp;ved=0ahUKEwiDh_i9yKbJAhUrkXIKHR4xBKEQjRwIBw&amp;url=http%3A%2F%2F1stkarp050.ru%2Ftaran&amp;psig=AFQjCNFtwUyjJqwmS_EjjFXHAJ1-gSCYKA&amp;ust=1448368767814856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www.google.ru/url?sa=i&amp;rct=j&amp;q=&amp;esrc=s&amp;source=images&amp;cd=&amp;cad=rja&amp;uact=8&amp;ved=0ahUKEwi134j3yKbJAhVr83IKHewcD_4QjRwIBw&amp;url=http%3A%2F%2Fhharbour.ru%2F2012%2F03%2Fvobla-kaspijskaya-i-taran%2F&amp;psig=AFQjCNHzLvVDrr-FMOlOkK4CUYnSokFmnQ&amp;ust=1448368919163326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google.ru/url?sa=i&amp;rct=j&amp;q=&amp;esrc=s&amp;source=images&amp;cd=&amp;cad=rja&amp;uact=8&amp;ved=0ahUKEwj34fy6yabJAhWEqnIKHSseCiMQjRwIBw&amp;url=http%3A%2F%2Frus-img2.com%2Fpodleshchik-gustera&amp;psig=AFQjCNG9myWpZyCG5S_qui-CfouY-vQwOw&amp;ust=1448369006592903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ru/maps/place/&#1052;&#1072;&#1085;&#1099;&#1095;-&#1043;&#1091;&#1076;&#1080;&#1083;&#1086;/data=!4m2!3m1!1s0x40fdda48e74704ef:0x400bedb59f8a48a9?sa=X&amp;ved=0ahUKEwium8jP3abJAhUFXiwKHcw0B2QQ8gEIHjAA" TargetMode="External"/><Relationship Id="rId3" Type="http://schemas.openxmlformats.org/officeDocument/2006/relationships/image" Target="../media/image4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R9dSi5KbJAhWBWSwKHccmDhwQjRwIBw&amp;url=http%3A%2F%2Fsupersadovnik.net%2Fzhitnyak-zasuxoustojchiv-zlak-v-ukraine%2F&amp;psig=AFQjCNFI8vRJx4o7Siien8NAZ76pw78eIA&amp;ust=1448376265595634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google.ru/url?sa=i&amp;rct=j&amp;q=&amp;esrc=s&amp;source=images&amp;cd=&amp;cad=rja&amp;uact=8&amp;ved=0ahUKEwj6yPC15KbJAhVJjCwKHcgMAjkQjRwIBw&amp;url=http%3A%2F%2Fwww.5lepestkov.com%2F%3Fp%3D113&amp;psig=AFQjCNFU54b0gjOhr0qyxRP-DcY3liicSA&amp;ust=1448376326677827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www.google.ru/url?sa=i&amp;rct=j&amp;q=&amp;esrc=s&amp;source=images&amp;cd=&amp;cad=rja&amp;uact=8&amp;ved=0ahUKEwirpcLa5KbJAhUJ3iwKHc_kCB8QjRwIBw&amp;url=http%3A%2F%2Fmed-plants.ru%2Fyenciklopediya-rastenij%2F48-tysyachelistnik-obyknovennyj.html&amp;psig=AFQjCNFPmua8ghTkhwPLk6pF1UkuPet9uQ&amp;ust=1448376374208919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www.google.ru/url?sa=i&amp;rct=j&amp;q=&amp;esrc=s&amp;source=images&amp;cd=&amp;cad=rja&amp;uact=8&amp;ved=0ahUKEwiDpeWB5abJAhUHlCwKHc9RAi8QjRwIBw&amp;url=http%3A%2F%2Fvoroninsky.ru%2Fposts_full%2Fredkie_vidy%2Fkovyli_peristyy&amp;psig=AFQjCNFQZBcNJX8YQpjnzukdK-go5c9mSQ&amp;ust=1448376440155199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www.google.ru/url?sa=i&amp;rct=j&amp;q=&amp;esrc=s&amp;source=images&amp;cd=&amp;cad=rja&amp;uact=8&amp;ved=0ahUKEwjt_6a85abJAhXEFCwKHc6OADMQjRwIBw&amp;url=http%3A%2F%2Fwww.floraprice.ru%2Farticles%2Fsad%2Fmnogolikaya-ovsyanica.html&amp;psig=AFQjCNHrtEeP4fnXfyqz_lZyTiGLvTBo9w&amp;ust=1448376549778552" TargetMode="External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google.ru/url?sa=i&amp;rct=j&amp;q=&amp;esrc=s&amp;source=images&amp;cd=&amp;cad=rja&amp;uact=8&amp;ved=0ahUKEwjRlbv46qbJAhXh8HIKHXTGDxoQjRwIBw&amp;url=http%3A%2F%2Fwww.chem-astu.ru%2Fweblog%2Fall%2Fzooplankton%2F&amp;psig=AFQjCNGEYUM-gWdBmsJceAaYOGHQNAZjnQ&amp;ust=1448378077200137" TargetMode="External"/><Relationship Id="rId3" Type="http://schemas.openxmlformats.org/officeDocument/2006/relationships/image" Target="../media/image51.png"/><Relationship Id="rId4" Type="http://schemas.openxmlformats.org/officeDocument/2006/relationships/hyperlink" Target="http://www.google.ru/url?sa=i&amp;rct=j&amp;q=&amp;esrc=s&amp;source=images&amp;cd=&amp;cad=rja&amp;uact=8&amp;ved=0ahUKEwiamdi266bJAhXC8XIKHXCXDxkQjRwIBw&amp;url=http%3A%2F%2Fwww.moyavoda.com%2Fnews_details%2F1301&amp;psig=AFQjCNEzO3DZ-QUT9lsZNF1oCBSNGDkUcA&amp;ust=1448378148560068" TargetMode="External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www.google.ru/url?sa=i&amp;rct=j&amp;q=&amp;esrc=s&amp;source=images&amp;cd=&amp;cad=rja&amp;uact=8&amp;ved=0ahUKEwj01oPY7qbJAhXG6nIKHZi8BLgQjRwIBw&amp;url=http%3A%2F%2Fgorod48.ru%2Fnews%2F60007%2F&amp;psig=AFQjCNHfk79gc5DvctUXWs8n4ybPNpJfLQ&amp;ust=1448379029846692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www.google.ru/url?sa=i&amp;rct=j&amp;q=&amp;esrc=s&amp;source=images&amp;cd=&amp;cad=rja&amp;uact=8&amp;ved=0ahUKEwjD-5_z7qbJAhWFj3IKHen3CIsQjRwIBw&amp;url=http%3A%2F%2Fwexplain.ru%2Fpochemu-vodoplavayushhie-pticy-ne-tonut%2F&amp;psig=AFQjCNHfk79gc5DvctUXWs8n4ybPNpJfLQ&amp;ust=1448379029846692" TargetMode="External"/><Relationship Id="rId5" Type="http://schemas.openxmlformats.org/officeDocument/2006/relationships/image" Target="../media/image55.jpeg"/><Relationship Id="rId6" Type="http://schemas.openxmlformats.org/officeDocument/2006/relationships/hyperlink" Target="http://www.google.ru/url?sa=i&amp;rct=j&amp;q=&amp;esrc=s&amp;source=images&amp;cd=&amp;cad=rja&amp;uact=8&amp;ved=0ahUKEwj50_Ob76bJAhXG_HIKHRMoBA0QjRwIBw&amp;url=http%3A%2F%2Fwww.zooeco.com%2Fint%2Fint-ptici8-1.html&amp;psig=AFQjCNHgLQII-1QmzRwpMXgsr1tCfyit6A&amp;ust=1448379189990665" TargetMode="External"/><Relationship Id="rId7" Type="http://schemas.openxmlformats.org/officeDocument/2006/relationships/image" Target="../media/image56.jpeg"/><Relationship Id="rId8" Type="http://schemas.openxmlformats.org/officeDocument/2006/relationships/hyperlink" Target="http://www.google.ru/url?sa=i&amp;rct=j&amp;q=&amp;esrc=s&amp;source=images&amp;cd=&amp;cad=rja&amp;uact=8&amp;ved=0ahUKEwj2kKm-76bJAhWkfHIKHbxDB8wQjRwIBw&amp;url=http%3A%2F%2Fwww.graycell.ru%2Fsimplemask.php%3Fdef%3D%25D6%25E0%25EF%25EB%25FF&amp;psig=AFQjCNHk005nGiRsIQreUZtMhZTSH6enGw&amp;ust=1448379273022791" TargetMode="External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5s_Oy9abJAhWH_HIKHRfcBXcQjRwIBw&amp;url=http%3A%2F%2Ffishtracker.ru%2Freport%2Fdetails%2F382%2Fveselaya-ribalka-znakomstvo-s-veselovskim-vodohranilischem-veselovskiy-rayon-rostovskaya-oblast-rossiya&amp;psig=AFQjCNHVrBP8Hfrv1S23hLpDAEM2_Ft7Fw&amp;ust=1448380835602367" TargetMode="External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javascript:self.close()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5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Исследование    водно –болотных        угодий Веселовского района и его окрестностей и их роли в благосостоянии челове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267080" cy="249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Click to Clo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819520"/>
            <a:ext cx="4152960" cy="30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irc_mi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400032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2540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5029200"/>
            <a:ext cx="3733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Ашурбеков Руслан, ученик 9 класса МБОУ Краснознаменская О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Орёл В.Ю., учитель ге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1371600"/>
            <a:ext cx="6477120" cy="155628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о из главных природных богатств Веселовского района –это водно-болотные угод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05120" y="457200"/>
            <a:ext cx="472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ы в о 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800600"/>
            <a:ext cx="2743200" cy="1219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ов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хран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800600"/>
            <a:ext cx="2438640" cy="129528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а Маны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800600"/>
            <a:ext cx="2286000" cy="1219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зе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ныч-Гу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219320" y="3657600"/>
            <a:ext cx="137160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65760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152388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640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43000" y="1676520"/>
          <a:ext cx="6781680" cy="44002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ни накапливают и хранят пресную 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егулируют поверхностный и подземный 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оддерживают уровень грунтовых 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чищают 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звращают в атмосферу кисл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зымают из атмосферы и накапливают 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держивают эрозию, стабилизируют положение бере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оддерживают биологическое разнообраз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лужат местом обитания многих видов растений и живот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>
            <a:off x="2514600" y="1752480"/>
            <a:ext cx="3505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Функ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81080" y="152280"/>
            <a:ext cx="46483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Почему ? ? ?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5280" y="838080"/>
            <a:ext cx="51055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Потому, что ! ! 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pic>
        <p:nvPicPr>
          <p:cNvPr id="126" name="Picture 2" descr="C:\Users\Марина\AppData\Local\Microsoft\Windows\Temporary Internet Files\Content.IE5\90JK3Q38\MC900434411[1].wmf"/>
          <p:cNvPicPr/>
          <p:nvPr/>
        </p:nvPicPr>
        <p:blipFill>
          <a:blip r:embed="rId1"/>
          <a:stretch/>
        </p:blipFill>
        <p:spPr>
          <a:xfrm>
            <a:off x="7543800" y="152280"/>
            <a:ext cx="1447920" cy="129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059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10204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но-болотные угодья подвергаются интенсивному хозяйственному использованию для потребностей человека: - забор воды для орошения, бытовых и технических нужд, добыча торфа, биологически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5335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Ы В О Д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86104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44252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лужат основным источником питьевой и технически чистой вод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держивают уровень грунтов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лужат базой для животноводства, птицеводства, для сенок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еспечивают хозяйства топл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играют роль сырьевой базы различных промыслов: рыбный промысел,   охо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ставляют большие возможности для ту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 челове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280" y="2666880"/>
            <a:ext cx="41940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2280" y="16002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2280" y="4419720"/>
            <a:ext cx="419400" cy="39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52280" y="52578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52280" y="6172200"/>
            <a:ext cx="41940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1048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3720" y="228600"/>
            <a:ext cx="426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 :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7621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косистемные  услуги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26708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4371840" cy="29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Озеро Маныч-Гудило, самое большое озеро Ростовской области"/>
          <p:cNvPicPr/>
          <p:nvPr/>
        </p:nvPicPr>
        <p:blipFill>
          <a:blip r:embed="rId3"/>
          <a:stretch/>
        </p:blipFill>
        <p:spPr>
          <a:xfrm>
            <a:off x="609480" y="4495680"/>
            <a:ext cx="2857680" cy="19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05520" y="1370160"/>
            <a:ext cx="4038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ные ресурсы, водоснабжение, очистка воды, регулирование климата, регулирование паводков, охрана прибрежных зон, отдых,  тур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86800" y="624852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0"/>
            <a:ext cx="7696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e84a18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ННОСТИ  УГОДИЙ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e84a18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1524240" cy="12189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914400"/>
            <a:ext cx="1828800" cy="10666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п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447920"/>
            <a:ext cx="175284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1828800" cy="13716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334120"/>
            <a:ext cx="205740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ч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3124080"/>
            <a:ext cx="1447560" cy="1295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029200"/>
            <a:ext cx="220968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оснаб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257800"/>
            <a:ext cx="2133720" cy="99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971800"/>
            <a:ext cx="1752840" cy="16002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д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62320" y="2438280"/>
            <a:ext cx="1218960" cy="609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190760" y="2133360"/>
            <a:ext cx="15228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590920"/>
            <a:ext cx="83808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809880"/>
            <a:ext cx="1600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09320" y="3809880"/>
            <a:ext cx="12193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267080"/>
            <a:ext cx="106668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72428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4343400"/>
            <a:ext cx="1219320" cy="838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5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8080" y="304920"/>
            <a:ext cx="769644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еловский район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7995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отраслевые подходы к управлению водно-болотными угодьями, которые учитывают многообразные эффекты экосистемных услуг, могут эффективнее обеспечивать устойчивое развитие нашего Веселовского района, чем многие существующие отраслевые под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5867280" cy="32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 rot="5400000">
            <a:off x="-590400" y="264780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38160">
                <a:solidFill>
                  <a:srgbClr val="9966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624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228600"/>
            <a:ext cx="792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ёловское водохранилищ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hotoshow_image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4552920" cy="3486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Вид на остров Жеребков с кургана Грековой Балки."/>
          <p:cNvPicPr/>
          <p:nvPr/>
        </p:nvPicPr>
        <p:blipFill>
          <a:blip r:embed="rId4"/>
          <a:stretch/>
        </p:blipFill>
        <p:spPr>
          <a:xfrm>
            <a:off x="304920" y="4572000"/>
            <a:ext cx="4724280" cy="205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5146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ъем……………………1095млн.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тяженность…………7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едняя глубина……….4,3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ая ширина….4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360" y="1905120"/>
            <a:ext cx="45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Характеристики водохран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10480" y="64008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90920" y="228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8380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одных ресурсов водохран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2209680"/>
            <a:ext cx="22860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до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шлюз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209680"/>
            <a:ext cx="28191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2209680"/>
            <a:ext cx="26668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ошение п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95280" y="1295280"/>
            <a:ext cx="182880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2952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12952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1148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енение водно-болотных ресурсов может быть более эффекти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ред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486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звивайте рекреационные услуги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380988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2578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rc_ilrp_i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28520" cy="1123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2720" y="15084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ав водной раститель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годий Веселовского водохранилищ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2801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В состав водной растительности  входит около 30 видов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0404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угодье встречаются  редкие виды растени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Картинки по запросу тюльпан шренка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9718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irc_m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289548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200" name="irc_mi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1942920" cy="2857680"/>
          </a:xfrm>
          <a:prstGeom prst="rect">
            <a:avLst/>
          </a:prstGeom>
          <a:ln w="0">
            <a:noFill/>
          </a:ln>
        </p:spPr>
      </p:pic>
      <p:pic>
        <p:nvPicPr>
          <p:cNvPr id="201" name="irc_mi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95480"/>
            <a:ext cx="194292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86600" y="5867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выль                Зале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5943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ябчик мал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867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ьпан Шр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ьпан Бибершт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380880" y="129528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1295280" y="2209680"/>
            <a:ext cx="46368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7467480" y="2209680"/>
            <a:ext cx="46368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5486400" y="2133720"/>
            <a:ext cx="46368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3352680" y="2209680"/>
            <a:ext cx="46368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686800" y="624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29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9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 – болотные угодья Веселовского района являются редкими и уникальными для степной зо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1981080"/>
            <a:ext cx="305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ктуальность</a:t>
            </a:r>
            <a:endParaRPr b="0" lang="en-US" sz="2400" spc="1" strike="noStrike">
              <a:ln w="12600">
                <a:solidFill>
                  <a:srgbClr val="bbe0e3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ы</a:t>
            </a:r>
            <a:endParaRPr b="0" lang="en-US" sz="2400" spc="1" strike="noStrike">
              <a:ln w="12600">
                <a:solidFill>
                  <a:srgbClr val="bbe0e3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800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-болотные угодья обеспечивают целый комплекс услуг, которые вносят свой вклад в благосостояние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920" y="22860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a2edfc"/>
                </a:solidFill>
                <a:latin typeface="Arial"/>
              </a:rPr>
              <a:t>Проблема: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a2edfc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86104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"Уникальность водно-болотных угодий Веселовского района"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8" name="Picture 2" descr="C:\Users\Марина\AppData\Local\Microsoft\Windows\Temporary Internet Files\Content.IE5\90JK3Q38\MC900434411[1].wmf"/>
          <p:cNvPicPr/>
          <p:nvPr/>
        </p:nvPicPr>
        <p:blipFill>
          <a:blip r:embed="rId4"/>
          <a:stretch/>
        </p:blipFill>
        <p:spPr>
          <a:xfrm>
            <a:off x="6858000" y="23623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5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90920" y="228600"/>
            <a:ext cx="38098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уна</a:t>
            </a:r>
            <a:endParaRPr b="0" lang="en-US" sz="2400" spc="1" strike="noStrike">
              <a:ln w="19080">
                <a:solidFill>
                  <a:srgbClr val="bbe0e3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914400"/>
            <a:ext cx="6324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хранилищ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237240" y="1827720"/>
            <a:ext cx="89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Веселовском водохранилище обитают 35 видов ры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590920"/>
            <a:ext cx="335268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4a18"/>
                </a:solidFill>
                <a:latin typeface="Arial"/>
              </a:rPr>
              <a:t>Наиболее масс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733920"/>
            <a:ext cx="1523880" cy="5331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3886200"/>
            <a:ext cx="1600200" cy="609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3962520"/>
            <a:ext cx="1447920" cy="5331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809880"/>
            <a:ext cx="1523880" cy="5335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181480"/>
            <a:ext cx="220968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2578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51814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2514600"/>
            <a:ext cx="167616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38280" y="525780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>
            <a:off x="1447920" y="3276720"/>
            <a:ext cx="137160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581280" y="3276720"/>
            <a:ext cx="7632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3276720"/>
            <a:ext cx="45720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3276720"/>
            <a:ext cx="160020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90920" y="380880"/>
            <a:ext cx="31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95280"/>
            <a:ext cx="259092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мноф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1295280"/>
            <a:ext cx="2438280" cy="4597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дроф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2514600"/>
            <a:ext cx="2286000" cy="163116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ыкновенный жул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р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рокопу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362320"/>
            <a:ext cx="2057400" cy="2253600"/>
          </a:xfrm>
          <a:prstGeom prst="rect">
            <a:avLst/>
          </a:prstGeom>
          <a:solidFill>
            <a:srgbClr val="bbe0e3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п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л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ай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1981080"/>
            <a:ext cx="1828800" cy="27432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угод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нез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257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тицы — самая многочисленная и разнообразная группа наземных позвоночных в угодье водохранилищ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6248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14600" y="228600"/>
            <a:ext cx="33526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 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990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еловское водохранилищ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465640"/>
            <a:ext cx="2743200" cy="1923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длительной остановки мигрирующих птиц и место гнездования более 50 видов пт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694240"/>
            <a:ext cx="2057400" cy="1313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для любительского лова рыбы и ра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2617920"/>
            <a:ext cx="2133360" cy="16185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по разведению птенцов водоплавающей 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15238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6002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16002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455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Map of Маныч-Гудило, Респ. Калмыкия, 359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828800"/>
            <a:ext cx="4876560" cy="2533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124080" y="304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ер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47920" y="1143000"/>
            <a:ext cx="5943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ныч-Гудил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360880"/>
            <a:ext cx="335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Протяженность озера более 150 км в дл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до 10-15 км в ширин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го глубина - 4 м и боле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Характеристики о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457200" y="4495680"/>
            <a:ext cx="6324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590920"/>
            <a:ext cx="2629080" cy="2514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05320"/>
            <a:ext cx="2809800" cy="3057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2286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809880"/>
            <a:ext cx="3200400" cy="266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10080" y="22860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588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ип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895480"/>
            <a:ext cx="2057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019920"/>
            <a:ext cx="1143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в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ал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4800600"/>
            <a:ext cx="12189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и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104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3720" y="228600"/>
            <a:ext cx="3733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 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18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озере высокая минерализация 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дводная растительность почти не развита. Очень высока продуктивность зоопланктона и бентос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429000"/>
            <a:ext cx="4286520" cy="2590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124080"/>
            <a:ext cx="4248360" cy="3181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оопланк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6400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н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86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80880"/>
            <a:ext cx="3791160" cy="3057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733920"/>
            <a:ext cx="3581280" cy="2819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52880" y="3733920"/>
            <a:ext cx="3743280" cy="2743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718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допла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200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кол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53452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76520" y="304920"/>
            <a:ext cx="41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1371600"/>
            <a:ext cx="5486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годье Маныч-Гудило  -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819520"/>
            <a:ext cx="30481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йон концен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гpиp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819520"/>
            <a:ext cx="320040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 масс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нез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н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ловод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981080"/>
            <a:ext cx="1218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981080"/>
            <a:ext cx="11430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rc_mi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048120" cy="2247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153280" y="6172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52280"/>
            <a:ext cx="4552920" cy="3029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4552920" cy="3543480"/>
          </a:xfrm>
          <a:prstGeom prst="rect">
            <a:avLst/>
          </a:prstGeom>
          <a:ln w="0">
            <a:noFill/>
          </a:ln>
        </p:spPr>
      </p:pic>
      <p:pic>
        <p:nvPicPr>
          <p:cNvPr id="289" name="photoshow_image" descr=""/>
          <p:cNvPicPr/>
          <p:nvPr/>
        </p:nvPicPr>
        <p:blipFill>
          <a:blip r:embed="rId4"/>
          <a:stretch/>
        </p:blipFill>
        <p:spPr>
          <a:xfrm>
            <a:off x="4495680" y="29718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9480" y="426708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кологическая обстановка Веселовского водохранилищ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457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ёловское 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6104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304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Охрана водно-болотных угодий Веселов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674720"/>
            <a:ext cx="7925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спортизация  угод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ие искусственных мест, удобных для гнездования, кормежки и отдыха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жегодно из областного бюджета финансируются мероприятия по охране и развитию  водно –болотных угодий «Веселовское водохранилище» и «Озеро Маныч-Гудил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становлением Администрации Ростовской области нормативно определены режим водно-болотных угодий международного значения, степень хозяйственной деятельности на их территории и необходимые меры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19400" cy="392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419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41940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52280" y="2362320"/>
            <a:ext cx="419400" cy="392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059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18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83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52b7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4752b7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Провести исследование водно–болотных  ресурсов Веселовского района и его окрестностей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4343400" y="182880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2280" y="2514600"/>
            <a:ext cx="1800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380880"/>
            <a:ext cx="866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з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з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52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Проанализир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сслед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акое водно-болотные угод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4191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водно-болотных угодий Веселов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562720"/>
            <a:ext cx="58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тительный и животный мир водно–болотных угодий Веселов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деятельности человека по управлению водно-болотными угодьями Веселовского рай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133720" y="152280"/>
            <a:ext cx="685800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 подтвердилас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971800"/>
            <a:ext cx="7467480" cy="1373760"/>
          </a:xfrm>
          <a:prstGeom prst="rect">
            <a:avLst/>
          </a:prstGeom>
          <a:solidFill>
            <a:srgbClr val="3b4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селовский район располагает ныне уникальными ресурсами водно-болотных угод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228600"/>
            <a:ext cx="1676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752480" y="1143000"/>
            <a:ext cx="41911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514600"/>
            <a:ext cx="72388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58840"/>
            <a:ext cx="8077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но –болотные угодья Веселовского  района и его окрест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860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овское водохранилище и озеро Маныч-Гуди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844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ипотез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 предполагаю, что Веселовский район располагает ныне уникальными ресурсами водно-болотных угоди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7086600" y="12193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610480" y="6248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7160"/>
            <a:ext cx="85345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Методы исследования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блюдение, изучение и анализ научных и литературных источников и интернет источников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961440"/>
            <a:ext cx="86104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Практическая значимост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лючается в пополнении сведений по качественной и количественной характеристикам водно-болотных угодий Веселовского района. Результаты работы могут быть использованы на уроках географии и внеклассных мероприятия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571040"/>
            <a:ext cx="8686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Научная новизна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мотрены особенности  водно-болотных ресурсов Веселовского района- Веселовского водохранилища и озера Маныч-Гудил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комплекс услуг, которые обеспечивают угодья для благосостояния челове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Дана оценка состояния экосистемы по результатам изучения науч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7848720" y="8380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5345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Маныч на горизонте - на трассе перед рекой Западный Маныч"/>
          <p:cNvPicPr/>
          <p:nvPr/>
        </p:nvPicPr>
        <p:blipFill>
          <a:blip r:embed="rId3"/>
          <a:stretch/>
        </p:blipFill>
        <p:spPr>
          <a:xfrm>
            <a:off x="3808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lick to Clo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371600"/>
            <a:ext cx="4152960" cy="308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Маныч"/>
          <p:cNvPicPr/>
          <p:nvPr/>
        </p:nvPicPr>
        <p:blipFill>
          <a:blip r:embed="rId6"/>
          <a:stretch/>
        </p:blipFill>
        <p:spPr>
          <a:xfrm>
            <a:off x="609480" y="480060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523880" y="1600200"/>
            <a:ext cx="4448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веселовский райо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63868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хран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868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Вид на остров Жеребков с кургана Грековой Балки."/>
          <p:cNvPicPr/>
          <p:nvPr/>
        </p:nvPicPr>
        <p:blipFill>
          <a:blip r:embed="rId1"/>
          <a:stretch/>
        </p:blipFill>
        <p:spPr>
          <a:xfrm>
            <a:off x="762120" y="3809880"/>
            <a:ext cx="3743280" cy="263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384360" cy="38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62320" cy="27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15000" y="2286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и по запросу река маныч рыба фото"/>
          <p:cNvPicPr/>
          <p:nvPr/>
        </p:nvPicPr>
        <p:blipFill>
          <a:blip r:embed="rId5"/>
          <a:stretch/>
        </p:blipFill>
        <p:spPr>
          <a:xfrm>
            <a:off x="3581280" y="2743200"/>
            <a:ext cx="245772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5638680"/>
            <a:ext cx="83059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селовский район расположен на уникальной территории водно-болотных угодий Веселовского водохранилища, которое богато рыбой, дичью, луговыми тра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809880" y="106668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rc_mi" descr=""/>
          <p:cNvPicPr/>
          <p:nvPr/>
        </p:nvPicPr>
        <p:blipFill>
          <a:blip r:embed="rId2"/>
          <a:stretch/>
        </p:blipFill>
        <p:spPr>
          <a:xfrm>
            <a:off x="2438280" y="4572000"/>
            <a:ext cx="3353040" cy="201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914400"/>
            <a:ext cx="75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дно-болотные угодья — это районы болот, торфяных угодий или водоёмов — естественных или искусственных, постоянных или временных, стоячих или проточных, пресных, солоноватых или солёных, включая морские акватории, глубина которых при отливе не превышает шести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0" y="228600"/>
            <a:ext cx="3666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ределение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345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9520" y="533520"/>
            <a:ext cx="3124080" cy="990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но-болотные угод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057400"/>
            <a:ext cx="2590920" cy="1143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590920"/>
            <a:ext cx="2590920" cy="9144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286000"/>
            <a:ext cx="2057400" cy="99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ук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828800" y="1447920"/>
            <a:ext cx="1295280" cy="4572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600200"/>
            <a:ext cx="0" cy="83808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1447920"/>
            <a:ext cx="1143000" cy="60948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rc_mi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1244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Озеро Маныч-Гудило. Кроншнепы. Фотографии."/>
          <p:cNvPicPr/>
          <p:nvPr/>
        </p:nvPicPr>
        <p:blipFill>
          <a:blip r:embed="rId2"/>
          <a:stretch/>
        </p:blipFill>
        <p:spPr>
          <a:xfrm>
            <a:off x="5029200" y="380988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61048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5:02:23Z</dcterms:created>
  <dc:creator>1</dc:creator>
  <dc:description/>
  <dc:language>en-US</dc:language>
  <cp:lastModifiedBy>1</cp:lastModifiedBy>
  <dcterms:modified xsi:type="dcterms:W3CDTF">2016-12-30T15:51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