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F97B-278F-4E13-91B6-6D812ACF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1F9F-289C-4AC6-8616-84EE66D5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2D30-2191-40D8-8C91-5F0AF973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090B-6605-45FC-9D51-7E518F6F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7690-182F-4E54-A7EF-32342BD0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71A-7455-4881-BECB-78365BE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5C20-1CC6-4087-AE09-7F4696E4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6151-C547-49BC-9C5C-F83009BE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AD22-C3BD-4670-B781-FA7C15F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D463-1E40-48A4-9CF4-B9A63F5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58D-7A8F-4E66-A207-C417739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B6F4-99FF-42AE-8B22-05D67BB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111F-8419-4684-9FAA-95F76039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6985-91D3-4996-B39A-4E92D21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10E-C8D2-4BC0-AAD2-08206B4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CB3-278B-451F-8F9B-9211B016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899-A3EA-47C2-93F2-4243178F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EF56-21F9-4B50-9680-452C5AE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93BE-1A5A-4686-B574-A45ADC5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1974-5B09-451B-B29C-0B29F1B4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D44C-09A4-45F0-9D88-46562EA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060D-8A09-4577-B6F6-A9438B5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A966-7DAB-4314-9BDB-6ADC63A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E9610-F291-4F0A-8528-3DE2A18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3AE-A1A1-4C42-A384-92D6876CC8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B21-8B29-47D6-B1AA-86A6915D0A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Georgia"/>
              </a:rPr>
              <a:t>КУБАНСКИЙ  КАЗАЧИЙ  ХОР – ПРОСЛАВЛЕННЫЙ ТВОРЧЕСКИЙ  КОЛЛЕКТИВ  КУБАН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вучит «Песенная симфония»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чит песня Виктора Захарченко на стихи А.Толстого «Ой, стога-стог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истка – засл. артистка Кубани  Марина Гольч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атолий Лизвин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лист хора, на протяжении многих лет исполнитель любимых зрителями кубанских пес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527200"/>
            <a:ext cx="44751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Юбилейные концерты хо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меновались премьерами сразу нескольких вокальных и хореографических композиций, среди которых – «Хуторская поль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82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ужская группа хо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ле памятника казаку у здания администрации Краснодарского кр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 юбилеем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3311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 195-летием коллектив поздравил Президент Российской Федерации Владимир Владимирович Пу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51847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ногая лета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лаем Кубанскому казачьему хору и его замечательному художественному руководителю В.Г.Захарченко новых успехов, творческих удач и достижений в развитии хорового искусств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435400"/>
            <a:ext cx="43308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811 год – год основания хор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2007 году  Кубанский казачий хор отметил 195-летие со дня своего осн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48974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811 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атель хора – протоиерей Кирилл Росс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4038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ьются песни над Кубанью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убанский казачий хор сегодня – это коллектив, известный во всем ми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390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 традициях предков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26528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аж, море эмоций, настоящая мужская сила – в хореографической композиции  «Ковал кузнец казачью шашк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24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олоритные  некрасовцы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35640" y="1483920"/>
            <a:ext cx="345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танце  некрасовских казаков воедино слилась танцевальная манера Украины, Кавказа и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4003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иктор Гаврилович Захарч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74 года – бессменный художественный руководитель  Кубанского казачьего х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63720" y="1600200"/>
            <a:ext cx="302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лагословление Патриарх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тейший Патриарх Алекс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благословляет Виктора Захарченко на славное праздн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5-летнего юбилея Кубанского казачьего х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2523960"/>
            <a:ext cx="41148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«Песенная  симфония»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ндиозный хоровой цикл, написанный Виктором  Гавриловичем Захарченко на стихи поэтов-классиков России и Укра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451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9:58:36Z</dcterms:created>
  <dc:creator>Елена Викторовна Покладова</dc:creator>
  <dc:description/>
  <dc:language>en-US</dc:language>
  <cp:lastModifiedBy>Natalia Grig</cp:lastModifiedBy>
  <dcterms:modified xsi:type="dcterms:W3CDTF">2008-03-17T10:46:36Z</dcterms:modified>
  <cp:revision>14</cp:revision>
  <dc:subject/>
  <dc:title>Виктор Гаврилович Захарченко - </dc:title>
</cp:coreProperties>
</file>