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A134B-5C8B-4769-9FD4-3FCBB807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E9BE0-B7B9-48E5-B8C6-38FD7915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73A6-561D-4F7D-8595-4CCCB937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B35D-EC07-431A-A67F-1BD52791B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1E87-7E31-4DF7-8CD8-872A3914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7F16-5B2E-42E4-B0C8-625262D1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DFDF-E611-4C03-8722-69BD24F3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9B3A-D902-4403-AC58-6D3C0F49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2B01-080B-4FAF-899E-15B016E2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7B50-9836-4C67-9F5E-850F92FC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12C5-BB4D-416E-B4E1-D33269B1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33FC-B713-4DE6-BC35-BEF377D8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B3C5-9188-44B2-8798-6B4AB790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59B4C-4798-46FC-9068-2CE4221A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ADBD-245F-4EBD-B53C-B1691931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0D1C-4ABE-438A-BE9E-9242FF97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A43D-E5AC-4ED8-AA97-A68BC4C2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65B4-DE7A-4DA7-81B4-820FC35A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F120-6C65-4C48-8986-E6532182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BAAE-13B6-422F-801C-044C9D00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BA4D-875B-4B71-ABC5-B674C31A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CDEF2-FC66-484A-8908-094D22AE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6D74F-9907-475A-9E21-F6E67962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0D8E-4288-4914-A6BB-DE6414DF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C14C-5E5C-48EB-BB9B-FA301166128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31E6-47EA-4F20-951B-FE2BA047964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Georgia"/>
              </a:rPr>
              <a:t>КУБАНСКИЙ  КАЗАЧИЙ  ХОР – ПРОСЛАВЛЕННЫЙ ТВОРЧЕСКИЙ  КОЛЛЕКТИВ  КУБАНИ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Звучит «Песенная симфония»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вучит песня Виктора Захарченко на стихи А.Толстого «Ой, стога-стога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истка – засл. артистка Кубани  Марина Гольчен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251784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Анатолий Лизвинский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лист хора, на протяжении многих лет исполнитель любимых зрителями кубанских песе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2527200"/>
            <a:ext cx="4475160" cy="30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Юбилейные концерты хо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знаменовались премьерами сразу нескольких вокальных и хореографических композиций, среди которых – «Хуторская полька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28292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ужская группа хо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зле памятника казаку у здания администрации Краснодарского кр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40384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С юбилеем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33112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о 195-летием коллектив поздравил Президент Российской Федерации Владимир Владимирович Пути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64000" y="1773360"/>
            <a:ext cx="5184720" cy="37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ногая лета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Желаем Кубанскому казачьему хору и его замечательному художественному руководителю В.Г.Захарченко новых успехов, творческих удач и достижений в развитии хорового искусств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2435400"/>
            <a:ext cx="433080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1811 год – год основания хора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353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2007 году  Кубанский казачий хор отметил 195-летие со дня своего осн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48974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1811 г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Основатель хора – протоиерей Кирилл Россинск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530440"/>
            <a:ext cx="40384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Льются песни над Кубанью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Кубанский казачий хор сегодня – это коллектив, известный во всем мир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284720" y="1773360"/>
            <a:ext cx="43909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 традициях предков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4265280"/>
            <a:ext cx="8640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раж, море эмоций, настоящая мужская сила – в хореографической композиции  «Ковал кузнец казачью шашку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12460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Колоритные  некрасовцы…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435640" y="1483920"/>
            <a:ext cx="3457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танце  некрасовских казаков воедино слилась танцевальная манера Украины, Кавказа и Росс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540036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Виктор Гаврилович Захарченко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1974 года – бессменный художественный руководитель  Кубанского казачьего х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963720" y="1600200"/>
            <a:ext cx="30258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Благословление Патриарх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ятейший Патриарх Алекси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благословляет Виктора Захарченко на славное праздно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95-летнего юбилея Кубанского казачьего хо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" y="2523960"/>
            <a:ext cx="4114800" cy="30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«Песенная  симфония» -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рандиозный хоровой цикл, написанный Виктором  Гавриловичем Захарченко на стихи поэтов-классиков России и Украин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716360" y="1413000"/>
            <a:ext cx="34513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8T19:58:36Z</dcterms:created>
  <dc:creator>Елена Викторовна Покладова</dc:creator>
  <dc:description/>
  <dc:language>en-US</dc:language>
  <cp:lastModifiedBy>Natalia Grig</cp:lastModifiedBy>
  <dcterms:modified xsi:type="dcterms:W3CDTF">2008-03-17T10:46:36Z</dcterms:modified>
  <cp:revision>14</cp:revision>
  <dc:subject/>
  <dc:title>Виктор Гаврилович Захарченко - </dc:title>
</cp:coreProperties>
</file>