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C30-FEE8-401C-B1D1-D6AF0E89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745-DFA5-4711-908F-AFB07D89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780-5AEC-4BAE-9FF7-FFFA2C8D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85A-4D4B-4728-9226-8CDF1EF2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FE1A-55DD-4B59-9950-49354DED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819A-ED6A-4A59-95B9-D9D3CA6D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C703-CCA8-40BE-A6BE-5268B1F4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DA66-E691-46D2-A7BB-EAAAAED1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A1B8-83DE-4CDB-8B75-199D063F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F634-14DB-41C2-834E-E9969A6E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9571-5BD8-4A67-87C8-C4A32C5C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D4E-E1DF-4FB4-855D-A7F359C5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A4CD-E22B-4D46-BA65-8CC7C9EE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D100-C460-4E20-AA03-905E9F08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3268-F3B9-4550-AAF2-DF460C40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F573-7472-4A96-9D8C-9757C4D1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8797-D4FF-4FA1-8D88-CE913B94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CBE-0FBB-4A13-8C23-8AC34010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A9F-FF16-496C-B221-F04F9B8A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C0C-B59A-4D5C-AB20-576AD9F6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456-6C15-44B5-992B-9CFCC518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611-D4ED-4D64-A63A-25DFBFAD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4D3-FF7B-40B7-968D-E8936B28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5BC-E2A3-4084-93A2-C92B70E2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40B7-5662-41E8-86F0-DD89A1CDA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5748-A336-4F2B-BEAC-4C11806C4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404640"/>
            <a:ext cx="77040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РРЕКЦИОННАЯ РАБОТА ПО ФОРМИРОВАНИЮ ПРОСТРАНСТВЕННЫХ ПРЕДСТАВЛЕНИЙ И СЕНСОМОТОРНЫХ СПОСОБНОСТЕЙ ДЕТЕЙ С ОВЗ С ИСПОЛЬЗОВАНИЕМ МЕТОДИЧЕСКОГО КОМПЛЕКТА «ДАРЫ ФРЁБЕЛ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680" y="5661000"/>
            <a:ext cx="29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дготовле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учителем-дефектол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Ефремовой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188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сходя из их предназначения можно выявить несколько определенных концепций общего развития детей на раннем эта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80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цепция творчества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. Главная цель состоит в том, чтобы дети естественным путем приобщились к процессу работы с материалами и приобрели навыки различных комбин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7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цепция эквивалентности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. Самая важная составляющая реагирования по отношению к предмету — это понимание его характеристик без влияния внешних видимых изменений. Материалы Фребеля могут развивать эту концепцию посредством реального дейст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52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цепция логических способностей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. Логические способности и умение делать выводы необходимо формировать на начальных стадиях развития. Материалы Фребеля помогут детям развить эту способность на прак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644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цепция правил и порядка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. Вынимая материалы из ящиков и убирая их обратно, дети приучаются к организации и порядку. Более того, демонстрация всех форм требует, чтобы дети сосредоточились на правилах сим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0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цепция форм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. После того, как дети познакомятся с формами куба и ромба, им будет проще понять такие формы, которые могут быть преобразованы одна в другую (например, из двух квадратов можно сложить прямоугольник), а также какова их общая площа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667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звитие социальных и коммуникативных способностей.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Образовательные материалы помогут детям понять значение части и целого, индивидуальности и взаимодействия — следовательно, в дальнейшем дети будут лучше понимать правила и законы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25848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РИДРИХ ФРЕБЕЛЬ МЕЧТАЛ РЕФОРМИРОВАТЬ СИСТЕМУ ВОСПИТАНИ МАЛЕНЬКИХ ДЕТЕЙ В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4502160"/>
            <a:ext cx="8410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етский сад должен был не освободить матерей от тягот воспитания, а, наоборот, помочь им стать настоящими, правильными воспитателями. Фребель считал, что для наилучшего результата требуется воспитательское партнерство родителей и воспитателей. Детский сад был призван предоставить родителям широкое поле для содействия, в качестве места встреч, где родители и дети могли бы глубже познавать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Пример изображения"/>
          <p:cNvPicPr/>
          <p:nvPr/>
        </p:nvPicPr>
        <p:blipFill>
          <a:blip r:embed="rId2"/>
          <a:stretch/>
        </p:blipFill>
        <p:spPr>
          <a:xfrm>
            <a:off x="2195640" y="1484280"/>
            <a:ext cx="4608360" cy="3008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6920" y="3314160"/>
            <a:ext cx="757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громную роль в воспитании детей Фребель отводил именно матери: «Хорошая связь “мать — дитя” — ключ к гармоничному развитию». Фребель всегда подчеркивал необходимость сильной эмоциональной связи матери и ребенка, как основы любого воспитания. Забота и игра необходимы. Ребенок нуждается в любви, помощи и внимании взрослого, ОСОБЕННО МАМ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40000" y="260280"/>
            <a:ext cx="4464000" cy="297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http://sir35.ru/images/stories/Karla/4.jpg"/>
          <p:cNvPicPr/>
          <p:nvPr/>
        </p:nvPicPr>
        <p:blipFill>
          <a:blip r:embed="rId2"/>
          <a:stretch/>
        </p:blipFill>
        <p:spPr>
          <a:xfrm>
            <a:off x="250920" y="1341360"/>
            <a:ext cx="3397320" cy="466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75200" y="333000"/>
            <a:ext cx="45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Фридрих Вильгельм Август Фрёб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1782 – 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263628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Известен как: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создатель первого детского сада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126828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сле окончания Йенского и Берлинского университетов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Фребель стал учителем естественных наук в образцовой школ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г. Франкфурт-на-Майне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342864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Целостная педагогика Фридриха Фребел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-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это способствование развитию гармонии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4292640"/>
            <a:ext cx="529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. Фребель сформулировал 3 закона восп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1. Самораскрытие божественного начала в душ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2. Поступательное развити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3. Закон природосообраз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50520" y="6236640"/>
            <a:ext cx="64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ля развития ребенка Фребель предложил 6 «дар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80000" y="893880"/>
            <a:ext cx="53640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Мячи должны быть небольшие, мягкие, связанные из шерсти, окрашенные в различные цвета: красный, оранжевый, зеленый, синий, фиолетовый (т. е. цвета радуги) и белый. Каждый шар — мяч на ниточке. Развиваются умения различать цвета, ребенок знакомится с пространственными отношениями, утверждениями и отрицаниями, геометрическими фигурами. Фребель считал шар «единством в единстве», шар — символ движения, шар — символ бесконе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3456000" cy="2985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60000" y="40464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РВЫЙ ДАР - 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00" y="549360"/>
            <a:ext cx="3429000" cy="2343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64000" y="1521360"/>
            <a:ext cx="52927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 их помощью ребенок знакомится с разными формами предметов. Кубик своей формой и устойчивостью является противоположностью ш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р рассматривается Фребелем как символ движения, кубик же — как символ покоя и символ «единства в многообразии» (куб един, но вид его различен в зависимости от того, как он представлен взору: ребром, стороной или вершиной). Цилиндр совмещает и свойства шара, и свойства кубика: он устойчив, если поставлен на основание, и подвижен, если полож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* диаметр шара, основание цилиндра и сторона кубика один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ТОРОЙ ДАР - НЕБОЛЬШИЕ ДЕРЕВЯ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ШАР, КУБИК, ЦИЛИНДР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4" descr="Пример изображения"/>
          <p:cNvPicPr/>
          <p:nvPr/>
        </p:nvPicPr>
        <p:blipFill>
          <a:blip r:embed="rId2"/>
          <a:stretch/>
        </p:blipFill>
        <p:spPr>
          <a:xfrm>
            <a:off x="539640" y="1773360"/>
            <a:ext cx="2919600" cy="4105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4078080"/>
            <a:ext cx="741708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средством этого дара, ребенок, получает представление о целом и составляющих его частях («ложное единство», «единство и многообразие»); с его помощью он имеет возможность развивать свое творчество, строить из кубиков, различно их комбиниру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РЕТИЙ ДАР — КУ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РАЗДЕЛЕННЫЙ НА ВОСЕМЬ КУБИКОВ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Пример изображения"/>
          <p:cNvPicPr/>
          <p:nvPr/>
        </p:nvPicPr>
        <p:blipFill>
          <a:blip r:embed="rId2"/>
          <a:stretch/>
        </p:blipFill>
        <p:spPr>
          <a:xfrm>
            <a:off x="250920" y="1484280"/>
            <a:ext cx="5616360" cy="221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227640" y="1773360"/>
            <a:ext cx="24498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* куб разрезан пополам, каждая половина — на четыр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4264560"/>
            <a:ext cx="7985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озможность строительных комбинаций в данном случае значительно расширяется: с прибавлением каждого нового дара прежние, с которыми ребенок уже освоился, не изымаю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189000"/>
            <a:ext cx="54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ЧЕТВЕРТЫЙ ДАР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УБИК, РАЗДЕЛЕННЫЙ НА ВОСЕМЬ ПЛИТОК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Пример изображения"/>
          <p:cNvPicPr/>
          <p:nvPr/>
        </p:nvPicPr>
        <p:blipFill>
          <a:blip r:embed="rId2"/>
          <a:stretch/>
        </p:blipFill>
        <p:spPr>
          <a:xfrm>
            <a:off x="324000" y="1484280"/>
            <a:ext cx="5400360" cy="2487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867280" y="1484280"/>
            <a:ext cx="30132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* кубик делится пополам, а каждая половина — на четыре удлиненные плитки; длина каждой плитки равна стороне кубика, толщина равна одной четвертой этой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4868280"/>
            <a:ext cx="32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* девять из них разделены на более мелки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260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ЯТЫЙ ДАР — КУБ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РАЗДЕЛЕННЫЙ НА 27 МАЛЕНЬКИХ КУБИКОВ *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ШЕСТОЙ ДАР — КУБ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РАЗДЕЛЕННЫЙ ТОЖЕ НА 27 КУБИКОВ 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4868640"/>
            <a:ext cx="40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** многие из которых разделены еще на две части: на плитки, по диагонали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60778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следние два дара дают большое разнообразие самых различ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еометрических форм, необходимых для строительных игр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Пример изображения"/>
          <p:cNvPicPr/>
          <p:nvPr/>
        </p:nvPicPr>
        <p:blipFill>
          <a:blip r:embed="rId2"/>
          <a:stretch/>
        </p:blipFill>
        <p:spPr>
          <a:xfrm>
            <a:off x="1403280" y="2276640"/>
            <a:ext cx="6121440" cy="252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4581360"/>
            <a:ext cx="8659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спользование данного пособия помогает развитию у детей строительных навыков и одновременно создает у них представление о форме, величине, пространственных отношениях, числах. Кроме приведенных шести даров Фребель предлагал впоследствии давать детям дополнительный строительный материал (арки и т. д.), а также рекомендовал проводить с ними занятия лепкой, рисованием, игры-занятия с палочками, плетение и 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4824360" cy="3627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 «дарами» можно начинать играть с самого ранне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02080" y="837360"/>
            <a:ext cx="384192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ебель верил, что все эти игровые материалы наиболее эффективны в начальном воспитании детей и в то же время развивают их внутренние потребности. Первоначально он разработал только несколько видов образовательных материалов, позднее их количество возросло до 20. Сегодня на рынке детских пособий обычно встречается четырнадцать видов материалов Фребеля с точно такими же образовательными фун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veto.ru/images/catalog/big/4908.jpg"/>
          <p:cNvPicPr/>
          <p:nvPr/>
        </p:nvPicPr>
        <p:blipFill>
          <a:blip r:embed="rId2"/>
          <a:stretch/>
        </p:blipFill>
        <p:spPr>
          <a:xfrm>
            <a:off x="250920" y="189000"/>
            <a:ext cx="5097240" cy="634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8:01Z</dcterms:created>
  <dc:creator>ppsworld.ru</dc:creator>
  <dc:description/>
  <dc:language>en-US</dc:language>
  <cp:lastModifiedBy>User01</cp:lastModifiedBy>
  <dcterms:modified xsi:type="dcterms:W3CDTF">2017-01-01T13:49:41Z</dcterms:modified>
  <cp:revision>18</cp:revision>
  <dc:subject/>
  <dc:title>Слайд 1</dc:title>
</cp:coreProperties>
</file>