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6BD5-9ADA-4EE6-809C-09EBD4E9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BA7-238B-4141-A00B-C989C7C8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3AF-925E-4A66-8F96-1278ECF2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124-74CB-406E-9F41-54FD3DEB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305C-8B0E-407C-A3F8-B0A2D31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89E4-61D0-4661-A8D5-B2B6F8A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4DDE-519F-43C5-AEDA-9B134223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7869-8C2A-4204-9A8C-068128675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EAFD-E197-464F-8B0D-D09D43D4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7A0C-75CA-455A-8AB2-69D4CDCB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2B08-E06C-4753-88A1-19A5ACA0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FC61-3315-48CC-9776-B9F51E90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0F72-10F3-441C-91BA-8E1DED9A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51FE-2B43-4B42-A892-124D3702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7040-0238-430E-AFE6-EB2E6242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5D4D-6DD4-43CF-876B-B52A4001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65B8-CAD7-4758-9946-005F045A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D05C-E84A-4408-A90B-35DB5A9F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84D4-EAC5-4B5C-A58D-CBCC0A16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291-B7ED-4C60-AFFF-B7F7870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8E5C-3B43-42BC-9C05-28CAF2156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1A7-4FAC-4F97-9629-D13126AD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65C-8780-45A8-939A-B5209BE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CCD-2519-401B-9138-FCEF4443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66D1-160A-4065-AC5B-3D7FCA93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1BA-2C6C-4B59-9B7F-D97CE678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4360" y="404640"/>
            <a:ext cx="77040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РРЕКЦИОННАЯ РАБОТА ПО ФОРМИРОВАНИЮ ПРОСТРАНСТВЕННЫХ ПРЕДСТАВЛЕНИЙ И СЕНСОМОТОРНЫХ СПОСОБНОСТЕЙ ДЕТЕЙ С ОВЗ С ИСПОЛЬЗОВАНИЕМ МЕТОДИЧЕСКОГО КОМПЛЕКТА «ДАРЫ ФРЁБЕЛ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680" y="5661000"/>
            <a:ext cx="298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дготовле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учителем-дефектолог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Ефремовой Н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140360" y="3213000"/>
            <a:ext cx="4572000" cy="3394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188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сходя из их предназначения можно выявить несколько определенных концепций общего развития детей на раннем эта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980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творчества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Главная цель состоит в том, чтобы дети естественным путем приобщились к процессу работы с материалами и приобрели навыки различных комбин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77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эквивалентности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Самая важная составляющая реагирования по отношению к предмету — это понимание его характеристик без влияния внешних видимых изменений. Материалы Фребеля могут развивать эту концепцию посредством реального действ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8522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логических способностей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Логические способности и умение делать выводы необходимо формировать на начальных стадиях развития. Материалы Фребеля помогут детям развить эту способность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6446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правил и порядка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Вынимая материалы из ящиков и убирая их обратно, дети приучаются к организации и порядку. Более того, демонстрация всех форм требует, чтобы дети сосредоточились на правилах симмет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450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онцепция форм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. После того, как дети познакомятся с формами куба и ромба, им будет проще понять такие формы, которые могут быть преобразованы одна в другую (например, из двух квадратов можно сложить прямоугольник), а также какова их общая площа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66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Развитие социальных и коммуникативных способностей. 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Образовательные материалы помогут детям понять значение части и целого, индивидуальности и взаимодействия — следовательно, в дальнейшем дети будут лучше понимать правила и законы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258480"/>
            <a:ext cx="79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ИДРИХ ФРЕБЕЛЬ МЕЧТАЛ РЕФОРМИРОВАТЬ СИСТЕМУ ВОСПИТАНИ МАЛЕНЬКИХ ДЕТЕЙ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4502160"/>
            <a:ext cx="8410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етский сад должен был не освободить матерей от тягот воспитания, а, наоборот, помочь им стать настоящими, правильными воспитателями. Фребель считал, что для наилучшего результата требуется воспитательское партнерство родителей и воспитателей. Детский сад был призван предоставить родителям широкое поле для содействия, в качестве места встреч, где родители и дети могли бы глубже познавать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2195640" y="1484280"/>
            <a:ext cx="4608360" cy="3008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6920" y="3314160"/>
            <a:ext cx="757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громную роль в воспитании детей Фребель отводил именно матери: «Хорошая связь “мать — дитя” — ключ к гармоничному развитию». Фребель всегда подчеркивал необходимость сильной эмоциональной связи матери и ребенка, как основы любого воспитания. Забота и игра необходимы. Ребенок нуждается в любви, помощи и внимании взрослого, ОСОБЕННО МАМ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4464000" cy="297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http://sir35.ru/images/stories/Karla/4.jpg"/>
          <p:cNvPicPr/>
          <p:nvPr/>
        </p:nvPicPr>
        <p:blipFill>
          <a:blip r:embed="rId2"/>
          <a:stretch/>
        </p:blipFill>
        <p:spPr>
          <a:xfrm>
            <a:off x="250920" y="1341360"/>
            <a:ext cx="3397320" cy="4664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75200" y="333000"/>
            <a:ext cx="450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Фридрих Вильгельм Август Фрёб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(1782 – 18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51280" y="263628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Известен как:</a:t>
            </a:r>
            <a:br>
              <a:rPr sz="1800"/>
            </a:b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создатель первого детского сада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51280" y="126828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ле окончания Йенского и Берлинского университетов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Фребель стал учителем естественных наук в образцовой школ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е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г. Франкфурт-на-Майне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3428640"/>
            <a:ext cx="52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Целостная педагогика Фридриха Фребеля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это способствование развитию гармонии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4292640"/>
            <a:ext cx="529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. Фребель сформулировал 3 закона воспит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1. Самораскрытие божественного начала в душ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2. Поступательное развитие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3. Закон природосообраз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50520" y="6236640"/>
            <a:ext cx="64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Для развития ребенка Фребель предложил 6 «дар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780000" y="893880"/>
            <a:ext cx="53640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Мячи должны быть небольшие, мягкие, связанные из шерсти, окрашенные в различные цвета: красный, оранжевый, зеленый, синий, фиолетовый (т. е. цвета радуги) и белый. Каждый шар — мяч на ниточке. Развиваются умения различать цвета, ребенок знакомится с пространственными отношениями, утверждениями и отрицаниями, геометрическими фигурами. Фребель считал шар «единством в единстве», шар — символ движения, шар — символ бесконеч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3284640"/>
            <a:ext cx="3456000" cy="2985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60000" y="404640"/>
            <a:ext cx="32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ЫЙ ДАР - МЯ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24000" y="549360"/>
            <a:ext cx="3429000" cy="2343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564000" y="1521360"/>
            <a:ext cx="5292720" cy="51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С их помощью ребенок знакомится с разными формами предметов. Кубик своей формой и устойчивостью является противоположностью ш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Шар рассматривается Фребелем как символ движения, кубик же — как символ покоя и символ «единства в многообразии» (куб един, но вид его различен в зависимости от того, как он представлен взору: ребром, стороной или вершиной). Цилиндр совмещает и свойства шара, и свойства кубика: он устойчив, если поставлен на основание, и подвижен, если положе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диаметр шара, основание цилиндра и сторона кубика одина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ТОРОЙ ДАР - НЕБОЛЬШИЕ ДЕРЕВЯ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ШАР, КУБИК, ЦИЛИНДР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14" descr="Пример изображения"/>
          <p:cNvPicPr/>
          <p:nvPr/>
        </p:nvPicPr>
        <p:blipFill>
          <a:blip r:embed="rId2"/>
          <a:stretch/>
        </p:blipFill>
        <p:spPr>
          <a:xfrm>
            <a:off x="539640" y="1773360"/>
            <a:ext cx="2919600" cy="4105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00000" y="4078080"/>
            <a:ext cx="741708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редством этого дара, ребенок, получает представление о целом и составляющих его частях («ложное единство», «единство и многообразие»); с его помощью он имеет возможность развивать свое творчество, строить из кубиков, различно их комбиниру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1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РЕТИЙ ДАР — КУБ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НА ВОСЕМЬ КУБИКОВ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250920" y="1484280"/>
            <a:ext cx="5616360" cy="2211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227640" y="1773360"/>
            <a:ext cx="244980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куб разрезан пополам, каждая половина — на четыр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4264560"/>
            <a:ext cx="7985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Возможность строительных комбинаций в данном случае значительно расширяется: с прибавлением каждого нового дара прежние, с которыми ребенок уже освоился, не изыма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189000"/>
            <a:ext cx="546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ЧЕТВЕРТЫЙ ДАР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БИК, РАЗДЕЛЕННЫЙ НА ВОСЕМЬ ПЛИТОК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324000" y="1484280"/>
            <a:ext cx="5400360" cy="2487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867280" y="1484280"/>
            <a:ext cx="301320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кубик делится пополам, а каждая половина — на четыре удлиненные плитки; длина каждой плитки равна стороне кубика, толщина равна одной четвертой этой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4360" y="4868280"/>
            <a:ext cx="32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 девять из них разделены на более мелкие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26028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ЯТЫЙ ДАР — КУБ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НА 27 МАЛЕНЬКИХ КУБИКОВ *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ШЕСТОЙ ДАР — КУБ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РАЗДЕЛЕННЫЙ ТОЖЕ НА 27 КУБИКОВ 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4868640"/>
            <a:ext cx="404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** многие из которых разделены еще на две части: на плитки, по диагонали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60778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Последние два дара дают большое разнообразие самых разли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геометрических форм, необходимых для строительных игр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Пример изображения"/>
          <p:cNvPicPr/>
          <p:nvPr/>
        </p:nvPicPr>
        <p:blipFill>
          <a:blip r:embed="rId2"/>
          <a:stretch/>
        </p:blipFill>
        <p:spPr>
          <a:xfrm>
            <a:off x="1403280" y="2276640"/>
            <a:ext cx="6121440" cy="252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0920" y="4581360"/>
            <a:ext cx="8659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спользование данного пособия помогает развитию у детей строительных навыков и одновременно создает у них представление о форме, величине, пространственных отношениях, числах. Кроме приведенных шести даров Фребель предлагал впоследствии давать детям дополнительный строительный материал (арки и т. д.), а также рекомендовал проводить с ними занятия лепкой, рисованием, игры-занятия с палочками, плетение и п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4824360" cy="3627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76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 «дарами» можно начинать играть с самого ранне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02080" y="837360"/>
            <a:ext cx="384192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ебель верил, что все эти игровые материалы наиболее эффективны в начальном воспитании детей и в то же время развивают их внутренние потребности. Первоначально он разработал только несколько видов образовательных материалов, позднее их количество возросло до 20. Сегодня на рынке детских пособий обычно встречается четырнадцать видов материалов Фребеля с точно такими же образовательными функ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veto.ru/images/catalog/big/4908.jpg"/>
          <p:cNvPicPr/>
          <p:nvPr/>
        </p:nvPicPr>
        <p:blipFill>
          <a:blip r:embed="rId2"/>
          <a:stretch/>
        </p:blipFill>
        <p:spPr>
          <a:xfrm>
            <a:off x="250920" y="189000"/>
            <a:ext cx="5097240" cy="63435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01</cp:lastModifiedBy>
  <dcterms:modified xsi:type="dcterms:W3CDTF">2017-01-01T13:49:41Z</dcterms:modified>
  <cp:revision>18</cp:revision>
  <dc:subject/>
  <dc:title>Слайд 1</dc:title>
</cp:coreProperties>
</file>