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F948-D5DA-4895-A387-5B0DFA904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5706-1452-42ED-B81D-8704B71C6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4976-90F7-4F22-9768-811A72B05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7CFF-D053-426D-A3F7-CF91EA5B8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06F66-63D2-423C-9C2F-0AF1A0A6A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F3F63-F8ED-435C-AD44-0C34CBD68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85EF1-A4B6-4AF7-B500-9499F1A22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C0D38-4292-4A4F-8891-5AB444F3E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3DA2D-18D5-465C-A60F-0B093B71E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1E7AF-B222-4F76-AAAF-C5AAD0C1C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7AECD-28DB-446D-839F-AEF76BCE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6328-7386-49E5-89C1-45CFC1599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75A6D-CF95-437B-B569-6537AC75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B5FE9-14BF-49A9-BCCC-258C5A10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2FF56-D762-4CAD-83B8-87663C2DD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3E8BA-0AC3-456E-B113-33E7662D6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938CA-9308-460D-8893-71459B27D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8FB4D-84BA-4D88-8380-5064F862D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A8971-8855-476A-B4DC-AE56C743C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D2CB0-E8CE-43D5-B2AA-B256DB695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6B2AB-408F-41C5-AB15-DAE012031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78E4E-E266-4F07-8CD0-20302E935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F119-147C-4942-82DA-DBA48E3DC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AC215-9041-42F5-9F84-0734C32AA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520D9-E0E4-4059-A48E-AF173860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0A76E-6E36-4E9C-ADCE-13D0A5E4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5A5AD-76A0-443F-A387-6C2C2EC7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EE0AC-92C3-4C7F-B4A8-C75B27A0D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8E206-084D-4B24-B028-7386ED8B8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2E97C-8180-46F7-B8B7-BCD54DE04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3B38F-E058-4F9A-BDFE-FD2D25783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A8219-CD0D-4434-8ED0-8EF104AF4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6D627-9EB9-4D83-BFC6-2ED1F518B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4602-E26C-4375-B1DA-3452C30A7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AB740-29A8-46A6-9FC9-5D1958987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00F59-5DA0-4CEA-8FCF-0448CF638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EDA6D-F83C-47CE-8B33-D4B2D05D7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136DC-F1E6-4DDA-ACB0-EEA32EE5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22350-8221-4F46-8E07-5A4E366B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E726D-3D86-416C-8F65-47C89BD4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084C2-252A-4D25-9D3C-2D719B3C8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AD3EE-B34C-4FCA-9290-E17253D70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8ACEC-54B6-4DEC-932A-19A7AD024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7F99-5BD8-4769-BA1D-62B471980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2161-5F36-482C-ABDA-3693F7E6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B891-4C30-44CE-98F5-81CFB90F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7BC0-A0BA-4DE2-92E2-9FA9D91C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05AD-39C4-46C5-AD0C-E6F5E7E6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33823-8429-4FA2-A804-13FF542B3BB0}" type="slidenum">
              <a:rPr b="0" lang="ru-RU" sz="1000" spc="-1" strike="noStrike">
                <a:solidFill>
                  <a:srgbClr val="9b9a98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Полилиния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Полилиния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0CA5A-C0EE-40E5-857C-18AC8AED199E}" type="slidenum">
              <a:rPr b="0" lang="ru-RU" sz="1000" spc="-1" strike="noStrike">
                <a:solidFill>
                  <a:srgbClr val="9b9a98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" name="Полилиния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" name="Полилиния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4EF85-9FD2-48BF-AF3F-FC6FAD7A4ADD}" type="slidenum">
              <a:rPr b="0" lang="ru-RU" sz="1000" spc="-1" strike="noStrike">
                <a:solidFill>
                  <a:srgbClr val="9b9a98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4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6B680-24BE-4FD0-9488-0E03F80AAAF5}" type="slidenum">
              <a:rPr b="0" lang="ru-RU" sz="1000" spc="-1" strike="noStrike">
                <a:solidFill>
                  <a:srgbClr val="9b9a98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Box 2"/>
          <p:cNvSpPr/>
          <p:nvPr/>
        </p:nvSpPr>
        <p:spPr>
          <a:xfrm>
            <a:off x="3000240" y="4286160"/>
            <a:ext cx="600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entury Schoolbook"/>
              </a:rPr>
              <a:t>Надо, чтобы ум был здравым в теле здоровом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7" name="TextBox 3"/>
          <p:cNvSpPr/>
          <p:nvPr/>
        </p:nvSpPr>
        <p:spPr>
          <a:xfrm>
            <a:off x="7215120" y="5357880"/>
            <a:ext cx="15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entury Schoolbook"/>
              </a:rPr>
              <a:t>Ювенал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78" name="Прямоугольник 4" descr=""/>
          <p:cNvPicPr/>
          <p:nvPr/>
        </p:nvPicPr>
        <p:blipFill>
          <a:blip r:embed="rId1"/>
          <a:stretch/>
        </p:blipFill>
        <p:spPr>
          <a:xfrm>
            <a:off x="633240" y="1444680"/>
            <a:ext cx="7961400" cy="2962080"/>
          </a:xfrm>
          <a:prstGeom prst="rect">
            <a:avLst/>
          </a:prstGeom>
          <a:ln w="0">
            <a:noFill/>
          </a:ln>
        </p:spPr>
      </p:pic>
      <p:sp>
        <p:nvSpPr>
          <p:cNvPr id="179" name="TextBox 5"/>
          <p:cNvSpPr/>
          <p:nvPr/>
        </p:nvSpPr>
        <p:spPr>
          <a:xfrm>
            <a:off x="7306200" y="500040"/>
            <a:ext cx="15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rebuchet MS"/>
              </a:rPr>
              <a:t>25.02.10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Box 4"/>
          <p:cNvSpPr/>
          <p:nvPr/>
        </p:nvSpPr>
        <p:spPr>
          <a:xfrm>
            <a:off x="2020320" y="357120"/>
            <a:ext cx="549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Century Schoolbook"/>
              </a:rPr>
              <a:t>Листок здоровья</a:t>
            </a: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Блок-схема: узел 6"/>
          <p:cNvSpPr/>
          <p:nvPr/>
        </p:nvSpPr>
        <p:spPr>
          <a:xfrm>
            <a:off x="642960" y="1500120"/>
            <a:ext cx="1000080" cy="1000080"/>
          </a:xfrm>
          <a:prstGeom prst="flowChartConnector">
            <a:avLst/>
          </a:prstGeom>
          <a:solidFill>
            <a:srgbClr val="ff00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2" name="Блок-схема: узел 7"/>
          <p:cNvSpPr/>
          <p:nvPr/>
        </p:nvSpPr>
        <p:spPr>
          <a:xfrm>
            <a:off x="642960" y="3071880"/>
            <a:ext cx="1000080" cy="1000080"/>
          </a:xfrm>
          <a:prstGeom prst="flowChartConnector">
            <a:avLst/>
          </a:prstGeom>
          <a:solidFill>
            <a:srgbClr val="ffff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3" name="Блок-схема: узел 8"/>
          <p:cNvSpPr/>
          <p:nvPr/>
        </p:nvSpPr>
        <p:spPr>
          <a:xfrm>
            <a:off x="642960" y="4714920"/>
            <a:ext cx="1000080" cy="1000080"/>
          </a:xfrm>
          <a:prstGeom prst="flowChartConnector">
            <a:avLst/>
          </a:prstGeom>
          <a:solidFill>
            <a:srgbClr val="002f8e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TextBox 9"/>
          <p:cNvSpPr/>
          <p:nvPr/>
        </p:nvSpPr>
        <p:spPr>
          <a:xfrm>
            <a:off x="1878120" y="1714680"/>
            <a:ext cx="66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rebuchet MS"/>
              </a:rPr>
              <a:t>- высокий уровень здоровья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5" name="TextBox 10"/>
          <p:cNvSpPr/>
          <p:nvPr/>
        </p:nvSpPr>
        <p:spPr>
          <a:xfrm>
            <a:off x="1896480" y="3286080"/>
            <a:ext cx="658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rebuchet MS"/>
              </a:rPr>
              <a:t>- средний уровень здоровья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1952640" y="4857840"/>
            <a:ext cx="631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rebuchet MS"/>
              </a:rPr>
              <a:t>- низкий уровень здоровья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2084400" y="1785960"/>
            <a:ext cx="626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Вы не болели в течение учебного   год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8" name="TextBox 13"/>
          <p:cNvSpPr/>
          <p:nvPr/>
        </p:nvSpPr>
        <p:spPr>
          <a:xfrm>
            <a:off x="2127240" y="3357720"/>
            <a:ext cx="623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Вы болели только во время эпидемии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грипп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108880" y="4857840"/>
            <a:ext cx="605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Вы болеете часто во время обычных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        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учебных занятий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dissolv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500"/>
                            </p:stCondLst>
                            <p:childTnLst>
                              <p:par>
                                <p:cTn id="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Box 1"/>
          <p:cNvSpPr/>
          <p:nvPr/>
        </p:nvSpPr>
        <p:spPr>
          <a:xfrm>
            <a:off x="1805040" y="285840"/>
            <a:ext cx="551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Century Schoolbook"/>
              </a:rPr>
              <a:t>Групповая  работа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1" name="Овал 2"/>
          <p:cNvSpPr/>
          <p:nvPr/>
        </p:nvSpPr>
        <p:spPr>
          <a:xfrm>
            <a:off x="714240" y="3500280"/>
            <a:ext cx="3857760" cy="164340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entury Schoolbook"/>
              </a:rPr>
              <a:t>Реклама здоровья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2" name="Овал 3"/>
          <p:cNvSpPr/>
          <p:nvPr/>
        </p:nvSpPr>
        <p:spPr>
          <a:xfrm>
            <a:off x="4500720" y="2357280"/>
            <a:ext cx="3714480" cy="164340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entury Schoolbook"/>
              </a:rPr>
              <a:t>Факторы здоровья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3" name="Овал 4"/>
          <p:cNvSpPr/>
          <p:nvPr/>
        </p:nvSpPr>
        <p:spPr>
          <a:xfrm>
            <a:off x="714240" y="1428840"/>
            <a:ext cx="3929040" cy="164304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entury Schoolbook"/>
              </a:rPr>
              <a:t>Пословицы о здоровье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Овал 5"/>
          <p:cNvSpPr/>
          <p:nvPr/>
        </p:nvSpPr>
        <p:spPr>
          <a:xfrm>
            <a:off x="4143240" y="4643280"/>
            <a:ext cx="4000680" cy="171468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entury Schoolbook"/>
              </a:rPr>
              <a:t>Продолжи стих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Box 3"/>
          <p:cNvSpPr/>
          <p:nvPr/>
        </p:nvSpPr>
        <p:spPr>
          <a:xfrm>
            <a:off x="2020320" y="428760"/>
            <a:ext cx="541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Century Schoolbook"/>
              </a:rPr>
              <a:t>Формула здоровья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96" name="Диаграмма 5" descr=""/>
          <p:cNvPicPr/>
          <p:nvPr/>
        </p:nvPicPr>
        <p:blipFill>
          <a:blip r:embed="rId1"/>
          <a:stretch/>
        </p:blipFill>
        <p:spPr>
          <a:xfrm>
            <a:off x="285840" y="1571760"/>
            <a:ext cx="8501040" cy="50004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Овал 2"/>
          <p:cNvSpPr/>
          <p:nvPr/>
        </p:nvSpPr>
        <p:spPr>
          <a:xfrm>
            <a:off x="142920" y="142920"/>
            <a:ext cx="2357280" cy="1071360"/>
          </a:xfrm>
          <a:prstGeom prst="ellipse">
            <a:avLst/>
          </a:prstGeom>
          <a:solidFill>
            <a:srgbClr val="7030a0"/>
          </a:solidFill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entury Schoolbook"/>
              </a:rPr>
              <a:t>Факторы здоровья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Управляющая кнопка: далее 3"/>
          <p:cNvSpPr/>
          <p:nvPr/>
        </p:nvSpPr>
        <p:spPr>
          <a:xfrm>
            <a:off x="8286840" y="6000840"/>
            <a:ext cx="685800" cy="642960"/>
          </a:xfrm>
          <a:custGeom>
            <a:avLst/>
            <a:gdLst>
              <a:gd name="textAreaLeft" fmla="*/ 41400 w 685800"/>
              <a:gd name="textAreaRight" fmla="*/ 644400 w 68580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3038" h="21600">
                <a:moveTo>
                  <a:pt x="0" y="0"/>
                </a:moveTo>
                <a:lnTo>
                  <a:pt x="23038" y="0"/>
                </a:lnTo>
                <a:lnTo>
                  <a:pt x="23038" y="21600"/>
                </a:lnTo>
                <a:lnTo>
                  <a:pt x="0" y="21600"/>
                </a:lnTo>
                <a:close/>
              </a:path>
              <a:path fill="lightenLess" w="23038" h="21600">
                <a:moveTo>
                  <a:pt x="0" y="0"/>
                </a:moveTo>
                <a:lnTo>
                  <a:pt x="23038" y="0"/>
                </a:lnTo>
                <a:lnTo>
                  <a:pt x="21638" y="1400"/>
                </a:lnTo>
                <a:lnTo>
                  <a:pt x="1400" y="1400"/>
                </a:lnTo>
                <a:close/>
              </a:path>
              <a:path fill="darken" w="23038" h="21600">
                <a:moveTo>
                  <a:pt x="23038" y="0"/>
                </a:moveTo>
                <a:lnTo>
                  <a:pt x="23038" y="21600"/>
                </a:lnTo>
                <a:lnTo>
                  <a:pt x="21638" y="20200"/>
                </a:lnTo>
                <a:lnTo>
                  <a:pt x="21638" y="1400"/>
                </a:lnTo>
                <a:close/>
              </a:path>
              <a:path fill="darkenLess" w="23038" h="21600">
                <a:moveTo>
                  <a:pt x="230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38" y="20200"/>
                </a:lnTo>
                <a:close/>
              </a:path>
              <a:path fill="lighten" w="230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38" h="21600">
                <a:moveTo>
                  <a:pt x="4513" y="3794"/>
                </a:moveTo>
                <a:lnTo>
                  <a:pt x="18526" y="10800"/>
                </a:lnTo>
                <a:lnTo>
                  <a:pt x="4513" y="17806"/>
                </a:lnTo>
                <a:close/>
              </a:path>
            </a:pathLst>
          </a:custGeom>
          <a:solidFill>
            <a:srgbClr val="7030a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9" name="Rectangle 1"/>
          <p:cNvSpPr/>
          <p:nvPr/>
        </p:nvSpPr>
        <p:spPr>
          <a:xfrm>
            <a:off x="357120" y="2787480"/>
            <a:ext cx="371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buClr>
                <a:srgbClr val="00206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entury Schoolbook"/>
                <a:ea typeface="Times New Roman"/>
              </a:rPr>
              <a:t>стресс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0" name="Прямоугольник 4"/>
          <p:cNvSpPr/>
          <p:nvPr/>
        </p:nvSpPr>
        <p:spPr>
          <a:xfrm>
            <a:off x="857160" y="1214280"/>
            <a:ext cx="46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entury Schoolbook"/>
                <a:ea typeface="Times New Roman"/>
              </a:rPr>
              <a:t>занятия спортом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1" name="Прямоугольник 5"/>
          <p:cNvSpPr/>
          <p:nvPr/>
        </p:nvSpPr>
        <p:spPr>
          <a:xfrm>
            <a:off x="785880" y="1714680"/>
            <a:ext cx="589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entury Schoolbook"/>
                <a:ea typeface="Times New Roman"/>
              </a:rPr>
              <a:t>употребление</a:t>
            </a:r>
            <a:r>
              <a:rPr b="1" i="1" lang="ru-RU" sz="2400" spc="-1" strike="noStrike">
                <a:solidFill>
                  <a:srgbClr val="002060"/>
                </a:solidFill>
                <a:latin typeface="Century Schoolbook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Century Schoolbook"/>
                <a:ea typeface="Times New Roman"/>
              </a:rPr>
              <a:t>алкоголя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2" name="Прямоугольник 6"/>
          <p:cNvSpPr/>
          <p:nvPr/>
        </p:nvSpPr>
        <p:spPr>
          <a:xfrm>
            <a:off x="785880" y="2286000"/>
            <a:ext cx="416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entury Schoolbook"/>
                <a:ea typeface="Times New Roman"/>
              </a:rPr>
              <a:t>закаливание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Прямоугольник 7"/>
          <p:cNvSpPr/>
          <p:nvPr/>
        </p:nvSpPr>
        <p:spPr>
          <a:xfrm>
            <a:off x="857160" y="3643200"/>
            <a:ext cx="747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entury Schoolbook"/>
                <a:ea typeface="Times New Roman"/>
              </a:rPr>
              <a:t>дефицит физической активности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Прямоугольник 8"/>
          <p:cNvSpPr/>
          <p:nvPr/>
        </p:nvSpPr>
        <p:spPr>
          <a:xfrm>
            <a:off x="928800" y="4572000"/>
            <a:ext cx="74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entury Schoolbook"/>
                <a:ea typeface="Times New Roman"/>
              </a:rPr>
              <a:t>отказ от вредных привычек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5" name="Прямоугольник 9"/>
          <p:cNvSpPr/>
          <p:nvPr/>
        </p:nvSpPr>
        <p:spPr>
          <a:xfrm>
            <a:off x="928800" y="5929200"/>
            <a:ext cx="31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entury Schoolbook"/>
                <a:ea typeface="Times New Roman"/>
              </a:rPr>
              <a:t>курение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6" name="Прямоугольник 10"/>
          <p:cNvSpPr/>
          <p:nvPr/>
        </p:nvSpPr>
        <p:spPr>
          <a:xfrm>
            <a:off x="928800" y="5500800"/>
            <a:ext cx="44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entury Schoolbook"/>
                <a:ea typeface="Times New Roman"/>
              </a:rPr>
              <a:t>личная гигиена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7" name="Прямоугольник 11"/>
          <p:cNvSpPr/>
          <p:nvPr/>
        </p:nvSpPr>
        <p:spPr>
          <a:xfrm>
            <a:off x="857160" y="4071960"/>
            <a:ext cx="645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entury Schoolbook"/>
                <a:ea typeface="Times New Roman"/>
              </a:rPr>
              <a:t>сбалансированное питание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Прямоугольник 12"/>
          <p:cNvSpPr/>
          <p:nvPr/>
        </p:nvSpPr>
        <p:spPr>
          <a:xfrm>
            <a:off x="928800" y="5072040"/>
            <a:ext cx="618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entury Schoolbook"/>
                <a:ea typeface="Times New Roman"/>
              </a:rPr>
              <a:t>нерациональное питание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Прямоугольник 13"/>
          <p:cNvSpPr/>
          <p:nvPr/>
        </p:nvSpPr>
        <p:spPr>
          <a:xfrm>
            <a:off x="857160" y="3214800"/>
            <a:ext cx="837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entury Schoolbook"/>
                <a:ea typeface="Times New Roman"/>
              </a:rPr>
              <a:t>самообразование</a:t>
            </a:r>
            <a:r>
              <a:rPr b="1" i="1" lang="ru-RU" sz="2400" spc="-1" strike="noStrike">
                <a:solidFill>
                  <a:srgbClr val="002060"/>
                </a:solidFill>
                <a:latin typeface="Century Schoolbook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Century Schoolbook"/>
                <a:ea typeface="Times New Roman"/>
              </a:rPr>
              <a:t>по</a:t>
            </a:r>
            <a:r>
              <a:rPr b="1" i="1" lang="ru-RU" sz="2400" spc="-1" strike="noStrike">
                <a:solidFill>
                  <a:srgbClr val="002060"/>
                </a:solidFill>
                <a:latin typeface="Century Schoolbook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Century Schoolbook"/>
                <a:ea typeface="Times New Roman"/>
              </a:rPr>
              <a:t>культуре</a:t>
            </a:r>
            <a:r>
              <a:rPr b="1" i="1" lang="ru-RU" sz="2400" spc="-1" strike="noStrike">
                <a:solidFill>
                  <a:srgbClr val="002060"/>
                </a:solidFill>
                <a:latin typeface="Century Schoolbook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Century Schoolbook"/>
                <a:ea typeface="Times New Roman"/>
              </a:rPr>
              <a:t>здоровья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dissolv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Прямоугольник 1" descr=""/>
          <p:cNvPicPr/>
          <p:nvPr/>
        </p:nvPicPr>
        <p:blipFill>
          <a:blip r:embed="rId1"/>
          <a:stretch/>
        </p:blipFill>
        <p:spPr>
          <a:xfrm>
            <a:off x="590400" y="1682640"/>
            <a:ext cx="8285400" cy="3559320"/>
          </a:xfrm>
          <a:prstGeom prst="rect">
            <a:avLst/>
          </a:prstGeom>
          <a:ln w="0">
            <a:noFill/>
          </a:ln>
        </p:spPr>
      </p:pic>
      <p:pic>
        <p:nvPicPr>
          <p:cNvPr id="211" name="008 J.Last - The lonely shepherd1.mp3" descr=""/>
          <p:cNvPicPr/>
          <p:nvPr/>
        </p:nvPicPr>
        <p:blipFill>
          <a:blip r:embed="rId2"/>
          <a:stretch/>
        </p:blipFill>
        <p:spPr>
          <a:xfrm>
            <a:off x="571680" y="6286680"/>
            <a:ext cx="357120" cy="3571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" dur="245163" fill="hold"/>
                                        <p:tgtEl>
                                          <p:spTgt spid="2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Овал 2"/>
          <p:cNvSpPr/>
          <p:nvPr/>
        </p:nvSpPr>
        <p:spPr>
          <a:xfrm>
            <a:off x="6143760" y="214200"/>
            <a:ext cx="2643120" cy="1071720"/>
          </a:xfrm>
          <a:prstGeom prst="ellipse">
            <a:avLst/>
          </a:prstGeom>
          <a:solidFill>
            <a:srgbClr val="7030a0"/>
          </a:solidFill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entury Schoolbook"/>
              </a:rPr>
              <a:t>пословицы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TextBox 3"/>
          <p:cNvSpPr/>
          <p:nvPr/>
        </p:nvSpPr>
        <p:spPr>
          <a:xfrm>
            <a:off x="428760" y="1428840"/>
            <a:ext cx="854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ньги потерял – ничего не потерял, время потерял – многое потерял, здоровье потерял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-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4" name="TextBox 4"/>
          <p:cNvSpPr/>
          <p:nvPr/>
        </p:nvSpPr>
        <p:spPr>
          <a:xfrm>
            <a:off x="6217920" y="2214720"/>
            <a:ext cx="275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се потерял.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5" name="TextBox 5"/>
          <p:cNvSpPr/>
          <p:nvPr/>
        </p:nvSpPr>
        <p:spPr>
          <a:xfrm>
            <a:off x="500760" y="2928960"/>
            <a:ext cx="34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здоровом теле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6" name="TextBox 6"/>
          <p:cNvSpPr/>
          <p:nvPr/>
        </p:nvSpPr>
        <p:spPr>
          <a:xfrm>
            <a:off x="3864240" y="2928960"/>
            <a:ext cx="293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доровый дух.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407520" y="3929040"/>
            <a:ext cx="643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ереги платье снову, а здоровье -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8" name="TextBox 8"/>
          <p:cNvSpPr/>
          <p:nvPr/>
        </p:nvSpPr>
        <p:spPr>
          <a:xfrm>
            <a:off x="6713640" y="3929040"/>
            <a:ext cx="17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молоду.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9" name="TextBox 9"/>
          <p:cNvSpPr/>
          <p:nvPr/>
        </p:nvSpPr>
        <p:spPr>
          <a:xfrm>
            <a:off x="5357880" y="42148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0" name="TextBox 10"/>
          <p:cNvSpPr/>
          <p:nvPr/>
        </p:nvSpPr>
        <p:spPr>
          <a:xfrm>
            <a:off x="418320" y="5000760"/>
            <a:ext cx="610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ржи голову в холоде, а ноги -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1" name="TextBox 11"/>
          <p:cNvSpPr/>
          <p:nvPr/>
        </p:nvSpPr>
        <p:spPr>
          <a:xfrm>
            <a:off x="6433560" y="5000760"/>
            <a:ext cx="168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тепле.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2" name="Управляющая кнопка: далее 12"/>
          <p:cNvSpPr/>
          <p:nvPr/>
        </p:nvSpPr>
        <p:spPr>
          <a:xfrm>
            <a:off x="8143920" y="6072120"/>
            <a:ext cx="714240" cy="642960"/>
          </a:xfrm>
          <a:custGeom>
            <a:avLst/>
            <a:gdLst>
              <a:gd name="textAreaLeft" fmla="*/ 41400 w 714240"/>
              <a:gd name="textAreaRight" fmla="*/ 672840 w 71424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3993" h="21600">
                <a:moveTo>
                  <a:pt x="0" y="0"/>
                </a:moveTo>
                <a:lnTo>
                  <a:pt x="23993" y="0"/>
                </a:lnTo>
                <a:lnTo>
                  <a:pt x="23993" y="21600"/>
                </a:lnTo>
                <a:lnTo>
                  <a:pt x="0" y="21600"/>
                </a:lnTo>
                <a:close/>
              </a:path>
              <a:path fill="lightenLess" w="23993" h="21600">
                <a:moveTo>
                  <a:pt x="0" y="0"/>
                </a:moveTo>
                <a:lnTo>
                  <a:pt x="23993" y="0"/>
                </a:lnTo>
                <a:lnTo>
                  <a:pt x="22593" y="1400"/>
                </a:lnTo>
                <a:lnTo>
                  <a:pt x="1400" y="1400"/>
                </a:lnTo>
                <a:close/>
              </a:path>
              <a:path fill="darken" w="23993" h="21600">
                <a:moveTo>
                  <a:pt x="23993" y="0"/>
                </a:moveTo>
                <a:lnTo>
                  <a:pt x="23993" y="21600"/>
                </a:lnTo>
                <a:lnTo>
                  <a:pt x="22593" y="20200"/>
                </a:lnTo>
                <a:lnTo>
                  <a:pt x="22593" y="1400"/>
                </a:lnTo>
                <a:close/>
              </a:path>
              <a:path fill="darkenLess" w="23993" h="21600">
                <a:moveTo>
                  <a:pt x="23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3" y="20200"/>
                </a:lnTo>
                <a:close/>
              </a:path>
              <a:path fill="lighten" w="23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3" h="21600">
                <a:moveTo>
                  <a:pt x="4990" y="3794"/>
                </a:moveTo>
                <a:lnTo>
                  <a:pt x="19003" y="10800"/>
                </a:lnTo>
                <a:lnTo>
                  <a:pt x="4990" y="17806"/>
                </a:lnTo>
                <a:close/>
              </a:path>
            </a:pathLst>
          </a:custGeom>
          <a:solidFill>
            <a:srgbClr val="7030a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80"/>
                            </p:stCondLst>
                            <p:childTnLst>
                              <p:par>
                                <p:cTn id="1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20"/>
                            </p:stCondLst>
                            <p:childTnLst>
                              <p:par>
                                <p:cTn id="1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6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Овал 2"/>
          <p:cNvSpPr/>
          <p:nvPr/>
        </p:nvSpPr>
        <p:spPr>
          <a:xfrm>
            <a:off x="6715080" y="142920"/>
            <a:ext cx="2143080" cy="1071360"/>
          </a:xfrm>
          <a:prstGeom prst="ellipse">
            <a:avLst/>
          </a:prstGeom>
          <a:solidFill>
            <a:srgbClr val="7030a0"/>
          </a:solidFill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entury Schoolbook"/>
              </a:rPr>
              <a:t>стихи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4" name="Rectangle 1"/>
          <p:cNvSpPr/>
          <p:nvPr/>
        </p:nvSpPr>
        <p:spPr>
          <a:xfrm>
            <a:off x="714240" y="1218600"/>
            <a:ext cx="72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обы здоровье было в порядке,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 забывайте Вы о  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5" name="TextBox 3"/>
          <p:cNvSpPr/>
          <p:nvPr/>
        </p:nvSpPr>
        <p:spPr>
          <a:xfrm>
            <a:off x="5099400" y="1785960"/>
            <a:ext cx="182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рядке.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6" name="Rectangle 2"/>
          <p:cNvSpPr/>
          <p:nvPr/>
        </p:nvSpPr>
        <p:spPr>
          <a:xfrm>
            <a:off x="714240" y="2933280"/>
            <a:ext cx="700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 детства людям всем твердят: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икотин – смертельный 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7" name="TextBox 5"/>
          <p:cNvSpPr/>
          <p:nvPr/>
        </p:nvSpPr>
        <p:spPr>
          <a:xfrm>
            <a:off x="6220440" y="3429000"/>
            <a:ext cx="82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яд.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857160" y="4647600"/>
            <a:ext cx="657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ыть сутулой не должна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ших школьников  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9" name="TextBox 7"/>
          <p:cNvSpPr/>
          <p:nvPr/>
        </p:nvSpPr>
        <p:spPr>
          <a:xfrm>
            <a:off x="5293800" y="521496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ина.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0" name="Управляющая кнопка: далее 8"/>
          <p:cNvSpPr/>
          <p:nvPr/>
        </p:nvSpPr>
        <p:spPr>
          <a:xfrm>
            <a:off x="8358120" y="5929200"/>
            <a:ext cx="685800" cy="642960"/>
          </a:xfrm>
          <a:custGeom>
            <a:avLst/>
            <a:gdLst>
              <a:gd name="textAreaLeft" fmla="*/ 41400 w 685800"/>
              <a:gd name="textAreaRight" fmla="*/ 644400 w 68580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3038" h="21600">
                <a:moveTo>
                  <a:pt x="0" y="0"/>
                </a:moveTo>
                <a:lnTo>
                  <a:pt x="23038" y="0"/>
                </a:lnTo>
                <a:lnTo>
                  <a:pt x="23038" y="21600"/>
                </a:lnTo>
                <a:lnTo>
                  <a:pt x="0" y="21600"/>
                </a:lnTo>
                <a:close/>
              </a:path>
              <a:path fill="lightenLess" w="23038" h="21600">
                <a:moveTo>
                  <a:pt x="0" y="0"/>
                </a:moveTo>
                <a:lnTo>
                  <a:pt x="23038" y="0"/>
                </a:lnTo>
                <a:lnTo>
                  <a:pt x="21638" y="1400"/>
                </a:lnTo>
                <a:lnTo>
                  <a:pt x="1400" y="1400"/>
                </a:lnTo>
                <a:close/>
              </a:path>
              <a:path fill="darken" w="23038" h="21600">
                <a:moveTo>
                  <a:pt x="23038" y="0"/>
                </a:moveTo>
                <a:lnTo>
                  <a:pt x="23038" y="21600"/>
                </a:lnTo>
                <a:lnTo>
                  <a:pt x="21638" y="20200"/>
                </a:lnTo>
                <a:lnTo>
                  <a:pt x="21638" y="1400"/>
                </a:lnTo>
                <a:close/>
              </a:path>
              <a:path fill="darkenLess" w="23038" h="21600">
                <a:moveTo>
                  <a:pt x="230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38" y="20200"/>
                </a:lnTo>
                <a:close/>
              </a:path>
              <a:path fill="lighten" w="230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38" h="21600">
                <a:moveTo>
                  <a:pt x="4513" y="3794"/>
                </a:moveTo>
                <a:lnTo>
                  <a:pt x="18526" y="10800"/>
                </a:lnTo>
                <a:lnTo>
                  <a:pt x="4513" y="17806"/>
                </a:lnTo>
                <a:close/>
              </a:path>
            </a:pathLst>
          </a:custGeom>
          <a:solidFill>
            <a:srgbClr val="7030a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60"/>
                            </p:stCondLst>
                            <p:childTnLst>
                              <p:par>
                                <p:cTn id="202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60"/>
                            </p:stCondLst>
                            <p:childTnLst>
                              <p:par>
                                <p:cTn id="220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8T18:12:10Z</dcterms:created>
  <dc:creator>Александр</dc:creator>
  <dc:description/>
  <dc:language>en-US</dc:language>
  <cp:lastModifiedBy>КОМП</cp:lastModifiedBy>
  <dcterms:modified xsi:type="dcterms:W3CDTF">2010-02-25T13:35:36Z</dcterms:modified>
  <cp:revision>39</cp:revision>
  <dc:subject/>
  <dc:title>Слайд 1</dc:title>
</cp:coreProperties>
</file>