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ECC-2F01-4D47-BA96-C9ECFEBB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7F6B-9903-4099-9601-BDC9E465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23B-51A5-4740-9621-6D8262E1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55B5-DBA6-4E6C-9971-BC07BD2A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9F648-C1A2-46AF-8F8F-A4920458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BF1D-1382-4A95-BA63-4A49A384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E1C3-7E2A-4F63-B89D-BB1D43C0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AB15-9EDA-46E9-8D8E-9F171EBD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872-E6F5-41F2-B248-DF660CFA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10B1-4F03-4297-B041-FD19CE42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EE4B-74BD-4BFB-BDED-01D1D47A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885-2B1A-4F62-8BAD-3016BB4E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AF91-2EDF-45F6-B36C-A82157CF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5D92-06D1-4A6F-921F-6A5788B1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91FC-DC44-463F-BBB8-429C28C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05DD-771C-4E0A-ACB8-4E4DBB14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1AF8-CD34-4E45-B65E-1B330554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AA61A-016A-406B-8798-9D280B8DC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7475F-3F82-49CE-B25C-C7FED08E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36F04-7A63-490F-9929-D9030E0A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4CF13-7374-4ACE-8BD5-68D5BDF4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DFB9-7542-411E-8AC3-8758F9F2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F993-5698-4AE8-8875-CEE539FF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42D8-2CD8-40C3-90B2-2B15C5BF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2CA6E-B6A7-4B28-84FC-A016E26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3EF4-17AB-41B6-964C-E5DF2EF8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92595-82BD-41CC-A409-3C30A8B9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EDFB1-14B1-43B4-B554-908F482A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916EA-C84B-403F-A0AA-380B664D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6358C-8FB9-4109-9C50-2D4A3220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E189-4546-4278-B4EE-20E94B8D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E1577-038F-4056-9438-ADA6EB6B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1D167-4A17-4029-B808-63A41B19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39A9-CFBD-4DD8-89C5-63BFC1DB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5C3FB-026F-4649-A471-F0EDABB0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AD3DC-149C-4ABA-9403-D54DBE9A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94244-3932-4AFF-B20A-18B476AE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E1FAB-D307-40EC-8632-E4F4F592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C420F-E6C8-428B-9069-3A192BDE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5F625-45C1-4F72-AD28-009252A9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CF48-C0E4-4CC8-B2B3-805A27CB3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E1F63-F5AA-4197-8FB8-34316175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30846-0CF0-447B-A6B0-627EE8914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442-2EBC-418A-8B14-2F64DE99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92C-3905-40E5-B24A-6BB3B957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AFC-64C2-421A-B3F4-21CD64D3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400-3653-4FB6-9415-05C09A63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7CE-EB41-418C-8566-7E118091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F326-668B-434C-85A1-A04D12C18E01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17AA-1281-46EE-9543-4A2E90C2AB32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Полилиния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Полилиния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C837-44EE-4451-95DD-64CBC130BFCA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F3D3-0BAF-410A-A504-518B08AFFCFC}" type="slidenum">
              <a:rPr b="0" lang="ru-RU" sz="1000" spc="-1" strike="noStrike">
                <a:solidFill>
                  <a:srgbClr val="9b9a98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3000240" y="4286160"/>
            <a:ext cx="600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entury Schoolbook"/>
              </a:rPr>
              <a:t>Надо, чтобы ум был здравым в теле здоровом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7215120" y="5357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entury Schoolbook"/>
              </a:rPr>
              <a:t>Ювена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78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1444680"/>
            <a:ext cx="7961400" cy="2962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5"/>
          <p:cNvSpPr/>
          <p:nvPr/>
        </p:nvSpPr>
        <p:spPr>
          <a:xfrm>
            <a:off x="7306200" y="500040"/>
            <a:ext cx="15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rebuchet MS"/>
              </a:rPr>
              <a:t>25.02.10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4"/>
          <p:cNvSpPr/>
          <p:nvPr/>
        </p:nvSpPr>
        <p:spPr>
          <a:xfrm>
            <a:off x="2020320" y="357120"/>
            <a:ext cx="549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entury Schoolbook"/>
              </a:rPr>
              <a:t>Листок здоровья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Блок-схема: узел 6"/>
          <p:cNvSpPr/>
          <p:nvPr/>
        </p:nvSpPr>
        <p:spPr>
          <a:xfrm>
            <a:off x="642960" y="1500120"/>
            <a:ext cx="1000080" cy="100008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Блок-схема: узел 7"/>
          <p:cNvSpPr/>
          <p:nvPr/>
        </p:nvSpPr>
        <p:spPr>
          <a:xfrm>
            <a:off x="642960" y="3071880"/>
            <a:ext cx="1000080" cy="10000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Блок-схема: узел 8"/>
          <p:cNvSpPr/>
          <p:nvPr/>
        </p:nvSpPr>
        <p:spPr>
          <a:xfrm>
            <a:off x="642960" y="4714920"/>
            <a:ext cx="1000080" cy="1000080"/>
          </a:xfrm>
          <a:prstGeom prst="flowChartConnector">
            <a:avLst/>
          </a:prstGeom>
          <a:solidFill>
            <a:srgbClr val="002f8e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1878120" y="1714680"/>
            <a:ext cx="66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- высокий уровень здоровь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1896480" y="3286080"/>
            <a:ext cx="65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- средний уровень здоровь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1952640" y="4857840"/>
            <a:ext cx="63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rebuchet MS"/>
              </a:rPr>
              <a:t>- низкий уровень здоровья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2084400" y="1785960"/>
            <a:ext cx="62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ы не болели в течение учебного   г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TextBox 13"/>
          <p:cNvSpPr/>
          <p:nvPr/>
        </p:nvSpPr>
        <p:spPr>
          <a:xfrm>
            <a:off x="2127240" y="3357720"/>
            <a:ext cx="623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ы болели только во время эпидемии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грипп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108880" y="485784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Вы болеете часто во время обычных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Century Schoolbook"/>
              </a:rPr>
              <a:t>учебных занятий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1805040" y="285840"/>
            <a:ext cx="55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entury Schoolbook"/>
              </a:rPr>
              <a:t>Групповая  работа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Овал 2"/>
          <p:cNvSpPr/>
          <p:nvPr/>
        </p:nvSpPr>
        <p:spPr>
          <a:xfrm>
            <a:off x="714240" y="3500280"/>
            <a:ext cx="3857760" cy="1643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Реклама здоровь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Овал 3"/>
          <p:cNvSpPr/>
          <p:nvPr/>
        </p:nvSpPr>
        <p:spPr>
          <a:xfrm>
            <a:off x="4500720" y="2357280"/>
            <a:ext cx="3714480" cy="164340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Факторы здоровь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Овал 4"/>
          <p:cNvSpPr/>
          <p:nvPr/>
        </p:nvSpPr>
        <p:spPr>
          <a:xfrm>
            <a:off x="714240" y="1428840"/>
            <a:ext cx="3929040" cy="164304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Пословицы о здоровь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Овал 5"/>
          <p:cNvSpPr/>
          <p:nvPr/>
        </p:nvSpPr>
        <p:spPr>
          <a:xfrm>
            <a:off x="4143240" y="4643280"/>
            <a:ext cx="4000680" cy="171468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Продолжи стих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2020320" y="428760"/>
            <a:ext cx="541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entury Schoolbook"/>
              </a:rPr>
              <a:t>Формула здоровья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96" name="Диаграмма 5" descr=""/>
          <p:cNvPicPr/>
          <p:nvPr/>
        </p:nvPicPr>
        <p:blipFill>
          <a:blip r:embed="rId1"/>
          <a:stretch/>
        </p:blipFill>
        <p:spPr>
          <a:xfrm>
            <a:off x="285840" y="1571760"/>
            <a:ext cx="8501040" cy="5000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Овал 2"/>
          <p:cNvSpPr/>
          <p:nvPr/>
        </p:nvSpPr>
        <p:spPr>
          <a:xfrm>
            <a:off x="142920" y="142920"/>
            <a:ext cx="2357280" cy="107136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entury Schoolbook"/>
              </a:rPr>
              <a:t>Факторы здоровь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Управляющая кнопка: далее 3"/>
          <p:cNvSpPr/>
          <p:nvPr/>
        </p:nvSpPr>
        <p:spPr>
          <a:xfrm>
            <a:off x="8286840" y="6000840"/>
            <a:ext cx="685800" cy="642960"/>
          </a:xfrm>
          <a:custGeom>
            <a:avLst/>
            <a:gdLst>
              <a:gd name="textAreaLeft" fmla="*/ 41400 w 685800"/>
              <a:gd name="textAreaRight" fmla="*/ 644400 w 685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038" h="21600">
                <a:moveTo>
                  <a:pt x="0" y="0"/>
                </a:moveTo>
                <a:lnTo>
                  <a:pt x="23038" y="0"/>
                </a:lnTo>
                <a:lnTo>
                  <a:pt x="23038" y="21600"/>
                </a:lnTo>
                <a:lnTo>
                  <a:pt x="0" y="21600"/>
                </a:lnTo>
                <a:close/>
              </a:path>
              <a:path fill="lightenLess" w="23038" h="21600">
                <a:moveTo>
                  <a:pt x="0" y="0"/>
                </a:moveTo>
                <a:lnTo>
                  <a:pt x="23038" y="0"/>
                </a:lnTo>
                <a:lnTo>
                  <a:pt x="21638" y="1400"/>
                </a:lnTo>
                <a:lnTo>
                  <a:pt x="1400" y="1400"/>
                </a:lnTo>
                <a:close/>
              </a:path>
              <a:path fill="darken" w="23038" h="21600">
                <a:moveTo>
                  <a:pt x="23038" y="0"/>
                </a:moveTo>
                <a:lnTo>
                  <a:pt x="23038" y="21600"/>
                </a:lnTo>
                <a:lnTo>
                  <a:pt x="21638" y="20200"/>
                </a:lnTo>
                <a:lnTo>
                  <a:pt x="21638" y="1400"/>
                </a:lnTo>
                <a:close/>
              </a:path>
              <a:path fill="darkenLess" w="23038" h="21600">
                <a:moveTo>
                  <a:pt x="2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8" y="20200"/>
                </a:lnTo>
                <a:close/>
              </a:path>
              <a:path fill="lighten" w="2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8" h="21600">
                <a:moveTo>
                  <a:pt x="4513" y="3794"/>
                </a:moveTo>
                <a:lnTo>
                  <a:pt x="18526" y="10800"/>
                </a:lnTo>
                <a:lnTo>
                  <a:pt x="4513" y="17806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357120" y="2787480"/>
            <a:ext cx="371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стресс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Прямоугольник 4"/>
          <p:cNvSpPr/>
          <p:nvPr/>
        </p:nvSpPr>
        <p:spPr>
          <a:xfrm>
            <a:off x="857160" y="1214280"/>
            <a:ext cx="46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занятия спортом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Прямоугольник 5"/>
          <p:cNvSpPr/>
          <p:nvPr/>
        </p:nvSpPr>
        <p:spPr>
          <a:xfrm>
            <a:off x="785880" y="1714680"/>
            <a:ext cx="589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употребление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алкогол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Прямоугольник 6"/>
          <p:cNvSpPr/>
          <p:nvPr/>
        </p:nvSpPr>
        <p:spPr>
          <a:xfrm>
            <a:off x="785880" y="2286000"/>
            <a:ext cx="41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закалива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Прямоугольник 7"/>
          <p:cNvSpPr/>
          <p:nvPr/>
        </p:nvSpPr>
        <p:spPr>
          <a:xfrm>
            <a:off x="857160" y="3643200"/>
            <a:ext cx="74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дефицит физической активност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Прямоугольник 8"/>
          <p:cNvSpPr/>
          <p:nvPr/>
        </p:nvSpPr>
        <p:spPr>
          <a:xfrm>
            <a:off x="928800" y="457200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отказ от вредных привычек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928800" y="5929200"/>
            <a:ext cx="31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Прямоугольник 10"/>
          <p:cNvSpPr/>
          <p:nvPr/>
        </p:nvSpPr>
        <p:spPr>
          <a:xfrm>
            <a:off x="928800" y="5500800"/>
            <a:ext cx="44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Прямоугольник 11"/>
          <p:cNvSpPr/>
          <p:nvPr/>
        </p:nvSpPr>
        <p:spPr>
          <a:xfrm>
            <a:off x="857160" y="4071960"/>
            <a:ext cx="645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сбалансированное пита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Прямоугольник 12"/>
          <p:cNvSpPr/>
          <p:nvPr/>
        </p:nvSpPr>
        <p:spPr>
          <a:xfrm>
            <a:off x="928800" y="5072040"/>
            <a:ext cx="61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нерациональное питание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Прямоугольник 13"/>
          <p:cNvSpPr/>
          <p:nvPr/>
        </p:nvSpPr>
        <p:spPr>
          <a:xfrm>
            <a:off x="857160" y="3214800"/>
            <a:ext cx="83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самообразование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по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культуре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  <a:ea typeface="Times New Roman"/>
              </a:rPr>
              <a:t>здоровья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Прямоугольник 1" descr=""/>
          <p:cNvPicPr/>
          <p:nvPr/>
        </p:nvPicPr>
        <p:blipFill>
          <a:blip r:embed="rId1"/>
          <a:stretch/>
        </p:blipFill>
        <p:spPr>
          <a:xfrm>
            <a:off x="590400" y="1682640"/>
            <a:ext cx="8285400" cy="3559320"/>
          </a:xfrm>
          <a:prstGeom prst="rect">
            <a:avLst/>
          </a:prstGeom>
          <a:ln w="0">
            <a:noFill/>
          </a:ln>
        </p:spPr>
      </p:pic>
      <p:pic>
        <p:nvPicPr>
          <p:cNvPr id="211" name="008 J.Last - The lonely shepherd1.mp3" descr=""/>
          <p:cNvPicPr/>
          <p:nvPr/>
        </p:nvPicPr>
        <p:blipFill>
          <a:blip r:embed="rId2"/>
          <a:stretch/>
        </p:blipFill>
        <p:spPr>
          <a:xfrm>
            <a:off x="571680" y="628668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4516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Овал 2"/>
          <p:cNvSpPr/>
          <p:nvPr/>
        </p:nvSpPr>
        <p:spPr>
          <a:xfrm>
            <a:off x="6143760" y="214200"/>
            <a:ext cx="2643120" cy="107172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ff"/>
                </a:solidFill>
                <a:latin typeface="Century Schoolbook"/>
              </a:rPr>
              <a:t>пословицы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428840"/>
            <a:ext cx="85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ьги потерял – ничего не потерял, время потерял – многое потерял, здоровье потерял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-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6217920" y="2214720"/>
            <a:ext cx="27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се потерял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TextBox 5"/>
          <p:cNvSpPr/>
          <p:nvPr/>
        </p:nvSpPr>
        <p:spPr>
          <a:xfrm>
            <a:off x="500760" y="292896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здоровом теле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TextBox 6"/>
          <p:cNvSpPr/>
          <p:nvPr/>
        </p:nvSpPr>
        <p:spPr>
          <a:xfrm>
            <a:off x="3864240" y="2928960"/>
            <a:ext cx="293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оровый дух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07520" y="3929040"/>
            <a:ext cx="64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ереги платье снову, а здоровье -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6713640" y="3929040"/>
            <a:ext cx="174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молоду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5357880" y="42148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418320" y="5000760"/>
            <a:ext cx="610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ржи голову в холоде, а ноги -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6433560" y="5000760"/>
            <a:ext cx="168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тепл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Управляющая кнопка: далее 12"/>
          <p:cNvSpPr/>
          <p:nvPr/>
        </p:nvSpPr>
        <p:spPr>
          <a:xfrm>
            <a:off x="8143920" y="607212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4990" y="3794"/>
                </a:moveTo>
                <a:lnTo>
                  <a:pt x="19003" y="10800"/>
                </a:lnTo>
                <a:lnTo>
                  <a:pt x="4990" y="17806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8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2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6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Овал 2"/>
          <p:cNvSpPr/>
          <p:nvPr/>
        </p:nvSpPr>
        <p:spPr>
          <a:xfrm>
            <a:off x="6715080" y="142920"/>
            <a:ext cx="2143080" cy="1071360"/>
          </a:xfrm>
          <a:prstGeom prst="ellipse">
            <a:avLst/>
          </a:prstGeom>
          <a:solidFill>
            <a:srgbClr val="7030a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entury Schoolbook"/>
              </a:rPr>
              <a:t>стихи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Rectangle 1"/>
          <p:cNvSpPr/>
          <p:nvPr/>
        </p:nvSpPr>
        <p:spPr>
          <a:xfrm>
            <a:off x="714240" y="1218600"/>
            <a:ext cx="72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здоровье было в порядке,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забывайте Вы о 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099400" y="17859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рядке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714240" y="293328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детства людям всем твердят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отин – смертельный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6220440" y="3429000"/>
            <a:ext cx="8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д.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857160" y="4647600"/>
            <a:ext cx="65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ть сутулой не должн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ших школьников 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TextBox 7"/>
          <p:cNvSpPr/>
          <p:nvPr/>
        </p:nvSpPr>
        <p:spPr>
          <a:xfrm>
            <a:off x="5293800" y="5214960"/>
            <a:ext cx="14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ина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Управляющая кнопка: далее 8"/>
          <p:cNvSpPr/>
          <p:nvPr/>
        </p:nvSpPr>
        <p:spPr>
          <a:xfrm>
            <a:off x="8358120" y="5929200"/>
            <a:ext cx="685800" cy="642960"/>
          </a:xfrm>
          <a:custGeom>
            <a:avLst/>
            <a:gdLst>
              <a:gd name="textAreaLeft" fmla="*/ 41400 w 685800"/>
              <a:gd name="textAreaRight" fmla="*/ 644400 w 685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038" h="21600">
                <a:moveTo>
                  <a:pt x="0" y="0"/>
                </a:moveTo>
                <a:lnTo>
                  <a:pt x="23038" y="0"/>
                </a:lnTo>
                <a:lnTo>
                  <a:pt x="23038" y="21600"/>
                </a:lnTo>
                <a:lnTo>
                  <a:pt x="0" y="21600"/>
                </a:lnTo>
                <a:close/>
              </a:path>
              <a:path fill="lightenLess" w="23038" h="21600">
                <a:moveTo>
                  <a:pt x="0" y="0"/>
                </a:moveTo>
                <a:lnTo>
                  <a:pt x="23038" y="0"/>
                </a:lnTo>
                <a:lnTo>
                  <a:pt x="21638" y="1400"/>
                </a:lnTo>
                <a:lnTo>
                  <a:pt x="1400" y="1400"/>
                </a:lnTo>
                <a:close/>
              </a:path>
              <a:path fill="darken" w="23038" h="21600">
                <a:moveTo>
                  <a:pt x="23038" y="0"/>
                </a:moveTo>
                <a:lnTo>
                  <a:pt x="23038" y="21600"/>
                </a:lnTo>
                <a:lnTo>
                  <a:pt x="21638" y="20200"/>
                </a:lnTo>
                <a:lnTo>
                  <a:pt x="21638" y="1400"/>
                </a:lnTo>
                <a:close/>
              </a:path>
              <a:path fill="darkenLess" w="23038" h="21600">
                <a:moveTo>
                  <a:pt x="230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8" y="20200"/>
                </a:lnTo>
                <a:close/>
              </a:path>
              <a:path fill="lighten" w="230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8" h="21600">
                <a:moveTo>
                  <a:pt x="4513" y="3794"/>
                </a:moveTo>
                <a:lnTo>
                  <a:pt x="18526" y="10800"/>
                </a:lnTo>
                <a:lnTo>
                  <a:pt x="4513" y="17806"/>
                </a:lnTo>
                <a:close/>
              </a:path>
            </a:pathLst>
          </a:custGeom>
          <a:solidFill>
            <a:srgbClr val="7030a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60"/>
                            </p:stCondLst>
                            <p:childTnLst>
                              <p:par>
                                <p:cTn id="202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6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8:12:10Z</dcterms:created>
  <dc:creator>Александр</dc:creator>
  <dc:description/>
  <dc:language>en-US</dc:language>
  <cp:lastModifiedBy>КОМП</cp:lastModifiedBy>
  <dcterms:modified xsi:type="dcterms:W3CDTF">2010-02-25T13:35:36Z</dcterms:modified>
  <cp:revision>39</cp:revision>
  <dc:subject/>
  <dc:title>Слайд 1</dc:title>
</cp:coreProperties>
</file>