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7CF-A82F-4EE6-BD2B-29A0DA2FA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CB0B-3025-411C-8F84-6DB1D46E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B6B-8B36-4434-B7AB-C29CFD956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2962-7CDA-46BE-8248-D223FC70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A05DD-0295-4AE1-BD31-988ACDB94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A997-340E-4A16-860D-46841041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B0B-27F9-43EE-88C2-2B4FE2E1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7C889-68DD-4FF0-9A82-BD3AADC4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8123-7870-477B-A67C-21C9C064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E5EB-D660-450D-BE75-CD43A212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4566-AAF7-4C50-A981-71451943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310-E232-44FE-96D2-DFFDE15F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3210-972C-4B75-BDEB-1725D5B8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203C-79B1-4D3E-AA66-EABA0E5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FE58-21B6-42EC-96C8-1B374D72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3439-B91A-4E2F-A44A-629576B1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EDCF-C5D2-4862-B55E-1D8AA030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3E2-7E1A-4576-B6A9-203DA4C2C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B1E-D003-4362-BAA0-D8288362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B2D-BA9F-43B1-A83F-17070658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5C02-EE1F-4157-819C-E81618C5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377-596A-4C69-9242-A2136D6B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B43E-26B7-4E69-8D89-E7EB251C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6A8-FDA6-4F12-A573-D8EE5C7B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64F3-74AF-4443-940D-9AD12BC1A74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8702-3EEC-4C77-B0A4-D70D72CC633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Познавательные универсальные учебные действ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сследовательские  и проектные дей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сихологическое содержание и условия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«Умение выстраивать стратегию поиска решения задач»</a:t>
            </a:r>
            <a:br>
              <a:rPr sz="2400"/>
            </a:b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02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7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реди первых пяти натуральных чисел имеются два неравных чис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акие, что               Найдите эти чи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134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осстановите примеры , считая, что одинаковые буквы обозначают одинаковые цифры, а разные буквы- разные циф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)  б3б    б)  а4а       в) удар    г)   де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76б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33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уда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+дета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300       б084         драка         издели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349360"/>
          <a:ext cx="1440000" cy="5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349360"/>
                    <a:ext cx="14400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Найти правило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выделять закономерность в построении се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.М.Никольский и др. "Математика. 5 класс, №325): учащиеся выполняли задание, в котором требуется найти пропущенны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19640" y="4292640"/>
          <a:ext cx="2376000" cy="1296720"/>
        </p:xfrm>
        <a:graphic>
          <a:graphicData uri="http://schemas.openxmlformats.org/drawingml/2006/table">
            <a:tbl>
              <a:tblPr/>
              <a:tblGrid>
                <a:gridCol w="842760"/>
                <a:gridCol w="811080"/>
                <a:gridCol w="722160"/>
              </a:tblGrid>
              <a:tr h="65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4364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правила, по которым ребята заполнили клетки, и придумайте еще одно решение.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струкц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учащимся предлагается ориентироваться на вопросы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 Опишите последовательность действий для  выведения прави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мещения чисел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 Можно ли сформулировать общее правило для решения такого типа задач?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564000" y="3645000"/>
          <a:ext cx="2087280" cy="1078920"/>
        </p:xfrm>
        <a:graphic>
          <a:graphicData uri="http://schemas.openxmlformats.org/drawingml/2006/table">
            <a:tbl>
              <a:tblPr/>
              <a:tblGrid>
                <a:gridCol w="683640"/>
                <a:gridCol w="701640"/>
                <a:gridCol w="7020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042920" y="3645000"/>
          <a:ext cx="2087280" cy="1078920"/>
        </p:xfrm>
        <a:graphic>
          <a:graphicData uri="http://schemas.openxmlformats.org/drawingml/2006/table">
            <a:tbl>
              <a:tblPr/>
              <a:tblGrid>
                <a:gridCol w="660600"/>
                <a:gridCol w="694440"/>
                <a:gridCol w="732240"/>
              </a:tblGrid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156360" y="3645000"/>
          <a:ext cx="2087280" cy="1080720"/>
        </p:xfrm>
        <a:graphic>
          <a:graphicData uri="http://schemas.openxmlformats.org/drawingml/2006/table">
            <a:tbl>
              <a:tblPr/>
              <a:tblGrid>
                <a:gridCol w="625680"/>
                <a:gridCol w="729360"/>
                <a:gridCol w="732240"/>
              </a:tblGrid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 Ищем информацию</a:t>
            </a:r>
            <a:r>
              <a:rPr b="1" i="1" lang="en-US" sz="3900" spc="-1" strike="noStrike">
                <a:solidFill>
                  <a:srgbClr val="330066"/>
                </a:solidFill>
                <a:latin typeface="Arial"/>
              </a:rPr>
              <a:t>"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формирование умения структурировать текс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(С.М.Никольский и др. "Математика. 5 класс): учащиеся выполняли задание, в котором требуется найти в учебнике, справочной литературе или Интернете ответы на следующие вопросы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26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) Известно, что цифры 0,1,2,3,..., которые мы принимаем в вычислениях, называют арабскими, но придумали их не арабы. Кто придумал эти цифры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Почему цифры 0,1,2,3,..., называют арабскими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№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8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) В какое время жил известный русский учитель Сергей Александрович Рачинский и в какой школе он работал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) На какой известной картине изображен урок С.А.Рачинского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Работа с метафорами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8302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работать с метафор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учащимся предлагается список русских и немецких пословиц. Необходимо установить, какие  пословицы подходят друг другу по смыс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струкц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ногие народы имеют сходные по смыслу пословицы и поговорки. Например, русской пословице " Как волка ни корми, он все в лес смотрит" соответствует   немецкая "Посади лягушку хоть на золотой стул, она все равно опять в лужу прыгнет". В таблице слева даны немецкие пословицы, справа-рус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Иллюстрации пословиц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4" name="img8" descr=""/>
          <p:cNvPicPr/>
          <p:nvPr/>
        </p:nvPicPr>
        <p:blipFill>
          <a:blip r:embed="rId1"/>
          <a:stretch/>
        </p:blipFill>
        <p:spPr>
          <a:xfrm>
            <a:off x="826920" y="1768320"/>
            <a:ext cx="7561440" cy="4276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708360" y="5805360"/>
            <a:ext cx="122400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403280" y="184464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5640" y="191628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43640" y="1916280"/>
            <a:ext cx="122400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g8" descr=""/>
          <p:cNvPicPr/>
          <p:nvPr/>
        </p:nvPicPr>
        <p:blipFill>
          <a:blip r:embed="rId2"/>
          <a:stretch/>
        </p:blipFill>
        <p:spPr>
          <a:xfrm>
            <a:off x="826920" y="1773360"/>
            <a:ext cx="7561440" cy="4276440"/>
          </a:xfrm>
          <a:prstGeom prst="rect">
            <a:avLst/>
          </a:prstGeom>
          <a:ln w="0">
            <a:noFill/>
          </a:ln>
        </p:spPr>
      </p:pic>
      <p:pic>
        <p:nvPicPr>
          <p:cNvPr id="190" name="img8" descr=""/>
          <p:cNvPicPr/>
          <p:nvPr/>
        </p:nvPicPr>
        <p:blipFill>
          <a:blip r:embed="rId3"/>
          <a:stretch/>
        </p:blipFill>
        <p:spPr>
          <a:xfrm>
            <a:off x="826920" y="1773360"/>
            <a:ext cx="756144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Задание " Задаем вопросы"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ормирование умени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ить вопро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писание зад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ащимся предлагается придумать вопросы к квадратному уравнению, например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4=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текстовой задач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у теорем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у учеб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Задание " Жильцы твоего дома"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ормирование умения осуществлять эмпирическое исследование на примере сведений о жильцах, населяющих твой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бор сведений о жильцах  своего дома (подъезда), сколько проживает детей, взрослых, детей дошкольного и школьного возраста, количество женщин и мужчин, работающих и неработающих, пенсионеров и студентов, а также профессии работающих лю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бор вопросов можно продолжить самостоя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754380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66"/>
                </a:solidFill>
                <a:latin typeface="Arial"/>
              </a:rPr>
              <a:t>Общие характеристики исследовательской  и проектной деятельности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ктически значимые цели и задачи исследовательской и проект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руктура проектной и исследователь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мпетенция  в выбранной сфере исследования, творческая активность, собранность, аккуратность, целеустремленность, высокая мотива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66"/>
                </a:solidFill>
                <a:latin typeface="Arial"/>
              </a:rPr>
              <a:t>Этапы исследовательской деятельности</a:t>
            </a: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ановка проблемы, создание проблемной ситуации, обеспечивающей возникновение вопроса, аргументирование актуальности пробл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вижение гипотезы, формулировка  гипотезы и раскрытие замысла исслед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решения проблемы, проведение исследования (проектных работ) с поэтапным контролем и коррекцией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(изложение) результатов исследования или продукта проектных работ, его организации с целью соотнесения с гипотезой, оформление результатов деятельности как конечного продукта, формулирование нового зн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ение и оценка полученных результатов и применение их к новым ситуац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остановка проблемы, создание проблемной ситуации обеспечивающей возникновение вопроса, аргументирование актуальности проблемы.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80755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видеть проблему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ставить вопросы;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выдвигать гипотезы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структурировать тексты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работать с метафорам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умение давать определение понятия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Уровни креативной постановки вопросов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прос                                            Направление вопроса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Куда дальше?                                   Вопрос, ориентированный на будуще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Что правильно, а что нет?              Оценочн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Что было бы, если бы?                   Воображаем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Что я чувствую, что я знаю?          Субъективный во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Почему, кто, как, что делает?        Казуальный   вопр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Кто, как, что, где, когда?                Описательный вопр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Выдвижение гипотезы, формулировка  гипотезы и раскрытие замысла исследован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Планирование исследовательских (проектных) работ и выбор необходимого инструментари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Поиск решения проблемы, проведение исследования (проектных работ) с поэтапным контролем и коррекцие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147160" cy="39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е наблюда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я и навыки проведения экспериментов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умение делать выводы и умозаключе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рганизация наблюдения, планирование и проведение простейших опытов для нахождения необходимой  информации и проверки гипотез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спользование разных источников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бсуждение  и оценка полученных результатов и применение их к новым ситу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470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Представление результатов исследования или продукта проектных работ, его организации с целью соотнесения с гипотезой, оформление результатов деятельности как конечного продукта, формулирование нового знания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349360"/>
            <a:ext cx="785988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мение структурировать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суждение, объяснение, доказательство, защита результатов, подготовка, планирование сообщения о проведении исследования, его результатах и защ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а полученных результатов и применение их к новым ситуа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0066"/>
                </a:solidFill>
                <a:latin typeface="Arial"/>
              </a:rPr>
              <a:t>Формирование отдельных составляющих исследовательской деятельности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Задание «Умение выстраивать стратегию поиска решения задач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формирование умения выдвигать  гипотезы и проверять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писание задан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 квадрат со стороной 5 клеток, в каждую из которых случайным образом вписаны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струкц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чащимся предлагается найти в таблице последовательно все числа от 1 до 25 (кто быстрее?)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15:28:23Z</dcterms:created>
  <dc:creator>User</dc:creator>
  <dc:description/>
  <dc:language>en-US</dc:language>
  <cp:lastModifiedBy>User</cp:lastModifiedBy>
  <dcterms:modified xsi:type="dcterms:W3CDTF">2014-12-28T09:46:17Z</dcterms:modified>
  <cp:revision>10</cp:revision>
  <dc:subject/>
  <dc:title>Познавательные универсальные учебные действия</dc:title>
</cp:coreProperties>
</file>