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3A4C-9924-48C1-B5EE-E3C99A07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00AC-80B8-48E7-BE93-97C8ED30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1E1D-FF23-4FC2-8DFA-958310F2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9B59-858F-4FB7-96C7-987D3D8C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B1AC-6F37-478C-B797-AE4A5CB5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ABF5-3E4B-4AA7-8697-2AD5CBCE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F2AD-ECC9-47AB-BB58-A0D12655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CB3F-0BBE-4247-BC91-D466306D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7022-25FE-4DE3-B07C-ABD3893A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491E-5D34-4623-943E-FE91AA40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07D3-A844-44A3-B67E-6FCAFEF0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50D9-E4B7-4962-BC60-84D95B85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2399-61CF-49C5-B580-E94501ED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ECA1-0956-4EE5-933A-6056798E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B9C1-4B62-46A9-B6A5-EA7DF7A6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70CC-7E67-4727-B29B-48FB6E8F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6F54-00F6-4183-BBE0-3E8610CF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B48C-8B6D-4241-A96D-A182BE91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9AD-9F8A-4AB0-A8BB-A4144FA1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A987-5E1B-4D22-8B5A-E7E8269E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F418-23A8-4C02-8875-78D32C87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77B3-1BEA-4A85-9FF5-46D25952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396-7925-4293-8BE2-873E963B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EC4B-D164-4AFA-B31F-39647BDE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33B3-4DC5-4F5D-B532-E64E298CD01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6E53-C40A-4824-A9AC-F1F5E64980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Познавательные универсальные учебные действи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сследовательские  и проектные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сихологическое содержание и условия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330066"/>
                </a:solidFill>
                <a:latin typeface="Arial"/>
              </a:rPr>
              <a:t>Задание «Умение выстраивать стратегию поиска решения задач»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02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№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17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реди первых пяти натуральных чисел имеются два неравных чис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акие, что               Найдите эти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№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134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Восстановите примеры , считая, что одинаковые буквы обозначают одинаковые цифры, а разные буквы- разные цифр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)  б3б    б)  а4а       в) удар    г)   дета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+76б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+33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+уда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+дета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300       б084         драка         издел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484360" y="2349360"/>
          <a:ext cx="144000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349360"/>
                    <a:ext cx="14400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66"/>
                </a:solidFill>
                <a:latin typeface="Arial"/>
              </a:rPr>
              <a:t>Задание "Найти правило"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формирование умения выделять закономерность в построении с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писание зад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.М.Никольский и др. "Математика. 5 класс, №325): учащиеся выполняли задание, в котором требуется найти пропущенны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419640" y="4292640"/>
          <a:ext cx="2376000" cy="1296720"/>
        </p:xfrm>
        <a:graphic>
          <a:graphicData uri="http://schemas.openxmlformats.org/drawingml/2006/table">
            <a:tbl>
              <a:tblPr/>
              <a:tblGrid>
                <a:gridCol w="842760"/>
                <a:gridCol w="811080"/>
                <a:gridCol w="722160"/>
              </a:tblGrid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34364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правила, по которым ребята заполнили клетки, и придумайте еще одно решение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нстру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учащимся предлагается ориентироваться на вопросы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) Опишите последовательность действий для  выведения прави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ещения чисел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) Можно ли сформулировать общее правило для решения такого типа задач?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564000" y="3645000"/>
          <a:ext cx="2087280" cy="1078920"/>
        </p:xfrm>
        <a:graphic>
          <a:graphicData uri="http://schemas.openxmlformats.org/drawingml/2006/table">
            <a:tbl>
              <a:tblPr/>
              <a:tblGrid>
                <a:gridCol w="683640"/>
                <a:gridCol w="701640"/>
                <a:gridCol w="702000"/>
              </a:tblGrid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042920" y="3645000"/>
          <a:ext cx="2087280" cy="1078920"/>
        </p:xfrm>
        <a:graphic>
          <a:graphicData uri="http://schemas.openxmlformats.org/drawingml/2006/table">
            <a:tbl>
              <a:tblPr/>
              <a:tblGrid>
                <a:gridCol w="660600"/>
                <a:gridCol w="694440"/>
                <a:gridCol w="732240"/>
              </a:tblGrid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6156360" y="3645000"/>
          <a:ext cx="2087280" cy="1080720"/>
        </p:xfrm>
        <a:graphic>
          <a:graphicData uri="http://schemas.openxmlformats.org/drawingml/2006/table">
            <a:tbl>
              <a:tblPr/>
              <a:tblGrid>
                <a:gridCol w="625680"/>
                <a:gridCol w="729360"/>
                <a:gridCol w="732240"/>
              </a:tblGrid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66"/>
                </a:solidFill>
                <a:latin typeface="Arial"/>
              </a:rPr>
              <a:t>Задание " Ищем информацию</a:t>
            </a: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"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формирование умения структурировать текс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Описание задания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С.М.Никольский и др. "Математика. 5 класс): учащиеся выполняли задание, в котором требуется найти в учебнике, справочной литературе или Интернете ответы на следующие вопрос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№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26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а) Известно, что цифры 0,1,2,3,..., которые мы принимаем в вычислениях, называют арабскими, но придумали их не арабы. Кто придумал эти цифры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) Почему цифры 0,1,2,3,..., называют арабскими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№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8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а) В какое время жил известный русский учитель Сергей Александрович Рачинский и в какой школе он работал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) На какой известной картине изображен урок С.А.Рачинского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66"/>
                </a:solidFill>
                <a:latin typeface="Arial"/>
              </a:rPr>
              <a:t>Задание "Работа с метафорами"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302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формирование умения работать с метафо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писание зад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учащимся предлагается список русских и немецких пословиц. Необходимо установить, какие  пословицы подходят друг другу по смыс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струкция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ногие народы имеют сходные по смыслу пословицы и поговорки. Например, русской пословице " Как волка ни корми, он все в лес смотрит" соответствует   немецкая "Посади лягушку хоть на золотой стул, она все равно опять в лужу прыгнет". В таблице слева даны немецкие пословицы, справа-русск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Иллюстрации пословиц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img8" descr=""/>
          <p:cNvPicPr/>
          <p:nvPr/>
        </p:nvPicPr>
        <p:blipFill>
          <a:blip r:embed="rId1"/>
          <a:stretch/>
        </p:blipFill>
        <p:spPr>
          <a:xfrm>
            <a:off x="826920" y="1768320"/>
            <a:ext cx="7561440" cy="4276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708360" y="5805360"/>
            <a:ext cx="122400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03280" y="1844640"/>
            <a:ext cx="1224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95640" y="1916280"/>
            <a:ext cx="1224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43640" y="1916280"/>
            <a:ext cx="1224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img8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7561440" cy="4276440"/>
          </a:xfrm>
          <a:prstGeom prst="rect">
            <a:avLst/>
          </a:prstGeom>
          <a:ln w="0">
            <a:noFill/>
          </a:ln>
        </p:spPr>
      </p:pic>
      <p:pic>
        <p:nvPicPr>
          <p:cNvPr id="190" name="img8" descr=""/>
          <p:cNvPicPr/>
          <p:nvPr/>
        </p:nvPicPr>
        <p:blipFill>
          <a:blip r:embed="rId3"/>
          <a:stretch/>
        </p:blipFill>
        <p:spPr>
          <a:xfrm>
            <a:off x="826920" y="1773360"/>
            <a:ext cx="756144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66"/>
                </a:solidFill>
                <a:latin typeface="Arial"/>
              </a:rPr>
              <a:t>Задание " Задаем вопросы"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ормирование умени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ить 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писание задан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чащимся предлагается придумать вопросы к квадратному уравнению, например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4=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ть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текстовой задач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у теоре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у учеб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Задание " Жильцы твоего дома"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формирование умения осуществлять эмпирическое исследование на примере сведений о жильцах, населяющих твой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писание задания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бор сведений о жильцах  своего дома (подъезда), сколько проживает детей, взрослых, детей дошкольного и школьного возраста, количество женщин и мужчин, работающих и неработающих, пенсионеров и студентов, а также профессии работающ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бор вопросов можно продолжить 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754380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Общие характеристики исследовательской  и проектной деятельности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ктически значимые цели и задачи исследовательской и проект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уктура проектной и исследователь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петенция  в выбранной сфере исследования, творческая активность, собранность, аккуратность, целеустремленность, высокая мотив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Этапы исследовательской деятельности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новка проблемы, создание проблемной ситуации, обеспечивающей возникновение вопроса, аргументирование актуальности пробл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вижение гипотезы, формулировка  гипотезы и раскрытие замысла исслед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 исследовательских (проектных) работ и выбор необходимого инструментар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решения проблемы, проведение исследования (проектных работ) с поэтапным контролем и коррекцией результа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(изложение) результатов исследования или продукта проектных работ, его организации с целью соотнесения с гипотезой, оформление результатов деятельности как конечного продукта, формулирование нового зн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ение и оценка полученных результатов и применение их к новым ситуац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Постановка проблемы, создание проблемной ситуации обеспечивающей возникновение вопроса, аргументирование актуальности проблемы.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2491920"/>
            <a:ext cx="80755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мение видеть проблем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мение ставить вопросы;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мение выдвигать гипотезы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мение структурировать текст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мение работать с метафорами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мение давать определение понятия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Уровни креативной постановки вопросов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прос                                            Направление вопроса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Куда дальше?                                   Вопрос, ориентированный на будущ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Что правильно, а что нет?              Оценочный во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Что было бы, если бы?                   Воображаемый во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Что я чувствую, что я знаю?          Субъективный во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Почему, кто, как, что делает?        Казуальный   вопро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Кто, как, что, где, когда?                Описательный вопро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ыдвижение гипотезы, формулировка  гипотезы и раскрытие замысла исследован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ланирование исследовательских (проектных) работ и выбор необходимого инструментар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Поиск решения проблемы, проведение исследования (проектных работ) с поэтапным контролем и коррекцией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14716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мение наблюда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мения и навыки проведения эксперимент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мение делать выводы и умозаключ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рганизация наблюдения, планирование и проведение простейших опытов для нахождения необходимой  информации и проверки гипотез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спользование разных источников информа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суждение  и оценка полученных результатов и применение их к новым ситуация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470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Представление результатов исследования или продукта проектных работ, его организации с целью соотнесения с гипотезой, оформление результатов деятельности как конечного продукта, формулирование нового знания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349360"/>
            <a:ext cx="785988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ие структурировать матери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суждение, объяснение, доказательство, защита результатов, подготовка, планирование сообщения о проведении исследования, его результатах и защи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полученных результатов и применение их к новым ситуа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66"/>
                </a:solidFill>
                <a:latin typeface="Arial"/>
              </a:rPr>
              <a:t>Формирование отдельных составляющих исследовательской деятельности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дание «Умение выстраивать стратегию поиска решения задач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формирование умения выдвигать  гипотезы и проверять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писание задания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ан квадрат со стороной 5 клеток, в каждую из которых случайным образом вписаны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струкция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чащимся предлагается найти в таблице последовательно все числа от 1 до 25 (кто быстрее?)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15:28:23Z</dcterms:created>
  <dc:creator>User</dc:creator>
  <dc:description/>
  <dc:language>en-US</dc:language>
  <cp:lastModifiedBy>User</cp:lastModifiedBy>
  <dcterms:modified xsi:type="dcterms:W3CDTF">2014-12-28T09:46:17Z</dcterms:modified>
  <cp:revision>10</cp:revision>
  <dc:subject/>
  <dc:title>Познавательные универсальные учебные действия</dc:title>
</cp:coreProperties>
</file>