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3867-6286-47A5-A9D7-5D7D8E91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E2DA-9AE0-4506-8C6B-506C2C2D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5D8E-6612-4A62-877F-A1F41016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54B1-3438-4F2F-80F5-9BD6BF79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DB2B-B0D6-4C98-962D-344566FC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5EC7-AA5F-40CB-9C2A-AD140537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675-77E7-4FEA-AE54-FD46052C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C3A-CAEC-4787-BE02-9EF393F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E5F5-CE66-4FC9-9CD9-22A7C9D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6FE-B8A1-43A1-9AA0-8CA6088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D4C-A4AA-4573-BC54-233CFD7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3DB0-6D10-44E8-8AE8-CE107D0C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4EC8-37C6-48F6-AB2D-E27A3AB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83DB-C090-42BE-8B96-692ADBC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6182-24C1-43E9-93FE-95A6ED4B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4312-9165-472F-95B2-610075B9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814B-9B26-4998-9144-DB29BA4C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D897-2C08-4EBE-9980-B30EE60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EABC-73C1-4CED-B648-2C171A35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CC1C-36A3-4A0B-B701-9F0891B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DE51-5082-4E75-9631-65A76BB6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1364-1D81-488C-A247-638EE5A1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B3B8-9C05-4FF6-943C-E9D0C3C2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DF34-E8FD-4EBB-9FC6-226D6BF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996-820B-4C0F-B5DC-4A3B1EB3B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DD4-A488-4A94-8987-60136C8EF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ОДУЛЬ «ГЕОМЕТРИЯ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Э-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араллелограмме АВСД через середину О диагонали ВД перпендикулярно к ней проведена прямая, пересекающая ВС в точке М, а АД – в точке А, ВД=8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=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М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ом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адиус вписанной в этот ромб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ериметр параллелограмма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вносторонний 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вносторонний треугольник со стороной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метр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вписанного к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у вписанной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внобедренны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угольник АВС, АВ=АС=10, ВС=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 угла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, проведенную к боковой ст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ану, проведенную к боковой стор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ямоугольны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угольник АВС, С- прямой угол, АС=8, ВС=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метр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, проведенную к гипотену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ану, проведенную к гипотену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ссектрису большего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СД- параллелограмм, О- точка пересечения диагоналей, АВ=13, АД=14, ВД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параллелограм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А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ы параллелогра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СД- трапеция, АД=16,ВС=2 – основания, АВ=13, СД=15 – боковые стороны, Е – точка пересечения диагон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нюю линию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ВЕС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А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вадрат со стороной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он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описанного к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у вписанной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ез середину О  диагонали АС прямоугольника АВСД проведена прямая, пересекающая стороны ВС и АД в точках Р и К соответ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АРСК – параллел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лощадь АРСК, если АК=4, КД=8 и А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сторонах АВ, ВС, СД и ДА квадрата АВСД выбраны точки Р, 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К такие, что АР=ВЕ=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ДК=1,ЕК=10,ЕК и 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секаются в точке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К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лощадь 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около четырехугольника АРМК можно описать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адиус этой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5:45:15Z</dcterms:created>
  <dc:creator>User</dc:creator>
  <dc:description/>
  <dc:language>en-US</dc:language>
  <cp:lastModifiedBy>User</cp:lastModifiedBy>
  <dcterms:modified xsi:type="dcterms:W3CDTF">2017-01-01T13:58:23Z</dcterms:modified>
  <cp:revision>10</cp:revision>
  <dc:subject/>
  <dc:title>Слайд 1</dc:title>
</cp:coreProperties>
</file>