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BB291-F05B-4009-92B1-D50207C8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87015-F4ED-45BD-BFD9-A249B06E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02F5-4438-49AD-9999-319D07B0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2A37-A363-42DD-AF9F-116079DA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DA0-837C-4101-B88B-74F18367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B14E-9B77-454A-B7A0-0C7362B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CF04-533B-4AFA-930B-D5469465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9DCE-981B-46EF-B582-547E5FB0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68DD-E0D7-4837-953A-D02838EB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9F1D-1C27-4BA5-A2B7-F4FC4F4E6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8C39-F657-4EAF-8D3F-2B3C9D9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2EAA-D2E4-4BD1-8259-A9541709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DB68-26D6-462F-839B-239AB25B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CA4F-FBEB-4043-97B4-0E88579D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3CCC-E40A-4D34-B897-AEB1DF44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093-1C4E-4280-8F43-F8437C55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087D-B12F-4657-B153-047D3946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39593-C369-4436-85CD-B0961906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F894-04A1-4971-89C8-C374BCC84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DF9BA-48D4-40BA-9932-2AF1569E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F592-542E-475E-AA58-E58664B4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63FD7-6AC3-4F69-9624-E16DC495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EE89-B4B5-4BAB-821C-29DF4A5A3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DB13-D570-4993-B1EA-66319FAB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D65C-271F-4BC3-B056-DFC5AD72C9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8665-63A8-42E3-A935-2AC5C83629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МОДУЛЬ «ГЕОМЕТРИЯ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ГЭ-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параллелограмме АВСД через середину О диагонали ВД перпендикулярно к ней проведена прямая, пересекающая ВС в точке М, а АД – в точке А, ВД=8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=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М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ром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адиус вписанной в этот ромб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ериметр параллелограмма АВС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866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вносторонний 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авносторонний треугольник со стороной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метр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вписанного к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у вписанной окруж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внобедренны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угольник АВС, АВ=АС=10, ВС=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д угла 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, проведенную к боковой сторо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ану, проведенную к боковой сторо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рямоугольный 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реугольник АВС, С- прямой угол, АС=8, ВС=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иметр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, проведенную к гипотену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диану, проведенную к гипотенуз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иссектрису большего уг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араллел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СД- параллелограмм, О- точка пересечения диагоналей, АВ=13, АД=14, ВД=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параллелограмм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А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ы параллелограм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СД- трапеция, АД=16,ВС=2 – основания, АВ=13, СД=15 – боковые стороны, Е – точка пересечения диагона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реднюю линию трапе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сот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ВЕС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треугольника А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вадрат со стороной 6 с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иагона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о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описанного круг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диус вписанной окруж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ину вписанной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ез середину О  диагонали АС прямоугольника АВСД проведена прямая, пересекающая стороны ВС и АД в точках Р и К соответ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АРСК – параллелограм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лощадь АРСК, если АК=4, КД=8 и А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ДАЧИ НА ДОКАЗАТЕЛЬ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 сторонах АВ, ВС, СД и ДА квадрата АВСД выбраны точки Р, Е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и К такие, что АР=ВЕ=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=ДК=1,ЕК=10,ЕК и Р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ересекаются в точке 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ЕК перпендикуляр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площадь 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ажите, что около четырехугольника АРМК можно описать окру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ти радиус этой окруж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7T15:45:15Z</dcterms:created>
  <dc:creator>User</dc:creator>
  <dc:description/>
  <dc:language>en-US</dc:language>
  <cp:lastModifiedBy>User</cp:lastModifiedBy>
  <dcterms:modified xsi:type="dcterms:W3CDTF">2017-01-01T13:58:23Z</dcterms:modified>
  <cp:revision>10</cp:revision>
  <dc:subject/>
  <dc:title>Слайд 1</dc:title>
</cp:coreProperties>
</file>