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F424B-528D-476F-8933-1FDBF05D58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D39E-B540-4E78-B457-D24A05A7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CF43F-C1BE-45C5-8967-58F3993A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7A0F-1D0F-407B-89C2-A1C8917FE0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AABAD-FD14-4909-B9BC-5B7A3726D0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9B65F-CCB6-47E0-B196-0EB43779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B86D7-54C0-4B93-9E85-6FCD8081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18332-F579-4261-9CC9-2F28CE46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CDE43-263A-4BCF-8F9F-3E58C6A9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5E0A4-CAA7-4387-B2D5-447E17AA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83683-BA17-4A20-B33E-30800AFA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225F3-82E9-4F32-B689-E46F5920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82A8D-BF29-4A5E-AFD1-2981786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649ED-1693-4582-8B57-CDF676AC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D514A-0CB9-4EB9-99C2-92D5298F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C43D4-9F96-4256-A2E5-A3D6136E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2AA92-1FE8-40A9-98F4-722CD6B86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7C126-F747-4DF3-A2FB-ECCCDBDE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1CE06-C716-4A42-A5EA-F97011D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E797-093B-40B7-B08B-9D4BD7CA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9E7D6-19A7-49A0-A8D5-CEE292DE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306B1-2A82-494B-93FF-05D6CD13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DF33-2659-4DED-AA47-CCD3BAC2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5F7A-6851-4985-8091-D0287FB5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2640" indent="-3326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4C5E9D-AE19-4EB4-9D2D-848347FEA263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5566A23-C857-4460-ADE5-EA3615A61298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ofmp3.ru/index.php/Details/Mihail-Ivanovich-Glinka.html" TargetMode="External"/><Relationship Id="rId3" Type="http://schemas.openxmlformats.org/officeDocument/2006/relationships/hyperlink" Target="http://www.olofmp3.ru/index.php/Details/Mihail-Ivanovich-Glinka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ofmp3.ru/index.php/Details/Petr-Ilyich-Chaikovskii.html" TargetMode="External"/><Relationship Id="rId3" Type="http://schemas.openxmlformats.org/officeDocument/2006/relationships/hyperlink" Target="http://www.olofmp3.ru/index.php/Details/Petr-Ilyich-Chaikovskii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Русские композито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боту выполн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ник 5 «А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ищенков Ден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Михаил Иванович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ГЛИНК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04—185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Чтобы красоту создать, надо самому быть чистым душой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2819520" y="1600200"/>
            <a:ext cx="3200400" cy="376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762120"/>
            <a:ext cx="7391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ихаил Иванович Глинка является основоположником русской классической музыки и первым отечественным композитором-классиком, достигшим мировой сла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бразование получил в Санкт-Петербурге. Формированию мировозрения и основной идеи творчества Михаила Глинки способствовало непосредственное общение с такими личностями, как А.С.Пушкин, В.А.Жуковский, А.С.Грибоедов, А.А.Дельвиг, а также встречи с ведущими композиторами времени - В.Беллини, Г.Доницетти, Ф.Мендельсоном и позже с Г.Берлиозом, Дж.Мейерб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спех пришел к М.И.Глинке после постановки оперы "Иван Сусанин" ("Жизнь за царя") (1836), где органично соединились русское хоровое искусство и европейская симфоническая и оперная практи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торая опера - эпическая "Руслан и Людмила" (1842), работа над которой велась на фоне смерти Пушкина и в тяжелых жизненных условиях композитора, была неоднозначно встречена зрителями и властями и принесла М.И.Глинке тяжелые пережи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его наследии остались романсы, симфонические и камерны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 1990-х годах "Патриотическая песня" Михаила Глинки была официальным гимн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 u="sng">
                <a:solidFill>
                  <a:srgbClr val="0000ff"/>
                </a:solidFill>
                <a:uFillTx/>
                <a:latin typeface="Calibri"/>
              </a:rPr>
              <a:t>Александр Порфирьевич БОРОДИН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33—1887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10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Главные качества его - великанская сила и ширина, колоссальный размах, стремительность и порывистость, соединенная с изумительной страстностью, нежностью и красотой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.В.Ст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048120" y="1447920"/>
            <a:ext cx="304776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838080"/>
            <a:ext cx="7315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.П.Бородин был учёным-химиком, врачом, педагогом, критиком и обладал литературным дарованием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 детства все окружающие отмечали его необычную активность, увлекаемость и способности в различных направлениях, в первую очередь в музыке и химии. Бородин является русским композитором-самородком, у него не было профессиональных учителей-музыкантов, все его достижения в музыке – результат его самосовершенств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 формирование А.П.Бородина влияние оказало творчество М.И.Глинки, а импульсом к плотному занятию композицией стали, во-первых, знакомство и женитьба с талантливой пианисткой Е.С.Протопоповой, во-вторых, встреча с М.А.Балакиревым и вступление в творческое содружество русских композиторов, известного как "Могучая кучк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конце 1870-х и в 1880-х А.П.Бородин много путешествует и гастролирует в Европе и Америке, встречается с передовыми композиторами своего врем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нтральное место в творчестве А.П.Бородина занимает опера "Князь Игорь" (1869-1890), являющаяся образцом национального героического эпоса в музыке и которую он сам не успел закончить (её завершили его друзья А.А.Глазунов и Н.А. Римский-Корсаков). Главная мысль всего творчества композитора - мужество, спокойное величие, душевное благородство лучших русских людей и могучая сила всего русского народа, проявляющаяся при защите род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Пётр Ильич </a:t>
            </a:r>
            <a:r>
              <a:rPr b="0" lang="ru-RU" sz="4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ЧАЙКОВСКИЙ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(1840-189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502920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Большой талант требует большого трудолюби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124080" y="1447920"/>
            <a:ext cx="281952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914400"/>
            <a:ext cx="77724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ётр Ильич Чайковский поднял на небывалую высоту русское музыкальное искус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йковский с детства показал музыкальные способности, один из первых русских композиторов - "профессионалов" - теорию музыки и композицию он изучал в новой Санкт-Петербургской консерватории. Чайковского считали "западным" композитором, в противопоставлении народным деятелям "Могучей кучки", с которыми у него были хорошие творческие и друже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го творчество пронизано русским духом, ему удалось уникально соединить западное симфоническое наследие Моцарта, Бетховена и Шумана с русскими традициями, унаследованными от Михаила Гл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мпозитор был педагогом, дирижёром, критиком, общественным деятелем, работал в двух столицах, гастролировал в Европе и Амер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Чайковского несколько равновеликих произведений почти во всех музыкальных жанрах - опера, балет, симфония, камерная му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держание музыки Чайковского универсально: с неподражаемым мелодизмом она охватывает образы жизни и смерти, любви, природы, дет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