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337C-C2D1-4903-B346-C84F07166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3C7E-A0FF-4C3E-9C20-BFCCB257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83F9-A775-4A3A-AD10-0037E8C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9337-11F7-4738-9527-578FB2BB5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4A08-2F5B-4B63-861D-F37D52419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C9CC3-68ED-4F8F-9F1B-02160FB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E0C90-BAB8-4B89-8688-FA626E1A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7CE56-5B25-4C50-B7F1-00A61DB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40B7A-8F84-4927-AE85-C399E061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DCB7A-5D9A-4B04-9E54-31162232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A52A2-9DAB-4CB8-8A7F-FDD79351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E76B-0EF7-4957-8643-EE5B6043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77D00-7CFA-40F0-8DBF-CE4EC8F5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F0532-E9A6-4DC5-86B9-327E59BC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4293-695D-4865-B6C4-950F7D9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5CFC7-763F-453B-B1DD-109B53B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704A4-2F16-4A53-B206-39E0CF525C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B450-AE32-4819-AA3B-9288AFE7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12DF-AD25-4C2F-BDC4-A0A3DECF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2E3E-F754-4963-9BC1-49128636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24A1-F9AE-48E1-B519-5CA77ACD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FD63-D5BD-4AC1-A40A-95A8B957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EBAA-90ED-4749-ADD5-33B1F7F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6EAB-D5E2-4012-97C3-84FCD8A5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9FCFCC-4770-4124-A522-832576B42B8D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F1CC6E-0810-4392-9F37-640ED33E12AB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ofmp3.ru/index.php/Details/Mihail-Ivanovich-Glinka.html" TargetMode="External"/><Relationship Id="rId3" Type="http://schemas.openxmlformats.org/officeDocument/2006/relationships/hyperlink" Target="http://www.olofmp3.ru/index.php/Details/Mihail-Ivanovich-Glinka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ofmp3.ru/index.php/Details/Petr-Ilyich-Chaikovskii.html" TargetMode="External"/><Relationship Id="rId3" Type="http://schemas.openxmlformats.org/officeDocument/2006/relationships/hyperlink" Target="http://www.olofmp3.ru/index.php/Details/Petr-Ilyich-Chaikovskii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Русские композито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ыпол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щенков Ден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6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Михаил Иванович 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ГЛИН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04—185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Чтобы красоту создать, надо самому быть чистым душой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819520" y="1600200"/>
            <a:ext cx="320040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762120"/>
            <a:ext cx="7391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хаил Иванович Глинка является основоположником русской классической музыки и первым отечественным композитором-классиком, достигшим мировой сла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ние получил в Санкт-Петербурге. Формированию мировозрения и основной идеи творчества Михаила Глинки способствовало непосредственное общение с такими личностями, как А.С.Пушкин, В.А.Жуковский, А.С.Грибоедов, А.А.Дельвиг, а также встречи с ведущими композиторами времени - В.Беллини, Г.Доницетти, Ф.Мендельсоном и позже с Г.Берлиозом, Дж.Мейерб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пех пришел к М.И.Глинке после постановки оперы "Иван Сусанин" ("Жизнь за царя") (1836), где органично соединились русское хоровое искусство и европейская симфоническая и оперная практ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ая опера - эпическая "Руслан и Людмила" (1842), работа над которой велась на фоне смерти Пушкина и в тяжелых жизненных условиях композитора, была неоднозначно встречена зрителями и властями и принесла М.И.Глинке тяжелые пережи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его наследии остались романсы, симфонические и камерны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1990-х годах "Патриотическая песня" Михаила Глинки была официальным гимн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Calibri"/>
              </a:rPr>
              <a:t>Александр Порфирьевич БОРОДИН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33—188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Главные качества его - великанская сила и ширина, колоссальный размах, стремительность и порывистость, соединенная с изумительной страстностью, нежностью и красот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.В.Ст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304776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838080"/>
            <a:ext cx="7315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.П.Бородин был учёным-химиком, врачом, педагогом, критиком и обладал литературным дарованием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детства все окружающие отмечали его необычную активность, увлекаемость и способности в различных направлениях, в первую очередь в музыке и химии. Бородин является русским композитором-самородком, у него не было профессиональных учителей-музыкантов, все его достижения в музыке – результат его самосовершенств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формирование А.П.Бородина влияние оказало творчество М.И.Глинки, а импульсом к плотному занятию композицией стали, во-первых, знакомство и женитьба с талантливой пианисткой Е.С.Протопоповой, во-вторых, встреча с М.А.Балакиревым и вступление в творческое содружество русских композиторов, известного как "Могучая кучк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онце 1870-х и в 1880-х А.П.Бородин много путешествует и гастролирует в Европе и Америке, встречается с передовыми композиторами свое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тральное место в творчестве А.П.Бородина занимает опера "Князь Игорь" (1869-1890), являющаяся образцом национального героического эпоса в музыке и которую он сам не успел закончить (её завершили его друзья А.А.Глазунов и Н.А. Римский-Корсаков). Главная мысль всего творчества композитора - мужество, спокойное величие, душевное благородство лучших русских людей и могучая сила всего русского народа, проявляющаяся при защите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Пётр Ильич 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ЧАЙКОВСКИЙ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40-189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0292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ольшой талант требует большого трудолюб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124080" y="1447920"/>
            <a:ext cx="28195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914400"/>
            <a:ext cx="7772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ётр Ильич Чайковский поднял на небывалую высоту русское музыкальное искус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йковский с детства показал музыкальные способности, один из первых русских композиторов - "профессионалов" - теорию музыки и композицию он изучал в новой Санкт-Петербургской консерватории. Чайковского считали "западным" композитором, в противопоставлении народным деятелям "Могучей кучки", с которыми у него были хорошие творческие и дружес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го творчество пронизано русским духом, ему удалось уникально соединить западное симфоническое наследие Моцарта, Бетховена и Шумана с русскими традициями, унаследованными от Михаила Гл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озитор был педагогом, дирижёром, критиком, общественным деятелем, работал в двух столицах, гастролировал в Европе и Аме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Чайковского несколько равновеликих произведений почти во всех музыкальных жанрах - опера, балет, симфония, камерная му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музыки Чайковского универсально: с неподражаемым мелодизмом она охватывает образы жизни и смерти, любви, природы, дет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