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B072-BB52-4ECD-A435-D905E65C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0ED-8F99-41CE-AD42-803D5B7C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052E-796F-411E-8513-5E1B7715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3BC8-5F21-4A2E-8E25-D105F810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A89A-3AAF-4654-85D3-48A24234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7CE8-E2E6-40AD-9B82-F6B2D290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DD0F-1896-467E-9AA1-470C6046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63A7A-D3EE-419E-9B44-23BEE1F1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B492-4216-45B4-92E6-B9724FC1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09D30-BEB7-472E-9484-1DEC856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B883-2465-438B-895A-22B93ED5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A1FD-C60A-450E-8359-C6E7FC0C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B6AF1-B28B-44EF-97B2-99FE655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748B2-DC25-43BD-AD5C-A886D741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C8BC-8F2F-4457-82D8-4AD28B3C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9684-EE87-4AD5-9903-3D374B15F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F7A1-2442-4239-9CED-DFFF0F824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8F1-D3AC-4858-A3A6-CC9B484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18BD-65AA-4B8F-B44E-1A770A2C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BF4-B59D-43D8-9471-6B16F66A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B4F9-8B4B-4733-B330-1A093391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DDEC-4CD3-4B1E-BA07-5A037A3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DF71-8FA6-487E-8B3F-FFA48D88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285-DC9A-4079-91D4-303DA1B4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FFE1-EE82-4283-A5C3-0508B7E0EF2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1A16-4F14-45D1-BF30-658F0CA069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9" descr="ОБЖ 001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505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6"/>
          <p:cNvSpPr/>
          <p:nvPr/>
        </p:nvSpPr>
        <p:spPr>
          <a:xfrm>
            <a:off x="463680" y="3578040"/>
            <a:ext cx="2963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известные предме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 руки не бер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и коробки, ни в пакет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Даже не смотри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А зови на помощь взрослых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бы выясня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Делать что с такой находк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 же предпринять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ожет быть опасным очен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от такой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пакет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Если ты неосторожен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Жди проблем и бед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17" descr="ОБЖ 003"/>
          <p:cNvPicPr/>
          <p:nvPr/>
        </p:nvPicPr>
        <p:blipFill>
          <a:blip r:embed="rId2"/>
          <a:stretch/>
        </p:blipFill>
        <p:spPr>
          <a:xfrm>
            <a:off x="4572000" y="22860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8"/>
          <p:cNvSpPr/>
          <p:nvPr/>
        </p:nvSpPr>
        <p:spPr>
          <a:xfrm>
            <a:off x="5373720" y="3960000"/>
            <a:ext cx="30733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Если люди-незнакомц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Вас кататься позовут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К ним в машину не садитес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Далеко вас увезут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не будет папы, мам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и подружек, ни друзе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е садитесь к незнакомцам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А бегите прочь скоре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ОБЖ 002"/>
          <p:cNvPicPr/>
          <p:nvPr/>
        </p:nvPicPr>
        <p:blipFill>
          <a:blip r:embed="rId1"/>
          <a:stretch/>
        </p:blipFill>
        <p:spPr>
          <a:xfrm>
            <a:off x="380880" y="152280"/>
            <a:ext cx="4267440" cy="3429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ОБЖ 004"/>
          <p:cNvPicPr/>
          <p:nvPr/>
        </p:nvPicPr>
        <p:blipFill>
          <a:blip r:embed="rId2"/>
          <a:stretch/>
        </p:blipFill>
        <p:spPr>
          <a:xfrm>
            <a:off x="4800600" y="304920"/>
            <a:ext cx="410832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324000" y="3807360"/>
            <a:ext cx="4219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альчик не знал, чем бы утром занятьс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тал он собаку дразнить – развлекатьс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Лает и воет, зовёт за собо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отбирает тарелку с едо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Что же?  Собака рычала, скулил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не сдержалась  - его укусил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Мальчика долго придётся лечить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до ли было собаку дразнить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195160" y="3731400"/>
            <a:ext cx="34117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е надо трогать просто та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Бродячих кошек и собак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От них чесотку и лиша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Легко подхватишь невзначай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Погладишь – можешь заразитьс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будешь вынужден лечитьс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Животных встретишь ты дорог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Так обойди их и не трогай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ОБЖ 013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ОБЖ 015"/>
          <p:cNvPicPr/>
          <p:nvPr/>
        </p:nvPicPr>
        <p:blipFill>
          <a:blip r:embed="rId2"/>
          <a:stretch/>
        </p:blipFill>
        <p:spPr>
          <a:xfrm>
            <a:off x="5257800" y="152280"/>
            <a:ext cx="3581280" cy="4267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743760" y="3883680"/>
            <a:ext cx="23446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Холодная сосульк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Вкуснее леденц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Такую бы конфетк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Лизать мне без конца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Но вот лежу с ангиной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И мне гулять нельз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Послушайте: не над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99"/>
                </a:solidFill>
                <a:latin typeface="Verdana"/>
              </a:rPr>
              <a:t>Сосульки есть, друзья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4648320" y="4371120"/>
            <a:ext cx="4371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стройках работают, а не играют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Лишь глупые люди об этом не знают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Хоть вам интересно играть в жмурки – прятки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 бегать и прыгать опасно, ребятки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Вы будете прятаться иль убегать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можно споткнуться и ногу сломать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ль с лестницы без огражденья свалиться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грали на стройке –  попали в больниц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ОБЖ 016"/>
          <p:cNvPicPr/>
          <p:nvPr/>
        </p:nvPicPr>
        <p:blipFill>
          <a:blip r:embed="rId1"/>
          <a:stretch/>
        </p:blipFill>
        <p:spPr>
          <a:xfrm>
            <a:off x="457200" y="1522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367560" y="4340880"/>
            <a:ext cx="33782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Как здорово залезть на крышу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И быть домов, деревьев выше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Гулять по крыше, словно кошка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Смотреть чудесное окошко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о миг! – и можешь ты сорватьс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высоте не удержаться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Ходить по крыше вам опасно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 не рискуйте понапрасну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4460400" y="3169080"/>
            <a:ext cx="22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4888800" y="4417200"/>
            <a:ext cx="3498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а пустыре или на свалк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 стоит прыгать и играть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Бросают банки, кости, палки –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Не надо мусор подбирать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Такие стёкла и желез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Опасны нашей детворе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Пустырь для игр – совсем не место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00"/>
                </a:solidFill>
                <a:latin typeface="Verdana"/>
              </a:rPr>
              <a:t>Гуляйте лучше во дворе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9" descr="ОБЖ 021"/>
          <p:cNvPicPr/>
          <p:nvPr/>
        </p:nvPicPr>
        <p:blipFill>
          <a:blip r:embed="rId2"/>
          <a:stretch/>
        </p:blipFill>
        <p:spPr>
          <a:xfrm>
            <a:off x="5029200" y="304920"/>
            <a:ext cx="32004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ОБЖ 014"/>
          <p:cNvPicPr/>
          <p:nvPr/>
        </p:nvPicPr>
        <p:blipFill>
          <a:blip r:embed="rId1"/>
          <a:stretch/>
        </p:blipFill>
        <p:spPr>
          <a:xfrm>
            <a:off x="4876920" y="3049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609480" y="457200"/>
            <a:ext cx="4038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Час вечерний. Час зака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аступает на дво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о домам бегут ребята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оброй ночи детвор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Ты один лишь заигрался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 торопишься дом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в песочнице остал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Строить замок рассыпно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о гулять пойми, опас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Без друзей, без и ма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ожет напугать ужас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обидеть хулига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Ты усвоить твёрдо долже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дному не надо бы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Завтра ты игру продолжишь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Что ж, пора домой спешить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0" descr="niz[1]"/>
          <p:cNvPicPr/>
          <p:nvPr/>
        </p:nvPicPr>
        <p:blipFill>
          <a:blip r:embed="rId1"/>
          <a:stretch/>
        </p:blipFill>
        <p:spPr>
          <a:xfrm>
            <a:off x="6019920" y="533520"/>
            <a:ext cx="213336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1"/>
          <p:cNvSpPr/>
          <p:nvPr/>
        </p:nvSpPr>
        <p:spPr>
          <a:xfrm>
            <a:off x="380880" y="5867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«Береги себя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КНИЖКА для дет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5486400" y="1981080"/>
            <a:ext cx="32767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нижка «Береги себя» знакомит детей с опасными ситуациями, которые могут  встретиться им дома, во дворе, на улице, в лесу и учит избегать этих ситуаций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нижка обращает внимание детей на то, что надо беречь свою жизнь и здоровье. Картинки и стихи представленные в книжке, можно использовать как дидактический материал на занятиях по основам безопасной жизнедеятельности в группах детского сад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5715000" y="5334120"/>
            <a:ext cx="304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Составила воспитател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МБДОУ ДСКВ № 52      «Самолётик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  </a:t>
            </a:r>
            <a:r>
              <a:rPr b="1" lang="ru-RU" sz="1200" spc="-1" strike="noStrike">
                <a:solidFill>
                  <a:srgbClr val="cc0000"/>
                </a:solidFill>
                <a:latin typeface="Verdana"/>
              </a:rPr>
              <a:t>Пономаренко И. В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15" descr="s90074522[1]"/>
          <p:cNvPicPr/>
          <p:nvPr/>
        </p:nvPicPr>
        <p:blipFill>
          <a:blip r:embed="rId2"/>
          <a:stretch/>
        </p:blipFill>
        <p:spPr>
          <a:xfrm>
            <a:off x="304920" y="380880"/>
            <a:ext cx="472428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Обж 001"/>
          <p:cNvPicPr/>
          <p:nvPr/>
        </p:nvPicPr>
        <p:blipFill>
          <a:blip r:embed="rId3"/>
          <a:stretch/>
        </p:blipFill>
        <p:spPr>
          <a:xfrm>
            <a:off x="1066680" y="2133720"/>
            <a:ext cx="31244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5" descr="ОБЖ 017"/>
          <p:cNvPicPr/>
          <p:nvPr/>
        </p:nvPicPr>
        <p:blipFill>
          <a:blip r:embed="rId1"/>
          <a:stretch/>
        </p:blipFill>
        <p:spPr>
          <a:xfrm>
            <a:off x="457200" y="380880"/>
            <a:ext cx="4343400" cy="60199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3"/>
          <p:cNvSpPr/>
          <p:nvPr/>
        </p:nvSpPr>
        <p:spPr>
          <a:xfrm>
            <a:off x="5137200" y="1076760"/>
            <a:ext cx="34192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арусели и качел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Развлекают всех ребят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Смех и счастье, и весел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Целый день вокруг царя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о чтоб это развлечен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е закончилось бедой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Друг мой, все без исключень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Эти правила усвой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Если заняты качели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 ним не стоит подбегат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Чтоб не пнули, не задели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Лучше сбоку постоять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Крепко не забудь держаться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Улетая вниз и вверх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На ногах нельзя качаться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Эти правила для всех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И не спрыгивай с качелей –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Можно ногу подвернуть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А потом ещё неделю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99"/>
                </a:solidFill>
                <a:latin typeface="Verdana"/>
              </a:rPr>
              <a:t>С синяком на лбу ходи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ОБЖ 018"/>
          <p:cNvPicPr/>
          <p:nvPr/>
        </p:nvPicPr>
        <p:blipFill>
          <a:blip r:embed="rId1"/>
          <a:stretch/>
        </p:blipFill>
        <p:spPr>
          <a:xfrm>
            <a:off x="457200" y="304920"/>
            <a:ext cx="4267080" cy="55623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5087160" y="1540800"/>
            <a:ext cx="291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По деревьям лази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Очень интерес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Только это трудно –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Каждому извест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Можно напоротьс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На корявый су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Или может вет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Выскользнуть из рук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Падать очень бо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И разбиться можно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Так что уж, ребята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Verdana"/>
              </a:rPr>
              <a:t>Будьте осторожны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ОБЖ 022"/>
          <p:cNvPicPr/>
          <p:nvPr/>
        </p:nvPicPr>
        <p:blipFill>
          <a:blip r:embed="rId1"/>
          <a:stretch/>
        </p:blipFill>
        <p:spPr>
          <a:xfrm>
            <a:off x="609480" y="609480"/>
            <a:ext cx="4267440" cy="52578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5706360" y="1677600"/>
            <a:ext cx="2695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Осторожней будьте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Милые ребят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езнакомым людя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Доверять не надо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Если вас с собо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 гости позов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ли вам конфет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кусную даду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Лучше отбегай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очь от них скоре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 предупреждайт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Всех своих друзей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04:47:26Z</dcterms:created>
  <dc:creator>user</dc:creator>
  <dc:description/>
  <dc:language>en-US</dc:language>
  <cp:lastModifiedBy>Пономаренко</cp:lastModifiedBy>
  <dcterms:modified xsi:type="dcterms:W3CDTF">2017-01-02T02:35:24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