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4C3-10F1-4D0B-AB45-D9823E29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EAF-2889-4F90-A863-3AD56769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B1E-EB44-4A2E-8E35-663943C9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E57-93F4-4EE3-83FF-FAEA302E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8B96-E94D-45EE-B5B7-CD233DCB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A12B-8E9E-4497-AE48-B8EA4FA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9EE-F07E-4DEA-A28C-DF741E2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C795-85A4-4040-9F3F-2ED9C5E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4050-74CB-4353-8269-E7B76B6F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D023-EE28-419E-8ADE-038537A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0F95-774C-40E8-9B01-02E9DF27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A29-6593-4648-B73B-82105403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3E7-EF4F-4C27-BE7B-C99EFD2E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B21-0307-4FF7-8E97-F26337D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9857-F19D-4F7F-AEF4-3123A486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148-F685-478C-AEED-4B8583E9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A729-D395-4441-B6D0-D15976C6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02B-8A8D-4655-BC1A-8EE4ED29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C53-A51F-4E21-B7E5-4A27A7C6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FD1-63F0-4DEC-AA3C-94BF476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8EB-3FC3-47B5-A5A6-03D121BA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53D-42A6-4034-99A3-04BDFB9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56B-C735-4615-AB3D-72FB7CA7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21C-7F1C-4D4C-AC8D-BFAFDD2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0849-A70E-4F5B-AE45-4DC630701B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5FB-4B0C-49ED-BF5B-F654712453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ОБЖ 001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6"/>
          <p:cNvSpPr/>
          <p:nvPr/>
        </p:nvSpPr>
        <p:spPr>
          <a:xfrm>
            <a:off x="463680" y="3578040"/>
            <a:ext cx="2963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известные предме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 руки не бер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и коробки, ни в паке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Даже не смотр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А зови на помощь взрослы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бы выясня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Делать что с такой находк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 же предпринять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ожет быть опасным оч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от такой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пакет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Если ты неосторожен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Жди проблем и бе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7" descr="ОБЖ 003"/>
          <p:cNvPicPr/>
          <p:nvPr/>
        </p:nvPicPr>
        <p:blipFill>
          <a:blip r:embed="rId2"/>
          <a:stretch/>
        </p:blipFill>
        <p:spPr>
          <a:xfrm>
            <a:off x="4572000" y="22860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5373720" y="3960000"/>
            <a:ext cx="3073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Если люди-незнаком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Вас кататься позову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К ним в машину не садитес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Далеко вас увезу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не будет папы, мам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и подружек, ни друзе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е садитесь к незнакомца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А бегите прочь скор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ОБЖ 002"/>
          <p:cNvPicPr/>
          <p:nvPr/>
        </p:nvPicPr>
        <p:blipFill>
          <a:blip r:embed="rId1"/>
          <a:stretch/>
        </p:blipFill>
        <p:spPr>
          <a:xfrm>
            <a:off x="380880" y="152280"/>
            <a:ext cx="426744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ОБЖ 004"/>
          <p:cNvPicPr/>
          <p:nvPr/>
        </p:nvPicPr>
        <p:blipFill>
          <a:blip r:embed="rId2"/>
          <a:stretch/>
        </p:blipFill>
        <p:spPr>
          <a:xfrm>
            <a:off x="4800600" y="304920"/>
            <a:ext cx="410832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324000" y="3807360"/>
            <a:ext cx="4219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альчик не знал, чем бы утром занятьс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тал он собаку дразнить – развлекатьс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Лает и воет, зовёт за соб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отбирает тарелку с едо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 же?  Собака рычала, скули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не сдержалась  - его укусил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альчика долго придётся лечить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до ли было собаку дразнить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195160" y="3731400"/>
            <a:ext cx="3411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е надо трогать просто та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Бродячих кошек и собак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От них чесотку и лиша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Легко подхватишь невзнача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Погладишь – можешь заразить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будешь вынужден лечитьс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Животных встретишь ты дорог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Так обойди их и не трога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ОБЖ 013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ОБЖ 015"/>
          <p:cNvPicPr/>
          <p:nvPr/>
        </p:nvPicPr>
        <p:blipFill>
          <a:blip r:embed="rId2"/>
          <a:stretch/>
        </p:blipFill>
        <p:spPr>
          <a:xfrm>
            <a:off x="5257800" y="152280"/>
            <a:ext cx="3581280" cy="426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43760" y="3883680"/>
            <a:ext cx="2344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Холодная сосуль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Вкуснее леденц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Такую бы конфет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Лизать мне без конц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о вот лежу с ангин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мне гулять нельз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Послушайте: не над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Сосульки есть, друз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648320" y="4371120"/>
            <a:ext cx="4371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стройках работают, а не играют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Лишь глупые люди об этом не знаю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Хоть вам интересно играть в жмурки – прятки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 бегать и прыгать опасно, ребятк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ы будете прятаться иль убегат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можно споткнуться и ногу слом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ль с лестницы без огражденья свалитьс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грали на стройке –  попали в больниц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ОБЖ 016"/>
          <p:cNvPicPr/>
          <p:nvPr/>
        </p:nvPicPr>
        <p:blipFill>
          <a:blip r:embed="rId1"/>
          <a:stretch/>
        </p:blipFill>
        <p:spPr>
          <a:xfrm>
            <a:off x="457200" y="1522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7560" y="4340880"/>
            <a:ext cx="3378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Как здорово залезть на крыш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быть домов, деревьев выше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Гулять по крыше, словно кошк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мотреть чудесное окошко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о миг! – и можешь ты сорвать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высоте не удержаться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Ходить по крыше вам опасно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 не рискуйте понапрасн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60400" y="3169080"/>
            <a:ext cx="2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888800" y="4417200"/>
            <a:ext cx="349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пустыре или на свалк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 стоит прыгать и играть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Бросают банки, кости, палки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 надо мусор подбирать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ие стёкла и желез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Опасны нашей детворе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Пустырь для игр – совсем не мест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Гуляйте лучше во дворе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9" descr="ОБЖ 021"/>
          <p:cNvPicPr/>
          <p:nvPr/>
        </p:nvPicPr>
        <p:blipFill>
          <a:blip r:embed="rId2"/>
          <a:stretch/>
        </p:blipFill>
        <p:spPr>
          <a:xfrm>
            <a:off x="5029200" y="304920"/>
            <a:ext cx="3200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ОБЖ 014"/>
          <p:cNvPicPr/>
          <p:nvPr/>
        </p:nvPicPr>
        <p:blipFill>
          <a:blip r:embed="rId1"/>
          <a:stretch/>
        </p:blipFill>
        <p:spPr>
          <a:xfrm>
            <a:off x="4876920" y="3049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09480" y="457200"/>
            <a:ext cx="40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Час вечерний. Час зака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аступает на дво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о домам бегут ребята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оброй ночи детвор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Ты один лишь заиграл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 торопишься дом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в песочнице остал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Строить замок рассып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о гулять пойми, опас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Без друзей, без и ма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ожет напугать ужас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обидеть хулиг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Ты усвоить твёрдо долже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дному не надо бы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Завтра ты игру продолжиш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Что ж, пора домой спеши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niz[1]"/>
          <p:cNvPicPr/>
          <p:nvPr/>
        </p:nvPicPr>
        <p:blipFill>
          <a:blip r:embed="rId1"/>
          <a:stretch/>
        </p:blipFill>
        <p:spPr>
          <a:xfrm>
            <a:off x="6019920" y="533520"/>
            <a:ext cx="213336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808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«Береги себя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НИЖКА для де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486400" y="1981080"/>
            <a:ext cx="32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нижка «Береги себя» знакомит детей с опасными ситуациями, которые могут  встретиться им дома, во дворе, на улице, в лесу и учит избегать эти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нижка обращает внимание детей на то, что надо беречь свою жизнь и здоровье. Картинки и стихи представленные в книжке, можно использовать как дидактический материал на занятиях по основам безопасной жизнедеятельности в группах детского сад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715000" y="53341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Составила воспитате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МБДОУ ДСКВ № 52      «Самолётик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Пономаренко И. 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5" descr="s90074522[1]"/>
          <p:cNvPicPr/>
          <p:nvPr/>
        </p:nvPicPr>
        <p:blipFill>
          <a:blip r:embed="rId2"/>
          <a:stretch/>
        </p:blipFill>
        <p:spPr>
          <a:xfrm>
            <a:off x="304920" y="380880"/>
            <a:ext cx="472428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Обж 001"/>
          <p:cNvPicPr/>
          <p:nvPr/>
        </p:nvPicPr>
        <p:blipFill>
          <a:blip r:embed="rId3"/>
          <a:stretch/>
        </p:blipFill>
        <p:spPr>
          <a:xfrm>
            <a:off x="1066680" y="2133720"/>
            <a:ext cx="3124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ОБЖ 017"/>
          <p:cNvPicPr/>
          <p:nvPr/>
        </p:nvPicPr>
        <p:blipFill>
          <a:blip r:embed="rId1"/>
          <a:stretch/>
        </p:blipFill>
        <p:spPr>
          <a:xfrm>
            <a:off x="457200" y="38088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5137200" y="1076760"/>
            <a:ext cx="3419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арусели и каче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Развлекают всех ребят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Смех и счастье, и весел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Целый день вокруг царя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о чтоб это развлечен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е закончилось бед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Друг мой, все без исключень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Эти правила усво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Если заняты качел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 ним не стоит подбега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Чтоб не пнули, не задели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Лучше сбоку постоять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репко не забудь держатьс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Улетая вниз и ввер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а ногах нельзя качаться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Эти правила для все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И не спрыгивай с качелей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Можно ногу подвернут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А потом ещё недел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С синяком на лбу ходи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ОБЖ 018"/>
          <p:cNvPicPr/>
          <p:nvPr/>
        </p:nvPicPr>
        <p:blipFill>
          <a:blip r:embed="rId1"/>
          <a:stretch/>
        </p:blipFill>
        <p:spPr>
          <a:xfrm>
            <a:off x="457200" y="304920"/>
            <a:ext cx="426708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087160" y="1540800"/>
            <a:ext cx="291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По деревьям лаз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Очень интерес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Только это трудно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Каждому извест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Можно напоро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На корявый су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Или может ве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Выскользнуть из ру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Падать очень бо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И разбиться можн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Так что уж, ребя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удьте осторожны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БЖ 022"/>
          <p:cNvPicPr/>
          <p:nvPr/>
        </p:nvPicPr>
        <p:blipFill>
          <a:blip r:embed="rId1"/>
          <a:stretch/>
        </p:blipFill>
        <p:spPr>
          <a:xfrm>
            <a:off x="609480" y="609480"/>
            <a:ext cx="4267440" cy="5257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5706360" y="1677600"/>
            <a:ext cx="2695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сторожней будьт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илые ребя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знакомым люд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оверять не над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Если вас с соб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 гости позов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ли вам конфет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кусную дад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Лучше отбегай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очь от них скор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предупреждай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сех своих друзей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4:47:26Z</dcterms:created>
  <dc:creator>user</dc:creator>
  <dc:description/>
  <dc:language>en-US</dc:language>
  <cp:lastModifiedBy>Пономаренко</cp:lastModifiedBy>
  <dcterms:modified xsi:type="dcterms:W3CDTF">2017-01-02T02:35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